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11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7DB-AF8D-4008-AE58-D85F49D8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CC6-8A2F-46DA-9C89-9E570927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F5A-A17E-451A-BBCF-88C76D0E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965-A6BF-4AD9-9F15-1C79B0B2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2C7-06C4-4B06-ADF3-544848D7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7A9-6DBE-41BB-9021-621CED61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639-753F-4F25-A985-0B6B375F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7B7-A88E-47BD-ACA1-63E071E3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8B7-3A27-46CF-AF50-7C0ADFDD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9E3-9AF4-4BB0-88E3-08F4031E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5692-6413-402D-81F6-7D21AE6D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EF31-351C-4D19-93B1-0BC0BC27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7D34-40AA-48FE-85CC-A065081D953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14839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 TOS aumenta il rischio di accidenti cerebrovascolari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98240" y="3886200"/>
            <a:ext cx="777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Gualtiero Palaret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Angiologia e Malattie della Coagulazione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“Marino Golinelli”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Az. Ospedaliero-Universitaria di Bologna 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Policlinico S. Orsola-Malpigh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7772400" cy="1668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2590560" cy="2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2286000" y="2273400"/>
          <a:ext cx="4876920" cy="446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73400"/>
                    <a:ext cx="487692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90680" y="652320"/>
            <a:ext cx="5703840" cy="1057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791320" y="12682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ncet 200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62240" y="2014560"/>
            <a:ext cx="5545080" cy="4449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117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The ESPRIT stu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39880" y="990720"/>
            <a:ext cx="6805800" cy="108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69160" y="2860560"/>
            <a:ext cx="959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Syntax-Roman"/>
              </a:rPr>
              <a:t>A randomized, double-blind, placebo-controlled trial 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Syntax-Roman"/>
              </a:rPr>
              <a:t>(the estrogen-alone of the Women’s Health Initiative [WHI])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Syntax-Roman"/>
              </a:rPr>
              <a:t>conducted in 40 US clinical center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Syntax-Roman"/>
              </a:rPr>
              <a:t>beginning in 1993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Syntax-Roman"/>
              </a:rPr>
              <a:t>10739 postmenopausal w., aged 50-79 y, with prior hysterectomy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88240" y="2098800"/>
            <a:ext cx="37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8f8f8"/>
                </a:solidFill>
                <a:latin typeface="Syntax-Italic"/>
              </a:rPr>
              <a:t>JAMA. 2004;291:1701-171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39880" y="304920"/>
            <a:ext cx="6805800" cy="1085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88240" y="1447920"/>
            <a:ext cx="37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8f8f8"/>
                </a:solidFill>
                <a:latin typeface="Syntax-Italic"/>
              </a:rPr>
              <a:t>JAMA. 2004;291:1701-171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19320" y="2000160"/>
          <a:ext cx="7696080" cy="445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000160"/>
                    <a:ext cx="769608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39880" y="76320"/>
            <a:ext cx="6805800" cy="1085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91120" y="119232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8f8f8"/>
                </a:solidFill>
                <a:latin typeface="Syntax-Italic"/>
              </a:rPr>
              <a:t>JAMA. 2004;291:1701-171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447920" y="1638360"/>
          <a:ext cx="7238880" cy="509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638360"/>
                    <a:ext cx="7238880" cy="50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447920" y="3276720"/>
            <a:ext cx="6324480" cy="761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39880" y="152280"/>
            <a:ext cx="6805800" cy="108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457200" y="2209680"/>
          <a:ext cx="9296280" cy="408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209680"/>
                    <a:ext cx="9296280" cy="40816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09480" y="4495680"/>
            <a:ext cx="8991720" cy="762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39880" y="990720"/>
            <a:ext cx="6805800" cy="1085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58600" y="2990880"/>
            <a:ext cx="633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Syntax-Black"/>
              </a:rPr>
              <a:t>Conclusion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Syntax-Roman"/>
              </a:rPr>
              <a:t>The use of CEE increases the risk of strok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Syntax-Roman"/>
              </a:rPr>
              <a:t>and does not affect CHD incidence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Syntax-Roman"/>
              </a:rPr>
              <a:t>The burden of incident disease events was 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Syntax-Roman"/>
              </a:rPr>
              <a:t>equivalent in the CEE and placebo groups, 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Syntax-Roman"/>
              </a:rPr>
              <a:t>indicating no overall benefit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Syntax-Roman"/>
              </a:rPr>
              <a:t>Thus, CEE should not be recommended 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Syntax-Roman"/>
              </a:rPr>
              <a:t>for chronic disease preven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88240" y="2098800"/>
            <a:ext cx="37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8f8f8"/>
                </a:solidFill>
                <a:latin typeface="Syntax-Italic"/>
              </a:rPr>
              <a:t>JAMA. 2004;291:1701-171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76440" y="914400"/>
            <a:ext cx="7134120" cy="1011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53960" y="2057400"/>
            <a:ext cx="362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Hsia et al., Circulation 200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2200" y="3089160"/>
            <a:ext cx="985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16 608 postmenopausal women, mean age 63.3 </a:t>
            </a:r>
            <a:r>
              <a:rPr b="0" lang="it-IT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±</a:t>
            </a: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7.1 years, assigned to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conjugated estrogens (0.625 mg) + medroxyprogesterone acetate (2.5 mg)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placebo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Documented health outcomes over an average of 5.6 years of follow-u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2720" y="5273640"/>
            <a:ext cx="869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reatment did not confer protection against peripheral arterial disea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50440" y="611352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Hsia et a., Am Heart J 200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3680" y="538200"/>
            <a:ext cx="61200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11480" y="380880"/>
            <a:ext cx="4361040" cy="5562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620880" y="6172200"/>
            <a:ext cx="30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f8f8"/>
                </a:solidFill>
                <a:latin typeface="Times New Roman"/>
              </a:rPr>
              <a:t>Hsia et a., Am Heart J 2006</a:t>
            </a: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1001880"/>
          <a:ext cx="891540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01880"/>
                    <a:ext cx="891540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12280" y="586728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Hsia et a., Am Heart J 2006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1320" y="1309680"/>
            <a:ext cx="77770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 review of 11 randomzed trials</a:t>
            </a:r>
            <a:br>
              <a:rPr sz="3600"/>
            </a:b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(Gray &amp; Bath, Cerebrovasc Dis 2004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Risk of stroke associated with HR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23.310 subject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All strokes (ischemic) </a:t>
            </a:r>
            <a:br>
              <a:rPr sz="3200"/>
            </a:b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OR = 1.30 (1.09-1.54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Fatal or disabling strokes</a:t>
            </a:r>
            <a:br>
              <a:rPr sz="3200"/>
            </a:b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OR = 1.56 (1.11-2.20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Estimated </a:t>
            </a: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absolute risk of stroke associated with HRT (5 y use)</a:t>
            </a:r>
            <a:br>
              <a:rPr sz="3600"/>
            </a:b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(Lowe J Intern Med 2004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71480" y="2590920"/>
          <a:ext cx="8744040" cy="3047760"/>
        </p:xfrm>
        <a:graphic>
          <a:graphicData uri="http://schemas.openxmlformats.org/drawingml/2006/table">
            <a:tbl>
              <a:tblPr/>
              <a:tblGrid>
                <a:gridCol w="2733840"/>
                <a:gridCol w="2895480"/>
                <a:gridCol w="31147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Age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No. Cases/1000</a:t>
                      </a:r>
                      <a:br>
                        <a:rPr sz="2800"/>
                      </a:b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non-HRT users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Extra No. Cases /1000 HRT users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50-59 y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1 (</a:t>
                      </a: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± 1)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60-69 y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</a:rPr>
                        <a:t>4 (</a:t>
                      </a:r>
                      <a:r>
                        <a:rPr b="0" lang="it-IT" sz="2800" spc="-1" strike="noStrike">
                          <a:solidFill>
                            <a:srgbClr val="f8f8f8"/>
                          </a:solidFill>
                          <a:latin typeface="Times New Roman"/>
                          <a:ea typeface="Times New Roman"/>
                        </a:rPr>
                        <a:t>± 3)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Perché differenze tra studi osservazionali e trial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Arial"/>
              </a:rPr>
              <a:t>Aspetti metodologici</a:t>
            </a:r>
            <a:br>
              <a:rPr sz="2800"/>
            </a:br>
            <a:r>
              <a:rPr b="0" lang="it-IT" sz="2800" spc="-1" strike="noStrike">
                <a:solidFill>
                  <a:srgbClr val="f8f8f8"/>
                </a:solidFill>
                <a:latin typeface="Arial"/>
              </a:rPr>
              <a:t>- presenza di fattori confondenti</a:t>
            </a:r>
            <a:br>
              <a:rPr sz="2800"/>
            </a:br>
            <a:r>
              <a:rPr b="0" lang="it-IT" sz="2800" spc="-1" strike="noStrike">
                <a:solidFill>
                  <a:srgbClr val="f8f8f8"/>
                </a:solidFill>
                <a:latin typeface="Arial"/>
              </a:rPr>
              <a:t>- compliance</a:t>
            </a:r>
            <a:br>
              <a:rPr sz="2800"/>
            </a:br>
            <a:r>
              <a:rPr b="0" lang="it-IT" sz="2800" spc="-1" strike="noStrike">
                <a:solidFill>
                  <a:srgbClr val="f8f8f8"/>
                </a:solidFill>
                <a:latin typeface="Arial"/>
              </a:rPr>
              <a:t>- non registrazione di eventi precoci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Arial"/>
              </a:rPr>
              <a:t>Aspetti biologici</a:t>
            </a:r>
            <a:br>
              <a:rPr sz="2800"/>
            </a:br>
            <a:r>
              <a:rPr b="0" lang="it-IT" sz="2800" spc="-1" strike="noStrike">
                <a:solidFill>
                  <a:srgbClr val="f8f8f8"/>
                </a:solidFill>
                <a:latin typeface="Arial"/>
              </a:rPr>
              <a:t>- differenze nel tipo di HRT</a:t>
            </a:r>
            <a:br>
              <a:rPr sz="2800"/>
            </a:br>
            <a:r>
              <a:rPr b="0" lang="it-IT" sz="2800" spc="-1" strike="noStrike">
                <a:solidFill>
                  <a:srgbClr val="f8f8f8"/>
                </a:solidFill>
                <a:latin typeface="Arial"/>
              </a:rPr>
              <a:t>- differenze nelle popolazioni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f8f8"/>
                </a:solidFill>
                <a:latin typeface="Arial"/>
              </a:rPr>
              <a:t>Osservazionali = arruolamento più precoce, donne più sane, con migliore stato socio-economico </a:t>
            </a:r>
            <a:br>
              <a:rPr sz="2800"/>
            </a:br>
            <a:r>
              <a:rPr b="0" lang="it-IT" sz="2800" spc="-1" strike="noStrike">
                <a:solidFill>
                  <a:srgbClr val="f8f8f8"/>
                </a:solidFill>
                <a:latin typeface="Arial"/>
              </a:rPr>
              <a:t>e &gt; istruzione, &lt; fumo, &gt; esercizio fisico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1120" y="1483920"/>
            <a:ext cx="8744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Arial"/>
              </a:rPr>
              <a:t>TOS e trombofil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542600" y="388620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600200" y="620640"/>
          <a:ext cx="7162920" cy="555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20640"/>
                    <a:ext cx="7162920" cy="55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749160" y="2401920"/>
          <a:ext cx="885852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2401920"/>
                    <a:ext cx="885852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753120" y="44460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RT Prothrombotic Mutations, and the Risk of Inciden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fatal Ischemic Stroke in Postmenopausal Wome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Lemaitre et al ATVB 2002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Comments by Rosendaal </a:t>
            </a:r>
            <a:br>
              <a:rPr sz="3600"/>
            </a:b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(JTH 200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Arial"/>
              </a:rPr>
              <a:t>An increased risk of ischemic stroke (RR 1.4 and 1.6) was found in some trials (WHI-ESPRIT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Arial"/>
              </a:rPr>
              <a:t>No difference was observed in others (HERS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Arial"/>
              </a:rPr>
              <a:t>For ischemic stroke the risk appeared higher (2-fold increase) for HRT users who carried either FV Leiden or prothrombin 20210A mutation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8f8f8"/>
                </a:solidFill>
                <a:latin typeface="Arial"/>
              </a:rPr>
              <a:t>HRT users have at least a 10-fold higher baseline risk of thrombotic disease than the younger OC user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HRT e stroke = studi osservazional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1985 Framingham heart study =</a:t>
            </a:r>
            <a:br>
              <a:rPr sz="3200"/>
            </a:b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RR di stroke con uso di CEE verso non uso:</a:t>
            </a:r>
            <a:br>
              <a:rPr sz="3200"/>
            </a:b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2.6 (1.3-5.4)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Gli studi osservazionali succssivi non hanno confermato l’aumento del rischi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106200"/>
            <a:ext cx="5638680" cy="4653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26120" y="5681520"/>
            <a:ext cx="42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(Canonico et al., Maturitas 2006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2040" y="495288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Meta-analysis of 35 observational studi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Ma diversi i risultati con i trial clinici randomizzat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Non confermati i vantaggi nell’incidenza di patologia cardiovascolare</a:t>
            </a:r>
            <a:br>
              <a:rPr sz="3200"/>
            </a:b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8f8f8"/>
                </a:solidFill>
                <a:latin typeface="Arial"/>
              </a:rPr>
              <a:t>Aumento del rischio di strok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00"/>
                </a:solidFill>
                <a:latin typeface="Arial"/>
              </a:rPr>
              <a:t>HRT e stroke = trial randomizzat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evenzione primar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HERS</a:t>
            </a: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 (1998) CEE+MPA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RR = 1.23 (0.89-1.70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SPRIT</a:t>
            </a: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 (2002) Estradiolo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RR = 1.64 (0.60-4.47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WHI</a:t>
            </a: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 (2002) CEE+MPA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RR = 1.41 (1.07-1.85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WHI</a:t>
            </a: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 (2004) CEE, chiusura precoce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RR = 1.39 (1.10-1.77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revenzione secondari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WEST</a:t>
            </a: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 (2001) estradiolo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Arial"/>
              </a:rPr>
              <a:t>RR = 1.20 (0.50-2.50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28600" y="1295280"/>
          <a:ext cx="9753480" cy="34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95280"/>
                    <a:ext cx="9753480" cy="34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041560" y="534996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Summary of results in hormone therapy trials; </a:t>
            </a:r>
            <a:br>
              <a:rPr sz="2400"/>
            </a:br>
            <a:r>
              <a:rPr b="0" lang="it-IT" sz="2400" spc="-1" strike="noStrike">
                <a:solidFill>
                  <a:srgbClr val="f8f8f8"/>
                </a:solidFill>
                <a:latin typeface="Times New Roman"/>
              </a:rPr>
              <a:t>from Canonico et al. Maturitas 200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7772400" cy="166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2590560" cy="2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822400" y="2133720"/>
          <a:ext cx="455796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2400" y="2133720"/>
                    <a:ext cx="455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7772400" cy="1668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2590560" cy="28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304920" y="1965240"/>
          <a:ext cx="9524880" cy="397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65240"/>
                    <a:ext cx="952488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57200" y="4267080"/>
            <a:ext cx="9144000" cy="6858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06:07:55Z</dcterms:created>
  <dc:creator> </dc:creator>
  <dc:description/>
  <dc:language>en-US</dc:language>
  <cp:lastModifiedBy>Gualtiero Palareti</cp:lastModifiedBy>
  <dcterms:modified xsi:type="dcterms:W3CDTF">2006-11-10T07:12:47Z</dcterms:modified>
  <cp:revision>20</cp:revision>
  <dc:subject/>
  <dc:title>Caso clinico</dc:title>
</cp:coreProperties>
</file>