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07488" cy="684053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887040" y="744120"/>
            <a:ext cx="4886280" cy="366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GillSans"/>
              </a:rPr>
              <a:t>Click to move the slide</a:t>
            </a: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41" name=""/>
          <p:cNvSpPr/>
          <p:nvPr/>
        </p:nvSpPr>
        <p:spPr>
          <a:xfrm>
            <a:off x="5391000" y="249120"/>
            <a:ext cx="8668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illSans"/>
              </a:rPr>
              <a:t>Slide </a:t>
            </a:r>
            <a:fld id="{E1CAC604-2E72-49B6-ABAB-F1F24A258D6A}" type="slidenum">
              <a:rPr b="1" lang="it-IT" sz="14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680" y="9512280"/>
            <a:ext cx="56592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Bone resorption is evaluated biochemically by measuring the urinary excretion of bone collagen breakdown products:  pyridinium crosslinks such as deoxypyridinoline, or peptides containing crosslinks of deoxypyridinoline  and pyridinoline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pyridinoline crosslinks present in collagen are formed by the linkage of two molecules forming pyridinoline and deoxypyridinoline.  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Deoxypyridinoline is highly specific to bone and, as such, has value as a biochemical marker of bone resorption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887040" y="5146560"/>
            <a:ext cx="4886280" cy="39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Here are the structures of the pyridinium crosslink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Each contains a pyridine ring and side chains derived from the three amino acids that produced the crosslink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ring structure will fluoresce when exposed to ultraviolet radiation - this has formed the basis of detection of these molecules using high performance liquid chromatography (HPLC) techniques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The only difference between pyridinoline and deoxypyridinoline is the hydroxyl group shown in red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Sans"/>
              </a:rPr>
              <a:t>Scientists have succeeded in developing monoclonal antibodies which selectively bind only to deoxypyridinoline for use in a simple and convenient immunoassay.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887400" y="744480"/>
            <a:ext cx="4886280" cy="3668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770436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" y="4080240"/>
            <a:ext cx="770436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096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" y="408024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40960" y="408024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8160" y="197640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02760" y="197640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3200" y="408024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8160" y="408024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02760" y="4080240"/>
            <a:ext cx="2480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3200" y="1976400"/>
            <a:ext cx="770436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770436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375948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40960" y="1976400"/>
            <a:ext cx="375948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2200" y="76320"/>
            <a:ext cx="77439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40960" y="1976400"/>
            <a:ext cx="375948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3200" y="408024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375948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4096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40960" y="408024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320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40960" y="1976400"/>
            <a:ext cx="375948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" y="4080240"/>
            <a:ext cx="770436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1976400"/>
            <a:ext cx="7704360" cy="40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buClr>
                <a:srgbClr val="fafd00"/>
              </a:buClr>
              <a:buFont typeface="GillSans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1" marL="739800" indent="-284040">
              <a:spcBef>
                <a:spcPts val="601"/>
              </a:spcBef>
              <a:buClr>
                <a:srgbClr val="fafd00"/>
              </a:buClr>
              <a:buFont typeface="GillSans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2" marL="1139760" indent="-228600">
              <a:spcBef>
                <a:spcPts val="601"/>
              </a:spcBef>
              <a:buClr>
                <a:srgbClr val="fafd00"/>
              </a:buClr>
              <a:buFont typeface="GillSans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3" marL="1595520" indent="-228600">
              <a:spcBef>
                <a:spcPts val="601"/>
              </a:spcBef>
              <a:buClr>
                <a:srgbClr val="fafd00"/>
              </a:buClr>
              <a:buFont typeface="GillSans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4" marL="2050920" indent="-228600">
              <a:spcBef>
                <a:spcPts val="601"/>
              </a:spcBef>
              <a:buClr>
                <a:srgbClr val="fafd00"/>
              </a:buClr>
              <a:buFont typeface="GillSans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5" marL="2050920" indent="-228600">
              <a:spcBef>
                <a:spcPts val="601"/>
              </a:spcBef>
              <a:buClr>
                <a:srgbClr val="fafd00"/>
              </a:buClr>
              <a:buFont typeface="GillSans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lvl="6" marL="2050920" indent="-228600">
              <a:spcBef>
                <a:spcPts val="601"/>
              </a:spcBef>
              <a:buClr>
                <a:srgbClr val="fafd00"/>
              </a:buClr>
              <a:buFont typeface="GillSans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111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AZIENDA OSPEDALIERO - UNIVERSITARIA DI BOLOGNA 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POLICLINICO S.ORSOLA - MALPIGHI</a:t>
            </a:r>
            <a:endParaRPr b="0" lang="en-US" sz="20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4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60360"/>
            <a:ext cx="910908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c0128"/>
                </a:solidFill>
                <a:latin typeface="Comic Sans MS"/>
              </a:rPr>
              <a:t>LO “SCREENING” DELLA TROMBOFILIA NELLA TO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Comic Sans MS"/>
              </a:rPr>
              <a:t>Dr. Raffaele Parente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66"/>
                </a:solidFill>
                <a:latin typeface="Comic Sans MS"/>
              </a:rPr>
              <a:t>Laboratorio Centralizzato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Comic Sans MS"/>
              </a:rPr>
              <a:t>Corso di Aggiornamento A.G.E.O. Emilia-Romagn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Comic Sans MS"/>
              </a:rPr>
              <a:t>10 Novembre 2006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Comic Sans MS"/>
              </a:rPr>
              <a:t>Bologn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8502480" cy="12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 CONGENIT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32640" cy="41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I soggetti con “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trombofilia congenita”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sono particolarmente esposti durante: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a gravidanza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il puerperio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'immobilizzazione prolungata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gli stati post-operatori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37680" indent="-33768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l'assunzione di estrogeni o estroprogestinici come contraccezione orale o  come Terapia Ormonale Sostitutiva per la menopausa.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34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6000" y="-360"/>
            <a:ext cx="85028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 CONGENIT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8360" y="971640"/>
            <a:ext cx="799272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Le  trombofilie congenite più frequenti sono: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Deficit di Antitrombina III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Carenza di Proteina C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Carenza di Proteina S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Il fattore V Leiden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Resistenza alla Proteina C Attivata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Mutazione G20210A della Protrombina 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formazione di una maggiore quantità)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Deficit del Cofattore Eparinico II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0">
              <a:lnSpc>
                <a:spcPct val="80000"/>
              </a:lnSpc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0840" indent="-330840">
              <a:lnSpc>
                <a:spcPct val="80000"/>
              </a:lnSpc>
              <a:buClr>
                <a:srgbClr val="fc0128"/>
              </a:buClr>
              <a:buSzPct val="115000"/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Iperomocisteinemia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376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6000" y="-360"/>
            <a:ext cx="8502840" cy="95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22000" y="1403280"/>
            <a:ext cx="7931160" cy="42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La comprensione dei meccanismi di regolazione dell'emostasi e le indagini di laboratorio eseguite su migliaia di pazienti trombofilici, hanno consentito di stabilire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la relazione fra i parametri emostatici e la trombosi venosa.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I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deficit congeniti dei meccanismi degli anticoagulanti naturali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predispongono il soggetto portatore ad un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aumentato rischio di trombosi venos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409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0248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1520" cy="414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442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8360" y="828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TESTS DI ROUTIN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25640" y="3276720"/>
            <a:ext cx="756108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Antitrombina III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funzionale)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oteina C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funzional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oteina S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funzionale)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Resistenza alla Proteina C Attivata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diluizione con plasma privo di Fattore 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LAC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(aPTT + dRVV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2360" y="1547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Oltre l'emocromo ed i normali tests di laboratorio emocoagulativo, PT, aPTT e dosaggio del Fibrinogeno, lo screening di trombofilia si può avvalere del dosaggio quantitativo e funzionale di vari fattori trombofilici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8720" y="3564000"/>
            <a:ext cx="287640" cy="1511280"/>
          </a:xfrm>
          <a:custGeom>
            <a:avLst/>
            <a:gdLst>
              <a:gd name="textAreaLeft" fmla="*/ 0 w 287640"/>
              <a:gd name="textAreaRight" fmla="*/ 103680 w 287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99080" y="4068720"/>
            <a:ext cx="23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Comic Sans MS"/>
              </a:rPr>
              <a:t>Inibitori naturali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-360" y="1620360"/>
            <a:ext cx="910908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’</a:t>
            </a: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ANTITROMBINA III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è  l'inibitore fisiologico della coagulazione da più tempo conosciuto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E' di sintesi epatica e inibisce l'azione di tutti i fattori della coagulazione attivati, eccetto il 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 e l'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VIII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Ha una particolare affinità per la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Trombina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 ed è detta anche 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“Cofattore dell‘Eparina”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, nel senso che l'azione anticoagulante dell‘Eparina è mediata dall' Antitrombina III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L‘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Eparina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, farmaco ben noto, potenzia in modo rilevante l'effetto anticoagulante dell' 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Antitrombina III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I soggetti con 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difetto congenito di Antitrombina III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 sviluppano frequentemente episodi di trombosi venosa e, con minore incidenza, arteriosa, anche in assenza di situazioni a rischio, identificate in età giovanile.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48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NIBITORI  NATURAL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78000" y="178920"/>
            <a:ext cx="85024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2360" y="1692000"/>
            <a:ext cx="8277120" cy="456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444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La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ROTEINA C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è un inibitore fisiologico della coagulazione scoperto agli inizi degli anni ottanta.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E' sintetizzata dal fegato come zimogeno (cioè allo stato inattivo) ed è una proteina, Vitamina K dipendente).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L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Proteina C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circolante, che viene attivata dalla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Trombina,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svolge un'azione inibitoria sui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Fattor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e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VIII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attivati.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I soggetti con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carenza congenita di Proteina C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manifestano, oltre a trombosi venose profonde, trombosi venose superficiali e infarti cerebrali  con maggiore frequenza rispetto a coloro che presentano alterazioni degli anticoagulanti naturali.</a:t>
            </a:r>
            <a:br>
              <a:rPr sz="2400"/>
            </a:br>
            <a:r>
              <a:rPr b="0" lang="it-IT" sz="1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514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01640" y="9716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NIBITORI NATURAL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6000" y="178920"/>
            <a:ext cx="85028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360" y="1402920"/>
            <a:ext cx="910908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La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Comic Sans MS"/>
              </a:rPr>
              <a:t>PROTEINA S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deve il suo nome a Seattle, la città dove fu scoperta nel 1984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E' una proteina Vitamina K dipendente ed è sintetizzata dal fegato e dalle cellule endoteliali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E' presente in circolo in due forme: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40 % libera (forma attiva) e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60 % legata a una proteina (forma inattiva). 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  <a:p>
            <a:pPr marL="33444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La </a:t>
            </a:r>
            <a:r>
              <a:rPr b="1" lang="it-IT" sz="2200" spc="-1" strike="noStrike">
                <a:solidFill>
                  <a:srgbClr val="fafd00"/>
                </a:solidFill>
                <a:latin typeface="Comic Sans MS"/>
              </a:rPr>
              <a:t>Proteina S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 ha funzione di cofattore della Proteina C 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e ne potenzia l'attività</a:t>
            </a:r>
            <a:r>
              <a:rPr b="0" lang="it-IT" sz="22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548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720" y="900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INIBITORI NATURAL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8360" y="5148360"/>
            <a:ext cx="822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Le manifestazioni cliniche dei soggetti carenti congeniti di tale proteina e le situazioni nelle quali di determinano difetti acquisiti, finora riportate in letteratura, sono del tutto sovrapponibili a quelle già descritte per la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PROTEINA C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2360" y="3492360"/>
            <a:ext cx="287280" cy="28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2360" y="399564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78000" y="178920"/>
            <a:ext cx="850248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0720" y="2124000"/>
            <a:ext cx="79092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Se al plasma umano normale si aggiungono concentrazioni crescenti 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Proteina C Attivat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, si assiste ad un prolungamento proporzionale dei tempo di coagulazione (ad esempio il tempo 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Tromboplastina Parziale Attivato, APTT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), come conseguenz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dell'inattivazione dei Fattori V e VIII.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Esistono soggetti il cui tempo di coagulazione, dopo aggiunta in vitro di Proteina C Attivata, non si prolunga adeguatamente.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58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82720" y="12603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SISTENZA ALLA PROTEINA C ATTIVAT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850284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66720" y="1979280"/>
            <a:ext cx="7696080" cy="37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Responsabile di tale anomalia, denominata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Resistenza alla Proteina C Attivata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, è nella stragrande maggioranza dei casi (più del 90%) una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mutazione nel gene del Fattore V (Fattore V Leiden),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che comporta una sostituzione amminoacidica nella proteina matura.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619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6720" y="126036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RESISTENZA ALLA PROTEINA C ATTIVATA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8502480" cy="12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dc0081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dc0081"/>
                </a:solidFill>
                <a:latin typeface="Comic Sans MS"/>
              </a:rPr>
              <a:t>SCREENING DELLA TROMBOFILIA</a:t>
            </a:r>
            <a:r>
              <a:rPr b="1" lang="en-GB" sz="2800" spc="-1" strike="noStrike">
                <a:solidFill>
                  <a:srgbClr val="dc0081"/>
                </a:solidFill>
                <a:latin typeface="Comic Sans MS"/>
              </a:rPr>
              <a:t>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032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  <a:p>
            <a:pPr marL="3103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RESISTENZA ALLA PROTEINA C ATTIVATA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10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  <a:p>
            <a:pPr marL="310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  <a:p>
            <a:pPr marL="310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Si può presentare anche allo stato omozigote e, considerata la sua alta prevalenza nella popolazione, si associa con una certa frequenza ad altre carenze congenite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(Antitrombina, Proteina C, Proteina S),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o difetti acquisiti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(Anticorpi Antifosfolipidi, Iperomocisteinemia, ecc.),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aumentando così il rischio di trombosi nei soggetti portatori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65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3280" y="656604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75960"/>
            <a:ext cx="7743960" cy="13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 TERAPIA ORMONALE SOSTITUTIVA</a:t>
            </a:r>
            <a:r>
              <a:rPr b="0" lang="en-US" sz="2800" spc="-1" strike="noStrike">
                <a:solidFill>
                  <a:srgbClr val="fc0128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- TOS  -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76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78000" y="1836720"/>
            <a:ext cx="84978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A molte donne in menopausa viene prescritta la </a:t>
            </a:r>
            <a:r>
              <a:rPr b="1" lang="en-US" sz="3000" spc="-1" strike="noStrike">
                <a:solidFill>
                  <a:srgbClr val="fafd00"/>
                </a:solidFill>
                <a:latin typeface="Comic Sans MS"/>
              </a:rPr>
              <a:t>Terapia Ormonale Sostitutiva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Spesso, a fronte di evidenti vantaggi clinici, queste pazienti iniziano a riferire disturbi tipici dell’insufficienza venosa (gonfiore, pesantezza, dolori alle gambe, ritenzione idrica, crampi, formicolii, prurito), specialmente in presenza di varici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850248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77240" cy="44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34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Sans"/>
            </a:endParaRPr>
          </a:p>
          <a:p>
            <a:pPr marL="303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  <a:p>
            <a:pPr marL="303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it-IT" sz="20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Si tratta di una situazione acquisita, caratterizzata dalla comparsa di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Autoanticorpi contro i Fosfolipidi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03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br>
              <a:rPr sz="2600"/>
            </a:b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Tali anticorpi agiscono in provetta come un anticoagulante, per esempio prolungando il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tempo di Tromboplastina Parziale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(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da qui il nome di “</a:t>
            </a:r>
            <a:r>
              <a:rPr b="0" i="1" lang="it-IT" sz="2600" spc="-1" strike="noStrike">
                <a:solidFill>
                  <a:srgbClr val="fafd00"/>
                </a:solidFill>
                <a:latin typeface="Comic Sans MS"/>
              </a:rPr>
              <a:t>anticoagulante lupico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”, che crea non poca confusione); n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el soggetto affetto, aumentano il rischio di trombosi sia arteriose che venose e, nella donna, il rischio di poliabortività spontanea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03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686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1219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NTICOAGULANTE LUPICO (LA)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93640" y="1547280"/>
            <a:ext cx="7848720" cy="414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16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6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Anche il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Tempo di Protrombina (PT),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se eseguito con tromboplastina opportunamente diluita, si può considerare un utile test di laboratorio per l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diagnostica del L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'uso di silice micronizzat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in combinazione con fosfolpidi a bassa concentrazione può essere un buon sostituto del KCT (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Tempo di Coagulazione del Caolino)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nella procedura di screening.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72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3280" y="656604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6000" y="179280"/>
            <a:ext cx="850284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22000" y="971640"/>
            <a:ext cx="8280360" cy="54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La strategia concertata fra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il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Clinico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che seleziona i pazienti più idonei a giovarsi dello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Screening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lo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Specialista di Laboratorio di Emostasi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che allestisce ed esegue i test più appropriati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è il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requisito essenziale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per la razionalizzazione della spesa e l'uso appropriato delle scarse risorse oramai disponibili.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75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2200" y="324000"/>
            <a:ext cx="774396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784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0720" y="2340000"/>
            <a:ext cx="842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Lo studio delle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rianti geniche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è indicata i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Soggetti con precedenti episodi di tromboembolism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venoso o trombosi arteriosa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Donne che intendono assumere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contraccettivi orali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;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Donne con precedenti episodi di trombosi 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gravidanza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54360" y="1403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rianti geni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6000" y="324000"/>
            <a:ext cx="850284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1520" cy="414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82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3280" y="154764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ANALISI GENOTIPICHE PER LE MUTAZIONI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03280" y="298764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Fattore V Leiden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 (PC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Mutazione G20210A della Protrombina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 (PC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3640" y="3276720"/>
            <a:ext cx="50508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640" y="42847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74360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85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6720" y="900000"/>
            <a:ext cx="80773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FATTORE V DI LEIDE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Il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Fattore V attivato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è un cofattore essenziale per l'attivazione dell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Protrombin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(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Fattore 11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) 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Trombin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Il suo effetto pro-coagulante è normalmente inibito dalla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Proteina C Attivat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che taglia il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Fattore V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attivato in tre parti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Un sito di taglio è localizzato nell'aminoacido arginina alla posizione 506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Ne consegue un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Resistenza alla Proteina C Attivata (APC)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 nei test di laboratorio ed una maggiore attività pro-coagulante del Fattore V attivato che predispone alla trombosi.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 CONGENIT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0360" y="1692360"/>
            <a:ext cx="808524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4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Il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fattor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più importante che determina la varietà e la gravità dei sintomi è lo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stato di omozigote.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24000" indent="0" algn="just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Si stima che in Italia il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numero di individui omozigoti per il Fattore V Leiden sia 1 su 4.000-5.000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24000" indent="0" algn="just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24000" indent="0" algn="just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Il rischio di trombosi venosa è circa: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24000" indent="0" algn="just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11 volte superior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rispetto a quello di un individuo eterozigote e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24000" indent="0" algn="just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90 volte superior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rispetto a un individuo con genotipo normale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89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825640" y="971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rianti geni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38360" y="252000"/>
            <a:ext cx="7743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922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8360" y="1332000"/>
            <a:ext cx="78483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La variante G1691A è definit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“di Leiden”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(località in cui fu scoperta), ed ha una frequenza genica dello 0,014 - 0,042 % in Europa con una frequenza di portatori in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eterozigos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in Italia pari al 2 - 3 %.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I soggetti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eterozigot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hanno un rischio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8 volte superiore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di sviluppare una trombosi venosa, mentre gli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omozigot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hanno un rischio pari ad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80 volte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 (l’evento trombotico è favorito, in presenza di altre condizioni predisponenti, quali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l'assunzione di contraccettivi oral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Arial"/>
              </a:rPr>
              <a:t>).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66360" y="0"/>
            <a:ext cx="774396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95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2360" y="1260360"/>
            <a:ext cx="8280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Per gli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eterozigoti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c'è un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rischio aumentat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di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3 vol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di sviluppare una trombosi venosa,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di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5 vol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per l'ictus ischemico,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di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5 vol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per infarto miocardico in donn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   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giovani,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di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10 vol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per trombosi delle vene cerebrali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c0128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di 149 volte in donne che assumon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   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  <a:ea typeface="Arial"/>
              </a:rPr>
              <a:t>contraccettivi orali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66720" y="1476360"/>
            <a:ext cx="793584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MUTAZIONE 20210A DELLA PROTROMBINA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Recentemente è stata identificata un'ulteriore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mutazione protrombotica 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a carico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del gene per la Protrombina (20210A),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che si esprime fenotipicamente con un aumento dell'attività dell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Protrombin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nel plasma.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La prevalenza del difetto nella popolazione trombofilica è dei 10 - 18 % a seconda della casistica e dell’1 % nella popolazione generale.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99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75960"/>
            <a:ext cx="7743960" cy="139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 TERAPIA ORMONALE SOSTITUTIVA 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- TOS  -</a:t>
            </a:r>
            <a:endParaRPr b="0" lang="en-US" sz="28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07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1438200"/>
            <a:ext cx="9109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a presenza di varici non controindica l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Terapi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Ormonale Sostitutiv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; per il dosaggio basso degli estrogeni, il rischio di complicazioni (flebiti,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trombos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, embolie polmonari) è trascurabile e comunque legato alla presenza delle varici più che alla terapia ormonale.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o studio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WH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(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omen’s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ealth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nitiative) ha mostrato che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ogni 1.000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onn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che fanno uso di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erapia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rmonale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S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ostitutiva (estro-progestinici) per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1 anno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si verificano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4,7 casi in meno di fratture ossee,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0,6 casi di tumore al colon retto.</a:t>
            </a:r>
            <a:r>
              <a:rPr b="0" lang="it-IT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41280" y="5148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6530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6080" y="179280"/>
            <a:ext cx="8502480" cy="8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1520" cy="414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02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1620720"/>
            <a:ext cx="91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SAGGIO ANTICOAGULANTI ACQUISIT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 OMOCISTEIN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1680" y="3637080"/>
            <a:ext cx="85374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Abs Antifosfolipidi (anticardiolipina, ant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beta2-GP1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Omocisteinemia  (HPLC o ELISA o FPIA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111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66720" y="97164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INDROME DA ANTICORPI ANTIFOSFOLIPIDI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Questa sindrome è sostenuta dalla presenza nel plasma 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Anticorpi diretti contro i Fosfolipidi anionici,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o contro i complessi di alcune proteine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(Proteina C, Proteina S, Protrombina, beta2glicoproteina I) e i Fosfolipidi.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In un certo numero di pazienti la presenza degli anticorpi è associata all'insorgenza di sintomi trombotici venosi e/o arteriosi, aborti ripetuti e piastrinopenia.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058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02480" cy="9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66720" y="1547280"/>
            <a:ext cx="8020080" cy="414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0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La diagnosi di laboratorio può essere effettuata mediante: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metodi diretti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che evidenziano la presenza degli anticorpi in fase solida, usando come antigene catturante l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Cardiolipin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ricerca degli Anticorpi anticardiolipina)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metodi indiretti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che sfruttano l'interferenza che gli anticorpi hanno sui tests classici della coagulazione dipendenti dai fosfolipi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ricerca dell‘Anticoagulante Lupico, LA).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091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971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Comic Sans MS"/>
              </a:rPr>
              <a:t>segu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6000" y="-360"/>
            <a:ext cx="850284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SCREENING DELLA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66720" y="1547640"/>
            <a:ext cx="7780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‘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Omocistein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è un prodotto del catabolismo degli amminoacidi solforati (metionina)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376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E’ presente nel plasma sotto varie forme che possono circolare libere o legate alle proteine; raggiunge una concentrazione nel normale di 5-15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µ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mol/L e viene denominat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Omocisteina Totale.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376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Esistono situazioni congenite o acquisite che portano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all'accumulo nel plasma di Omocistein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376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Fra queste la più importante è l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carenza congenita di cistationina-beta-sintetasi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e se lo stato è omozigote può portare all'accumulo di livelli del metabolita superiori a 100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  <a:ea typeface="Times New Roman"/>
              </a:rPr>
              <a:t>µ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mol/L).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37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16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12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33640" y="97164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PEROMOCISTEINEMIA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6000" y="178920"/>
            <a:ext cx="850284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2360" y="1402920"/>
            <a:ext cx="7896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Il difetto allo stato omozigote ha una prevalenza nella popolazione di circa: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1:20O mila - 1:30O mila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e determina nei soggetti portatori la sindrome classica denominata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Omocistinuria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caratterizzata, fra l'altro, dall'insorgenza precoce di malattie cardiovascolari e tromboemboliche.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159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6000" y="252000"/>
            <a:ext cx="850284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22360" y="111564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Forme meno gravi di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Iperomocisteinemi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possono essere di frequente riscontro in soggetti affetti da un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difetto congenito della metilen-tetra-idro-folato-reduttasi (MTHFR).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a diagnosi di laboratorio  della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Iperomocisteinemia</a:t>
            </a: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è basata sulla misura della concentrazione plasmatica totale dei metabolita mediante cromatografia ad alta pressione. </a:t>
            </a: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6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192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38360" y="252000"/>
            <a:ext cx="7743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22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2120" y="1219320"/>
            <a:ext cx="770544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  <a:ea typeface="Arial"/>
              </a:rPr>
              <a:t>MTHFR (Metilentetraidrofolatoreduttas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La metilentetraidrofolatoreduttasi è un enzima coinvolto nella trasformazione  del 5-10 metilentetraidrofolato in 5 metiltetraidrofolato che serve come donatore di metili per la rimetilazione della omocisteina a metionina tramite l'intervento della Vit.  B12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Rare mutazioni (trasmesse con  modalità autosomica recessiva) possono causare l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deficienza grave di MTHFR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con attività enzimatica inferiore al 20 % e comparsa 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</a:rPr>
              <a:t>Omocisteinemia ed Omocistinuria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</a:rPr>
              <a:t> e bassi livelli plasmatici di acido folico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2200" y="252000"/>
            <a:ext cx="774396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SCREENING DELLA 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256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22360" y="1260360"/>
            <a:ext cx="80010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La frequenza genica in Europa della mutazione è del    3 - 3,7 % che comporta una condizione di eterozigosi in circa il 42 - 46 % della popolazione e  di omozigosi pari al 12 - 13 %.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Recentemente, una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seconda mutazione del gene MTHFR (A1298C)</a:t>
            </a: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 è stata associata ad una ridotta attività enzimatica (circa il 60 % singolarmente; circa il 40 % se presente in associazione alla mutazione C677T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Questa mutazione, in pazienti portatori della mutazione C677T, determina un aumento dei livelli ematici di </a:t>
            </a:r>
            <a:r>
              <a:rPr b="1" lang="it-IT" sz="2400" spc="-1" strike="noStrike">
                <a:solidFill>
                  <a:srgbClr val="fafd00"/>
                </a:solidFill>
                <a:latin typeface="Comic Sans MS"/>
                <a:ea typeface="Arial"/>
              </a:rPr>
              <a:t>Omocisteina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06000" y="611280"/>
            <a:ext cx="858996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IDERAZIONI CONCLUSIVE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-360" y="1692360"/>
            <a:ext cx="910908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Là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dove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è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possibile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lo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SCREENING DI LABORATORIO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deve essere eseguito utilizzando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SCLUSIVAMENTE METODI FUNZIONALI</a:t>
            </a: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6508800"/>
            <a:ext cx="46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291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1020600" y="6502320"/>
            <a:ext cx="18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66360" y="25200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IDERAZIONI CONCLUSIVE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322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5800" y="114300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Le anomali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riscontrate con i test su plasma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debbono essere attentamente valuta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per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escluder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deficit acquisiti degli anticoagulanti naturali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(es. in seguito ad epatopatia)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e confermate su un secondo prelievo a distanza di uno - due mes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Nei casi di positività per uno o più difetti ereditari, bisogna estendere lo studio di laboratorio a tutti i membri della famiglia disponibili all'indagine, anche se asintomatici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200" y="76320"/>
            <a:ext cx="77439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 TERAPIA ORMONALE SOSTITUTIVA 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- TOS  -</a:t>
            </a:r>
            <a:endParaRPr b="0" lang="en-US" sz="28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4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1547640"/>
            <a:ext cx="894708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Sempre lo studio statunitense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WH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ha mostrato che ogni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1.000 donn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che fanno uso di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erapia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rmonale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S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ostitutiva per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1 anno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0,7 donne in più subiranno un ictu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0,8 donne in più svilupperanno un tumore al seno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1,8 donne in più saranno colpite da </a:t>
            </a:r>
            <a:r>
              <a:rPr b="1" lang="it-IT" sz="2600" spc="-1" strike="noStrike" u="sng">
                <a:solidFill>
                  <a:srgbClr val="ffffff"/>
                </a:solidFill>
                <a:uFillTx/>
                <a:latin typeface="Comic Sans MS"/>
              </a:rPr>
              <a:t>trombosi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it-IT" sz="2600" spc="-1" strike="noStrike" u="sng">
                <a:solidFill>
                  <a:srgbClr val="ffffff"/>
                </a:solidFill>
                <a:uFillTx/>
                <a:latin typeface="Comic Sans MS"/>
              </a:rPr>
              <a:t>venosa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2,3 donne in più soffriranno di demenza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2 donne in più soffriranno di colecistopatie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2360" y="327672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2360" y="3708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2360" y="41403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2360" y="493236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2360" y="5292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66360" y="178920"/>
            <a:ext cx="77439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IDERAZIONI CONCLUSIVE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355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6720" y="2268360"/>
            <a:ext cx="844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0" y="971640"/>
            <a:ext cx="910908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o </a:t>
            </a:r>
            <a:r>
              <a:rPr b="1" lang="it-IT" sz="2600" spc="-1" strike="noStrike">
                <a:solidFill>
                  <a:srgbClr val="ffffff"/>
                </a:solidFill>
                <a:latin typeface="Comic Sans MS"/>
              </a:rPr>
              <a:t>SCREENING DI LABORATORIO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per l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trombofilia venosa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non viene di norma eseguito nel soggetto sano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anche nei casi in cui egli sarà esposto a manovre o interventi potenzialmente a rischio trombotico.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a possibile eccezione a questa regola, costituita dalla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ricerca dell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Resistenza alla Proteina C Attiv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nei soggetti da sottoporre ad intervento chirurgico,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o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 nelle donne che assumono contraccettivi oral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non trova ancora adeguati consensi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388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66720" y="2268360"/>
            <a:ext cx="844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8000" y="395280"/>
            <a:ext cx="82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IDERAZIONI CONCLUSIV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06360" y="1403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e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indagini di Laboratorio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devono essere ristrette a quei soggetti che hanno avuto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uno o più episodi trombotici in età giovan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(meno di 45 anni)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La positività della storia familiare può essere considerata, ma non deve costituire elemento essenziale per avviare il soggetto allo screening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422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609480" y="212868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96760" y="1768320"/>
            <a:ext cx="760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66720" y="2268360"/>
            <a:ext cx="844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277164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Grazie dell’attenzion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379440"/>
            <a:ext cx="9109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 TERAPIA ORMONALE SOSTITUTIVA 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- TOS  -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360" y="1692360"/>
            <a:ext cx="81342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marL="455760" indent="-455760" algn="just">
              <a:spcBef>
                <a:spcPts val="2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Quando la storia clinica della paziente o la storia familiare presenta degli episodi di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trombosi venosa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, flebite, ictus,  infarti in età relativamente giovane (al di sotto dei 45 anni) o malattie immunologiche, occorre allora sospettare una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Trombofilia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580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178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6000" y="-360"/>
            <a:ext cx="85028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6360" y="111564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76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La 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Trombofilia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 è una condizione clinica in cui il paziente, di età inferiore a 45 anni, dimostra, per cause congenite o acquisite, un’inusuale predisposizione al 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tromboembolismo arterovenoso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 e una tendenza alle recidive, anche in assenza di cause scatenanti evidenti.</a:t>
            </a:r>
            <a:endParaRPr b="0" lang="en-US" sz="3000" spc="-1" strike="noStrike">
              <a:solidFill>
                <a:srgbClr val="ffffff"/>
              </a:solidFill>
              <a:latin typeface="GillSans"/>
            </a:endParaRPr>
          </a:p>
          <a:p>
            <a:pPr marL="327600" indent="0" algn="just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br>
              <a:rPr sz="2800"/>
            </a:b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E' nota anche come stato </a:t>
            </a:r>
            <a:r>
              <a:rPr b="1" lang="it-IT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it-IT" sz="3000" spc="-1" strike="noStrike">
                <a:solidFill>
                  <a:srgbClr val="ffffff"/>
                </a:solidFill>
                <a:latin typeface="Comic Sans MS"/>
              </a:rPr>
              <a:t>ipercoagulabile”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 o </a:t>
            </a:r>
            <a:r>
              <a:rPr b="1" lang="it-IT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it-IT" sz="3000" spc="-1" strike="noStrike">
                <a:solidFill>
                  <a:srgbClr val="ffffff"/>
                </a:solidFill>
                <a:latin typeface="Comic Sans MS"/>
              </a:rPr>
              <a:t>stato protrombotico”</a:t>
            </a:r>
            <a:r>
              <a:rPr b="1" lang="it-IT" sz="3000" spc="-1" strike="noStrike">
                <a:solidFill>
                  <a:srgbClr val="fafd00"/>
                </a:solidFill>
                <a:latin typeface="Comic Sans MS"/>
              </a:rPr>
              <a:t>.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210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6000" y="178920"/>
            <a:ext cx="8502840" cy="12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9280" y="1547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Le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trombofilie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 sono frequenti nella popolazione e sviluppano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fenomeni trombotici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 in determinate occasioni come la gravidanza, interventi chirurgici, </a:t>
            </a:r>
            <a:r>
              <a:rPr b="1" lang="it-IT" sz="3200" spc="-1" strike="noStrike">
                <a:solidFill>
                  <a:srgbClr val="fafd00"/>
                </a:solidFill>
                <a:latin typeface="Comic Sans MS"/>
              </a:rPr>
              <a:t>uso di farmaci, come nella Terapia Ormonale Sostitutiva</a:t>
            </a:r>
            <a:r>
              <a:rPr b="0" lang="it-IT" sz="3200" spc="-1" strike="noStrike">
                <a:solidFill>
                  <a:srgbClr val="fafd00"/>
                </a:solidFill>
                <a:latin typeface="Comic Sans MS"/>
              </a:rPr>
              <a:t>, ecc.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243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850248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Comic Sans MS"/>
              </a:rPr>
              <a:t>TROMBOFILI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78000" y="1402920"/>
            <a:ext cx="8432640" cy="42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Gli episodi trombotici sono più frequenti nel distretto venoso, rispetto a quello arterioso.</a:t>
            </a:r>
            <a:r>
              <a:rPr b="0" lang="it-IT" sz="1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5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4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Si distinguono in: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trombofilie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acquisi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, contratte cioè dopo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la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nascita.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1280" indent="0" algn="just">
              <a:lnSpc>
                <a:spcPct val="8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trombofilie congenite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 (cioè presenti fin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dalla nascita ed ereditate da uno o entrambi 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afd00"/>
                </a:solidFill>
                <a:latin typeface="Comic Sans MS"/>
              </a:rPr>
              <a:t>i genitori). 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365880"/>
            <a:ext cx="609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276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947880" y="6502320"/>
            <a:ext cx="182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8360" y="3132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8360" y="42116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277c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2200" y="75960"/>
            <a:ext cx="774396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MBOFILIA ACQUISITA</a:t>
            </a:r>
            <a:endParaRPr b="0" lang="en-US" sz="3200" spc="-1" strike="noStrike">
              <a:solidFill>
                <a:srgbClr val="fafd00"/>
              </a:solidFill>
              <a:latin typeface="GillSan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6041880"/>
            <a:ext cx="569520" cy="798120"/>
            <a:chOff x="0" y="6041880"/>
            <a:chExt cx="569520" cy="798120"/>
          </a:xfrm>
        </p:grpSpPr>
        <p:sp>
          <p:nvSpPr>
            <p:cNvPr id="309" name=""/>
            <p:cNvSpPr/>
            <p:nvPr/>
          </p:nvSpPr>
          <p:spPr>
            <a:xfrm>
              <a:off x="0" y="6329880"/>
              <a:ext cx="35280" cy="504360"/>
            </a:xfrm>
            <a:custGeom>
              <a:avLst/>
              <a:gdLst/>
              <a:ahLst/>
              <a:rect l="l" t="t" r="r" b="b"/>
              <a:pathLst>
                <a:path w="17" h="289">
                  <a:moveTo>
                    <a:pt x="5" y="0"/>
                  </a:moveTo>
                  <a:lnTo>
                    <a:pt x="0" y="6"/>
                  </a:lnTo>
                  <a:lnTo>
                    <a:pt x="0" y="288"/>
                  </a:lnTo>
                  <a:lnTo>
                    <a:pt x="16" y="288"/>
                  </a:lnTo>
                  <a:lnTo>
                    <a:pt x="16" y="6"/>
                  </a:lnTo>
                  <a:lnTo>
                    <a:pt x="5" y="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20" y="6329880"/>
              <a:ext cx="546840" cy="29520"/>
            </a:xfrm>
            <a:custGeom>
              <a:avLst/>
              <a:gdLst/>
              <a:ahLst/>
              <a:rect l="l" t="t" r="r" b="b"/>
              <a:pathLst>
                <a:path w="262" h="17">
                  <a:moveTo>
                    <a:pt x="261" y="8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8" y="16"/>
                  </a:lnTo>
                  <a:lnTo>
                    <a:pt x="252" y="8"/>
                  </a:lnTo>
                  <a:lnTo>
                    <a:pt x="261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6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240" y="6340320"/>
              <a:ext cx="35280" cy="493920"/>
            </a:xfrm>
            <a:custGeom>
              <a:avLst/>
              <a:gdLst/>
              <a:ahLst/>
              <a:rect l="l" t="t" r="r" b="b"/>
              <a:pathLst>
                <a:path w="17" h="283">
                  <a:moveTo>
                    <a:pt x="10" y="282"/>
                  </a:moveTo>
                  <a:lnTo>
                    <a:pt x="16" y="28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2"/>
                  </a:lnTo>
                  <a:lnTo>
                    <a:pt x="10" y="2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840" y="6364800"/>
              <a:ext cx="35280" cy="475200"/>
            </a:xfrm>
            <a:custGeom>
              <a:avLst/>
              <a:gdLst/>
              <a:ahLst/>
              <a:rect l="l" t="t" r="r" b="b"/>
              <a:pathLst>
                <a:path w="17" h="272">
                  <a:moveTo>
                    <a:pt x="5" y="0"/>
                  </a:moveTo>
                  <a:lnTo>
                    <a:pt x="0" y="2"/>
                  </a:lnTo>
                  <a:lnTo>
                    <a:pt x="0" y="271"/>
                  </a:lnTo>
                  <a:lnTo>
                    <a:pt x="16" y="271"/>
                  </a:lnTo>
                  <a:lnTo>
                    <a:pt x="16" y="2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9520" y="6370200"/>
              <a:ext cx="35280" cy="464400"/>
            </a:xfrm>
            <a:custGeom>
              <a:avLst/>
              <a:gdLst/>
              <a:ahLst/>
              <a:rect l="l" t="t" r="r" b="b"/>
              <a:pathLst>
                <a:path w="17" h="266">
                  <a:moveTo>
                    <a:pt x="6" y="265"/>
                  </a:moveTo>
                  <a:lnTo>
                    <a:pt x="16" y="26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65"/>
                  </a:lnTo>
                  <a:lnTo>
                    <a:pt x="6" y="2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0080" y="6391080"/>
              <a:ext cx="35280" cy="443520"/>
            </a:xfrm>
            <a:custGeom>
              <a:avLst/>
              <a:gdLst/>
              <a:ahLst/>
              <a:rect l="l" t="t" r="r" b="b"/>
              <a:pathLst>
                <a:path w="17" h="254">
                  <a:moveTo>
                    <a:pt x="8" y="0"/>
                  </a:moveTo>
                  <a:lnTo>
                    <a:pt x="0" y="2"/>
                  </a:lnTo>
                  <a:lnTo>
                    <a:pt x="0" y="253"/>
                  </a:lnTo>
                  <a:lnTo>
                    <a:pt x="16" y="253"/>
                  </a:lnTo>
                  <a:lnTo>
                    <a:pt x="16" y="2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4040" y="63910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4"/>
                  </a:moveTo>
                  <a:lnTo>
                    <a:pt x="16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4" y="16"/>
                  </a:lnTo>
                  <a:lnTo>
                    <a:pt x="161" y="4"/>
                  </a:lnTo>
                  <a:lnTo>
                    <a:pt x="167" y="4"/>
                  </a:lnTo>
                  <a:lnTo>
                    <a:pt x="167" y="0"/>
                  </a:lnTo>
                  <a:lnTo>
                    <a:pt x="164" y="0"/>
                  </a:lnTo>
                  <a:lnTo>
                    <a:pt x="16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920" y="6396120"/>
              <a:ext cx="35280" cy="438120"/>
            </a:xfrm>
            <a:custGeom>
              <a:avLst/>
              <a:gdLst/>
              <a:ahLst/>
              <a:rect l="l" t="t" r="r" b="b"/>
              <a:pathLst>
                <a:path w="17" h="251">
                  <a:moveTo>
                    <a:pt x="8" y="250"/>
                  </a:moveTo>
                  <a:lnTo>
                    <a:pt x="16" y="25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0"/>
                  </a:lnTo>
                  <a:lnTo>
                    <a:pt x="8" y="2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5720" y="6415560"/>
              <a:ext cx="35280" cy="418680"/>
            </a:xfrm>
            <a:custGeom>
              <a:avLst/>
              <a:gdLst/>
              <a:ahLst/>
              <a:rect l="l" t="t" r="r" b="b"/>
              <a:pathLst>
                <a:path w="17" h="240">
                  <a:moveTo>
                    <a:pt x="8" y="0"/>
                  </a:moveTo>
                  <a:lnTo>
                    <a:pt x="0" y="3"/>
                  </a:lnTo>
                  <a:lnTo>
                    <a:pt x="0" y="239"/>
                  </a:lnTo>
                  <a:lnTo>
                    <a:pt x="16" y="239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4280" y="6422760"/>
              <a:ext cx="35280" cy="417240"/>
            </a:xfrm>
            <a:custGeom>
              <a:avLst/>
              <a:gdLst/>
              <a:ahLst/>
              <a:rect l="l" t="t" r="r" b="b"/>
              <a:pathLst>
                <a:path w="17" h="239">
                  <a:moveTo>
                    <a:pt x="8" y="238"/>
                  </a:moveTo>
                  <a:lnTo>
                    <a:pt x="16" y="2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8" y="2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2720" y="6441840"/>
              <a:ext cx="35280" cy="392760"/>
            </a:xfrm>
            <a:custGeom>
              <a:avLst/>
              <a:gdLst/>
              <a:ahLst/>
              <a:rect l="l" t="t" r="r" b="b"/>
              <a:pathLst>
                <a:path w="17" h="225">
                  <a:moveTo>
                    <a:pt x="0" y="0"/>
                  </a:moveTo>
                  <a:lnTo>
                    <a:pt x="0" y="2"/>
                  </a:lnTo>
                  <a:lnTo>
                    <a:pt x="0" y="224"/>
                  </a:lnTo>
                  <a:lnTo>
                    <a:pt x="16" y="224"/>
                  </a:lnTo>
                  <a:lnTo>
                    <a:pt x="16" y="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1600" y="6446880"/>
              <a:ext cx="35280" cy="387720"/>
            </a:xfrm>
            <a:custGeom>
              <a:avLst/>
              <a:gdLst/>
              <a:ahLst/>
              <a:rect l="l" t="t" r="r" b="b"/>
              <a:pathLst>
                <a:path w="17" h="222">
                  <a:moveTo>
                    <a:pt x="16" y="221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16" y="2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1440" y="6462720"/>
              <a:ext cx="35280" cy="37188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0"/>
                  </a:moveTo>
                  <a:lnTo>
                    <a:pt x="0" y="3"/>
                  </a:lnTo>
                  <a:lnTo>
                    <a:pt x="0" y="212"/>
                  </a:lnTo>
                  <a:lnTo>
                    <a:pt x="16" y="212"/>
                  </a:lnTo>
                  <a:lnTo>
                    <a:pt x="16" y="3"/>
                  </a:lnTo>
                  <a:lnTo>
                    <a:pt x="8" y="6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560" y="6462720"/>
              <a:ext cx="183600" cy="29520"/>
            </a:xfrm>
            <a:custGeom>
              <a:avLst/>
              <a:gdLst/>
              <a:ahLst/>
              <a:rect l="l" t="t" r="r" b="b"/>
              <a:pathLst>
                <a:path w="88" h="17">
                  <a:moveTo>
                    <a:pt x="87" y="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84" y="16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7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8560" y="6467760"/>
              <a:ext cx="35280" cy="372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8" y="212"/>
                  </a:moveTo>
                  <a:lnTo>
                    <a:pt x="16" y="21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8" y="2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5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5" y="167"/>
                  </a:lnTo>
                  <a:lnTo>
                    <a:pt x="5" y="171"/>
                  </a:lnTo>
                  <a:lnTo>
                    <a:pt x="0" y="171"/>
                  </a:lnTo>
                  <a:lnTo>
                    <a:pt x="5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42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4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0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10" y="167"/>
                  </a:lnTo>
                  <a:lnTo>
                    <a:pt x="10" y="171"/>
                  </a:lnTo>
                  <a:lnTo>
                    <a:pt x="0" y="171"/>
                  </a:lnTo>
                  <a:lnTo>
                    <a:pt x="1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95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6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00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040" y="6333480"/>
              <a:ext cx="350640" cy="29520"/>
            </a:xfrm>
            <a:custGeom>
              <a:avLst/>
              <a:gdLst/>
              <a:ahLst/>
              <a:rect l="l" t="t" r="r" b="b"/>
              <a:pathLst>
                <a:path w="168" h="17">
                  <a:moveTo>
                    <a:pt x="167" y="16"/>
                  </a:move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4" y="0"/>
                  </a:lnTo>
                  <a:lnTo>
                    <a:pt x="161" y="16"/>
                  </a:lnTo>
                  <a:lnTo>
                    <a:pt x="167" y="16"/>
                  </a:lnTo>
                  <a:lnTo>
                    <a:pt x="164" y="16"/>
                  </a:lnTo>
                  <a:lnTo>
                    <a:pt x="16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99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5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171"/>
                  </a:move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8" y="167"/>
                  </a:lnTo>
                  <a:lnTo>
                    <a:pt x="8" y="171"/>
                  </a:lnTo>
                  <a:lnTo>
                    <a:pt x="0" y="171"/>
                  </a:lnTo>
                  <a:lnTo>
                    <a:pt x="8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320" y="6333480"/>
              <a:ext cx="279360" cy="2952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133" y="16"/>
                  </a:moveTo>
                  <a:lnTo>
                    <a:pt x="13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0" y="0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0" y="16"/>
                  </a:lnTo>
                  <a:lnTo>
                    <a:pt x="13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428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8" y="0"/>
                  </a:moveTo>
                  <a:lnTo>
                    <a:pt x="16" y="0"/>
                  </a:ln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272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0" y="17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71"/>
                  </a:lnTo>
                  <a:lnTo>
                    <a:pt x="0" y="167"/>
                  </a:lnTo>
                  <a:lnTo>
                    <a:pt x="0" y="1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600" y="6041880"/>
              <a:ext cx="35280" cy="300600"/>
            </a:xfrm>
            <a:custGeom>
              <a:avLst/>
              <a:gdLst/>
              <a:ahLst/>
              <a:rect l="l" t="t" r="r" b="b"/>
              <a:pathLst>
                <a:path w="17" h="172">
                  <a:moveTo>
                    <a:pt x="16" y="0"/>
                  </a:moveTo>
                  <a:lnTo>
                    <a:pt x="16" y="171"/>
                  </a:lnTo>
                  <a:lnTo>
                    <a:pt x="0" y="171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07932" dir="2700000" blurRad="0" rotWithShape="0">
                <a:srgbClr val="00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09480" y="1911240"/>
            <a:ext cx="82504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8360" y="1044720"/>
            <a:ext cx="7992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e condizioni o malattie acquisite associate a </a:t>
            </a: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trombofilia 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sono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gravidanza e nel puerperio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immobilizzazione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traumi post-operatorio, specialmente ortopedico o della chirurgia oncologica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iperomocisteinemia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afd00"/>
                </a:solidFill>
                <a:latin typeface="Comic Sans MS"/>
              </a:rPr>
              <a:t>uso di estrogeni ed estroprogestinici</a:t>
            </a: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neoplasie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lupus anticoagulante e anticorpi antifosfolipidi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ipertensione arteriosa;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afd00"/>
                </a:solidFill>
                <a:latin typeface="Comic Sans MS"/>
              </a:rPr>
              <a:t>etc..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6535800"/>
            <a:ext cx="91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it-IT" sz="1200" spc="-1" strike="noStrike">
                <a:solidFill>
                  <a:srgbClr val="fafd00"/>
                </a:solidFill>
                <a:latin typeface="Times New Roman"/>
              </a:rPr>
              <a:t>Azienda Ospedaliero Universitaria di Bologna, Policlinico S.Orsola - M. Malpighi 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8T05:43:36Z</dcterms:created>
  <dc:creator/>
  <dc:description/>
  <dc:language>en-US</dc:language>
  <cp:lastModifiedBy> </cp:lastModifiedBy>
  <cp:lastPrinted>1998-10-16T08:49:08Z</cp:lastPrinted>
  <dcterms:modified xsi:type="dcterms:W3CDTF">2006-11-09T23:05:01Z</dcterms:modified>
  <cp:revision>675</cp:revision>
  <dc:subject/>
  <dc:title>Markers of Collagen Type I Metabolism</dc:title>
</cp:coreProperties>
</file>