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26.png" ContentType="image/png"/>
  <Override PartName="/ppt/media/image22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F4BA-CD87-462F-A1D3-38E150793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F1AC-D3A4-458D-8A3D-B1F81AD81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E0F0-E68F-4EFE-8798-8BCDD54B6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F41E-2C1A-4C96-8E51-29E053D2B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E5F0-3BE5-4C67-8764-EACA1BA15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5C4F-C2DB-4B06-9955-02BA4249C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ABC5-B908-45EA-A974-068C32736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9ECF-56CC-468C-9100-A8A72CBB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A062-879A-4288-BABE-674A281E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2728-70C8-40B6-9023-FC4DE374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F7D1-49F9-4562-8DAB-DC29D54D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0F55-F976-4A05-846E-06B3348E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BFF6-A569-4D69-A7D8-DC08AF89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D155-C897-4584-A7D9-F00EB413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41F9-25B9-484C-BAAD-C3C773D1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323F-313D-4AF9-B5B7-4B72959A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7BA0-B190-4053-A301-2B3EA7C3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09B8-5EB9-4ED1-AA2D-673892D9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6872-6D3A-4502-98F1-C28BCC67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a"/>
            </a:gs>
            <a:gs pos="50000">
              <a:srgbClr val="00005c"/>
            </a:gs>
            <a:gs pos="100000">
              <a:srgbClr val="0000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55BD-8E2A-4CB5-91D1-07C75808E5E8}" type="slidenum"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a"/>
            </a:gs>
            <a:gs pos="50000">
              <a:srgbClr val="00005c"/>
            </a:gs>
            <a:gs pos="100000">
              <a:srgbClr val="0000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00"/>
                </a:solidFill>
                <a:latin typeface="Times New Roman"/>
              </a:rPr>
              <a:t>LA PREVENZIONE DELLE MALATTIE MATERNE E NEONATALI</a:t>
            </a:r>
            <a:br>
              <a:rPr sz="2800"/>
            </a:br>
            <a:r>
              <a:rPr b="1" i="1" lang="it-IT" sz="2800" spc="-1" strike="noStrike">
                <a:solidFill>
                  <a:srgbClr val="ffff00"/>
                </a:solidFill>
                <a:latin typeface="Times New Roman"/>
              </a:rPr>
              <a:t>il punto di vista del gineco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05320" y="1752480"/>
            <a:ext cx="1733400" cy="346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76520" y="5424480"/>
            <a:ext cx="5486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Domenico Ardu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Università di Tor Vergata – R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9999"/>
                </a:solidFill>
                <a:latin typeface="Times New Roman"/>
                <a:ea typeface="Arial"/>
              </a:rPr>
              <a:t>arduini@uniroma2.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8320" cy="119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013600" y="0"/>
            <a:ext cx="11304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a"/>
            </a:gs>
            <a:gs pos="50000">
              <a:srgbClr val="00005c"/>
            </a:gs>
            <a:gs pos="100000">
              <a:srgbClr val="0000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Prevenzione secondaria</a:t>
            </a:r>
            <a:br>
              <a:rPr sz="40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deguato management di patologie materne not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3657600"/>
          </a:xfrm>
          <a:prstGeom prst="rect">
            <a:avLst/>
          </a:prstGeom>
          <a:solidFill>
            <a:srgbClr val="333333">
              <a:alpha val="90000"/>
            </a:srgbClr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abete Mell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pile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pertens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tologie della tiro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lattie cardiovascol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0" y="1981080"/>
            <a:ext cx="4038480" cy="3657600"/>
          </a:xfrm>
          <a:prstGeom prst="rect">
            <a:avLst/>
          </a:prstGeom>
          <a:solidFill>
            <a:srgbClr val="333333">
              <a:alpha val="90000"/>
            </a:srgbClr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turbi dell’u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llagenop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tre patologie dismetabol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a"/>
            </a:gs>
            <a:gs pos="50000">
              <a:srgbClr val="00005c"/>
            </a:gs>
            <a:gs pos="100000">
              <a:srgbClr val="0000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revenzione second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solidFill>
            <a:srgbClr val="333333">
              <a:alpha val="90000"/>
            </a:srgbClr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creening, diagnosi precoce e terapia di patologie materne in corso di gest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ontrolli seriati regolari peso  corporeo e 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- esami ematochimici ed esame 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IDENTIFICAZIONE PRECOCE DI ALTERAZIONI DELLA FUNZIONALITA’ EPATICA, RENALE E SINDROMI IPERTENSIVE DELLA GEST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a"/>
            </a:gs>
            <a:gs pos="50000">
              <a:srgbClr val="00005c"/>
            </a:gs>
            <a:gs pos="100000">
              <a:srgbClr val="0000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solidFill>
            <a:srgbClr val="1c1c1c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Laboratory TestsWomen at risk for preeclampsia/eclamp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Hemoglobi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Hematocrit/Platelet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Urine protein collection (12 or 24 ho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Serum creatin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Serum uric aci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Serum transaminase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Serum albumi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Coagulation 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5767560"/>
            <a:ext cx="76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777777"/>
                </a:solidFill>
                <a:latin typeface="Times New Roman"/>
                <a:ea typeface="Arial"/>
              </a:rPr>
              <a:t>Adapted from National High Blood Pressure Education Program. Working Group on High Blood Pressure in Pregnancy. Working group report on high blood pressure in pregnancy. Bethesda, Md.: U.S. Dept. of Health and Human Services, Public Health Service, National Institutes of Health, National Heart, Lung, and Blood Institute, 2000; NIH publication no. 00-3029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a"/>
            </a:gs>
            <a:gs pos="50000">
              <a:srgbClr val="00005c"/>
            </a:gs>
            <a:gs pos="100000">
              <a:srgbClr val="0000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2137680"/>
            <a:ext cx="7680600" cy="520560"/>
          </a:xfrm>
          <a:prstGeom prst="rect">
            <a:avLst/>
          </a:prstGeom>
          <a:solidFill>
            <a:srgbClr val="3333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RITARDO DI CRESCITA INTRAUTER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20680" y="4149720"/>
          <a:ext cx="8702640" cy="2311560"/>
        </p:xfrm>
        <a:graphic>
          <a:graphicData uri="http://schemas.openxmlformats.org/drawingml/2006/table">
            <a:tbl>
              <a:tblPr/>
              <a:tblGrid>
                <a:gridCol w="4743360"/>
                <a:gridCol w="39592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1c1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cidenza di IUG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1c1c">
                        <a:alpha val="50000"/>
                      </a:srgbClr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PERTENSI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GESTAZION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RECLAMPSIA -ECLAMPS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1c1c1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8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-70%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1c1c1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2207520" y="533520"/>
            <a:ext cx="456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00"/>
                </a:solidFill>
                <a:latin typeface="Times New Roman"/>
              </a:rPr>
              <a:t>Ipertensione gestazionale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00"/>
                </a:solidFill>
                <a:latin typeface="Times New Roman"/>
              </a:rPr>
              <a:t>preclamp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3760" y="2781360"/>
            <a:ext cx="1025280" cy="1152360"/>
          </a:xfrm>
          <a:prstGeom prst="downArrow">
            <a:avLst>
              <a:gd name="adj1" fmla="val 50000"/>
              <a:gd name="adj2" fmla="val 2809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5740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259760" y="0"/>
            <a:ext cx="18842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a"/>
            </a:gs>
            <a:gs pos="50000">
              <a:srgbClr val="00005c"/>
            </a:gs>
            <a:gs pos="100000">
              <a:srgbClr val="0000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9640" y="2207880"/>
            <a:ext cx="8224920" cy="1191240"/>
          </a:xfrm>
          <a:prstGeom prst="rect">
            <a:avLst/>
          </a:prstGeom>
          <a:solidFill>
            <a:srgbClr val="3333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23%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DEI PARTI 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PRETERMINE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È LEGATO AD UN’ INTERRUZIONE DELLA GRAVIDANZA SU INDICAZIONI MEDI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78400" y="6461280"/>
            <a:ext cx="38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Times New Roman"/>
              </a:rPr>
              <a:t>Gardner et al Obstet Gynecol 199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6800" y="4851360"/>
            <a:ext cx="4850280" cy="1312920"/>
          </a:xfrm>
          <a:prstGeom prst="rect">
            <a:avLst/>
          </a:prstGeom>
          <a:solidFill>
            <a:srgbClr val="808080">
              <a:alpha val="5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Times New Roman"/>
              </a:rPr>
              <a:t>44%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</a:rPr>
              <a:t>Ipertensione mater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0280" y="4851360"/>
            <a:ext cx="3131280" cy="1312920"/>
          </a:xfrm>
          <a:prstGeom prst="rect">
            <a:avLst/>
          </a:prstGeom>
          <a:solidFill>
            <a:srgbClr val="80808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Times New Roman"/>
              </a:rPr>
              <a:t>33%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</a:rPr>
              <a:t>distress fet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87680" y="3573360"/>
            <a:ext cx="1152360" cy="86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35560" y="3573360"/>
            <a:ext cx="1152720" cy="86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00200" cy="1359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055240" y="533520"/>
            <a:ext cx="456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00"/>
                </a:solidFill>
                <a:latin typeface="Times New Roman"/>
              </a:rPr>
              <a:t>Ipertensione gestazionale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00"/>
                </a:solidFill>
                <a:latin typeface="Times New Roman"/>
              </a:rPr>
              <a:t>preclamp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259760" y="0"/>
            <a:ext cx="18842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a"/>
            </a:gs>
            <a:gs pos="50000">
              <a:srgbClr val="00005c"/>
            </a:gs>
            <a:gs pos="100000">
              <a:srgbClr val="0000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revenzione second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solidFill>
            <a:srgbClr val="333333">
              <a:alpha val="90000"/>
            </a:srgbClr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creening, diagnosi precoce e terapia di patologie materne in corso di ges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- urinocoltura e colturale cervico vaginale a 14 (facoltativo) e 36 settimane (obbligator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7315200" cy="1681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981080" y="5408640"/>
            <a:ext cx="7162920" cy="1449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4572000"/>
            <a:ext cx="35053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4800600"/>
            <a:ext cx="3200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a"/>
            </a:gs>
            <a:gs pos="50000">
              <a:srgbClr val="00005c"/>
            </a:gs>
            <a:gs pos="100000">
              <a:srgbClr val="0000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revenzione second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solidFill>
            <a:srgbClr val="333333">
              <a:alpha val="90000"/>
            </a:srgbClr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creening, diagnosi precoce e terapia di patologie materne in corso di ges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43000" y="5638680"/>
            <a:ext cx="6943680" cy="571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90720" y="2514600"/>
            <a:ext cx="7267320" cy="2581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28600" y="2949480"/>
            <a:ext cx="8763120" cy="2773800"/>
          </a:xfrm>
          <a:prstGeom prst="rect">
            <a:avLst/>
          </a:prstGeom>
          <a:solidFill>
            <a:srgbClr val="333333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0066"/>
                </a:solidFill>
                <a:latin typeface="Times New Roman"/>
                <a:ea typeface="Arial"/>
              </a:rPr>
              <a:t>-</a:t>
            </a:r>
            <a:r>
              <a:rPr b="1" i="1" lang="it-IT" sz="4400" spc="-1" strike="noStrike">
                <a:solidFill>
                  <a:srgbClr val="ff0066"/>
                </a:solidFill>
                <a:latin typeface="Times New Roman"/>
                <a:ea typeface="Arial"/>
              </a:rPr>
              <a:t>53%</a:t>
            </a:r>
            <a:r>
              <a:rPr b="1" i="1" lang="it-IT" sz="3600" spc="-1" strike="noStrike">
                <a:solidFill>
                  <a:srgbClr val="ff0066"/>
                </a:solidFill>
                <a:latin typeface="Times New Roman"/>
                <a:ea typeface="Arial"/>
              </a:rPr>
              <a:t> MACROSOM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ff0066"/>
                </a:solidFill>
                <a:latin typeface="Times New Roman"/>
                <a:ea typeface="Arial"/>
              </a:rPr>
              <a:t>-67%</a:t>
            </a:r>
            <a:r>
              <a:rPr b="1" i="1" lang="it-IT" sz="3600" spc="-1" strike="noStrike">
                <a:solidFill>
                  <a:srgbClr val="ff0066"/>
                </a:solidFill>
                <a:latin typeface="Times New Roman"/>
                <a:ea typeface="Arial"/>
              </a:rPr>
              <a:t> COMPLICANZE MAGGIORI </a:t>
            </a:r>
            <a:r>
              <a:rPr b="1" i="1" lang="it-IT" sz="2400" spc="-1" strike="noStrike">
                <a:solidFill>
                  <a:srgbClr val="ff0066"/>
                </a:solidFill>
                <a:latin typeface="Times New Roman"/>
                <a:ea typeface="Arial"/>
              </a:rPr>
              <a:t>(DISTOCIA, TRAUMI DA PARTO, LESIONI NEUROLOGICHE, MORTALITA’ PERINAT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777777"/>
                </a:solidFill>
                <a:latin typeface="Times New Roman"/>
                <a:ea typeface="Arial"/>
              </a:rPr>
              <a:t>Clin Obstet Gynecol. 2007 Dec;50(4):949-958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a"/>
            </a:gs>
            <a:gs pos="50000">
              <a:srgbClr val="00005c"/>
            </a:gs>
            <a:gs pos="100000">
              <a:srgbClr val="0000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revenzione second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solidFill>
            <a:srgbClr val="333333">
              <a:alpha val="90000"/>
            </a:srgbClr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Screening, diagnosi precoce e terapia di patologie materne in corso di ges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 caso di emogruppo Rh NEG profilassi Ig-antiD post partum,  aborto o in caso di procedure invas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00"/>
                </a:solidFill>
                <a:latin typeface="Times New Roman"/>
              </a:rPr>
              <a:t>RR 0.12, 95% CI 0.07 to 0.2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Rischio isoimmunizzazione: profilassi vs placebo)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00"/>
                </a:solidFill>
                <a:latin typeface="Times New Roman"/>
              </a:rPr>
              <a:t>Cochrane Database of Systematic Reviews 1997, Iss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a"/>
            </a:gs>
            <a:gs pos="50000">
              <a:srgbClr val="00005c"/>
            </a:gs>
            <a:gs pos="100000">
              <a:srgbClr val="0000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revenzione second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solidFill>
            <a:srgbClr val="333333">
              <a:alpha val="90000"/>
            </a:srgbClr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Screening, diagnosi precoce e terapia di patologie materne in corso di ges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ierologia 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HBV: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rofilassi con Ig e vaccino nel nato da madre HBsAg+ (&gt;90% protezione vs no profilas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HIV: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ntiretrovirale + TC + allattamento artificiale 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ischio trasmissione verticale &lt;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HSV: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C elettivo vs parto vagin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OR. 0.14; 95% CI, 0.02-1.08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715000" y="5415120"/>
            <a:ext cx="342900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a"/>
            </a:gs>
            <a:gs pos="50000">
              <a:srgbClr val="00005c"/>
            </a:gs>
            <a:gs pos="100000">
              <a:srgbClr val="0000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revenzione second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2514600"/>
          </a:xfrm>
          <a:prstGeom prst="rect">
            <a:avLst/>
          </a:prstGeom>
          <a:solidFill>
            <a:srgbClr val="333333">
              <a:alpha val="90000"/>
            </a:srgbClr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Screening , diagnosi precoce e terapia di patologie fetali in corso di gest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Diagnosi prenatale ultrasonografica ed inva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5880" y="4305240"/>
            <a:ext cx="3048120" cy="2552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rcRect l="0" t="0" r="0" b="5446"/>
          <a:stretch/>
        </p:blipFill>
        <p:spPr>
          <a:xfrm>
            <a:off x="4419720" y="4648320"/>
            <a:ext cx="1904760" cy="1563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677000" y="3048120"/>
            <a:ext cx="1467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a"/>
            </a:gs>
            <a:gs pos="50000">
              <a:srgbClr val="00005c"/>
            </a:gs>
            <a:gs pos="100000">
              <a:srgbClr val="0000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476760" cy="4898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029200" y="5489640"/>
            <a:ext cx="4114800" cy="1368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47712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  <a:ea typeface="Arial"/>
              </a:rPr>
              <a:t>- 3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78920" y="33526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  <a:ea typeface="Arial"/>
              </a:rPr>
              <a:t>- 1.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a"/>
            </a:gs>
            <a:gs pos="50000">
              <a:srgbClr val="00005c"/>
            </a:gs>
            <a:gs pos="100000">
              <a:srgbClr val="0000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ffff00"/>
                </a:solidFill>
                <a:latin typeface="Times New Roman"/>
              </a:rPr>
              <a:t>Antenatal Diagnosis/Screening</a:t>
            </a:r>
            <a:br>
              <a:rPr sz="4000"/>
            </a:br>
            <a:r>
              <a:rPr b="1" i="1" lang="en-AU" sz="2800" spc="-1" strike="noStrike">
                <a:solidFill>
                  <a:srgbClr val="ffff00"/>
                </a:solidFill>
                <a:latin typeface="Times New Roman"/>
              </a:rPr>
              <a:t>first trimester scre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424720" cy="3672000"/>
          </a:xfrm>
          <a:prstGeom prst="rect">
            <a:avLst/>
          </a:prstGeom>
          <a:solidFill>
            <a:srgbClr val="000000">
              <a:alpha val="89000"/>
            </a:srgbClr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Età materna, NT, </a:t>
            </a:r>
            <a:r>
              <a:rPr b="1" lang="el-GR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β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HCG, PAPP-A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  <a:ea typeface="굴림"/>
              </a:rPr>
              <a:t>Sens. 90% (FP 5%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Markers precedenti + valutazione osso nasale:</a:t>
            </a:r>
            <a:r>
              <a:rPr b="1" lang="it-IT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  <a:ea typeface="굴림"/>
              </a:rPr>
              <a:t>Sens. 90% (FP 0.5%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580536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00"/>
                </a:solidFill>
                <a:latin typeface="Times New Roman"/>
                <a:ea typeface="굴림"/>
              </a:rPr>
              <a:t>Nicolaides KH et al </a:t>
            </a:r>
            <a:r>
              <a:rPr b="1" i="1" lang="en-GB" sz="1800" spc="-1" strike="noStrike">
                <a:solidFill>
                  <a:srgbClr val="ffff00"/>
                </a:solidFill>
                <a:latin typeface="Times New Roman"/>
                <a:ea typeface="굴림"/>
              </a:rPr>
              <a:t>Prenat Diagn. 2003 Apr;23(4):306-10</a:t>
            </a:r>
            <a:r>
              <a:rPr b="1" i="1" lang="it-IT" sz="1800" spc="-1" strike="noStrike">
                <a:solidFill>
                  <a:srgbClr val="ffff00"/>
                </a:solidFill>
                <a:latin typeface="Times New Roman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a"/>
            </a:gs>
            <a:gs pos="50000">
              <a:srgbClr val="00005c"/>
            </a:gs>
            <a:gs pos="100000">
              <a:srgbClr val="0000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ffff00"/>
                </a:solidFill>
                <a:latin typeface="Times New Roman"/>
              </a:rPr>
              <a:t>Antenatal Diagnosis/Screening</a:t>
            </a:r>
            <a:br>
              <a:rPr sz="4000"/>
            </a:br>
            <a:r>
              <a:rPr b="1" i="1" lang="en-AU" sz="2800" spc="-1" strike="noStrike">
                <a:solidFill>
                  <a:srgbClr val="ffff00"/>
                </a:solidFill>
                <a:latin typeface="Times New Roman"/>
              </a:rPr>
              <a:t>first trimester screening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000000">
              <a:alpha val="86000"/>
            </a:srgbClr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In feti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cromosomicamente normali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con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NT aument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è associata ad </a:t>
            </a:r>
            <a:r>
              <a:rPr b="1" i="1" lang="en-GB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aumentato rischio di CHD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dunque indicazione a </a:t>
            </a:r>
            <a:r>
              <a:rPr b="1" i="1" lang="en-GB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indagine ecocardiograf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imes New Roman"/>
                <a:ea typeface="굴림"/>
              </a:rPr>
              <a:t> </a:t>
            </a:r>
            <a:r>
              <a:rPr b="1" i="1" lang="en-GB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NT &gt; 95</a:t>
            </a:r>
            <a:r>
              <a:rPr b="1" i="1" lang="en-GB" sz="2800" spc="-1" strike="noStrike" baseline="30000">
                <a:solidFill>
                  <a:srgbClr val="ffffff"/>
                </a:solidFill>
                <a:latin typeface="Times New Roman"/>
                <a:ea typeface="굴림"/>
              </a:rPr>
              <a:t>th</a:t>
            </a:r>
            <a:r>
              <a:rPr b="1" i="1" lang="en-GB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 centile</a:t>
            </a:r>
            <a:r>
              <a:rPr b="1" i="1" lang="en-GB" sz="3600" spc="-1" strike="noStrike">
                <a:solidFill>
                  <a:srgbClr val="ffffff"/>
                </a:solidFill>
                <a:latin typeface="Times New Roman"/>
                <a:ea typeface="굴림"/>
              </a:rPr>
              <a:t>:</a:t>
            </a:r>
            <a:r>
              <a:rPr b="1" i="1" lang="en-GB" sz="3600" spc="-1" strike="noStrike">
                <a:solidFill>
                  <a:srgbClr val="ffff00"/>
                </a:solidFill>
                <a:latin typeface="Times New Roman"/>
                <a:ea typeface="굴림"/>
              </a:rPr>
              <a:t> sens 8% , </a:t>
            </a:r>
            <a:r>
              <a:rPr b="1" i="1" lang="en-GB" sz="3600" spc="-1" strike="noStrike">
                <a:solidFill>
                  <a:srgbClr val="ffffff"/>
                </a:solidFill>
                <a:latin typeface="Times New Roman"/>
                <a:ea typeface="굴림"/>
              </a:rPr>
              <a:t>LR 6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NT &gt; 99</a:t>
            </a:r>
            <a:r>
              <a:rPr b="1" i="1" lang="en-GB" sz="2800" spc="-1" strike="noStrike" baseline="30000">
                <a:solidFill>
                  <a:srgbClr val="ffffff"/>
                </a:solidFill>
                <a:latin typeface="Times New Roman"/>
                <a:ea typeface="굴림"/>
              </a:rPr>
              <a:t>th</a:t>
            </a:r>
            <a:r>
              <a:rPr b="1" i="1" lang="en-GB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 centile :</a:t>
            </a:r>
            <a:r>
              <a:rPr b="1" i="1" lang="en-GB" sz="3600" spc="-1" strike="noStrike">
                <a:solidFill>
                  <a:srgbClr val="ffff00"/>
                </a:solidFill>
                <a:latin typeface="Times New Roman"/>
                <a:ea typeface="굴림"/>
              </a:rPr>
              <a:t> sens 15% , </a:t>
            </a:r>
            <a:r>
              <a:rPr b="1" i="1" lang="en-GB" sz="3600" spc="-1" strike="noStrike">
                <a:solidFill>
                  <a:srgbClr val="ffffff"/>
                </a:solidFill>
                <a:latin typeface="Times New Roman"/>
                <a:ea typeface="굴림"/>
              </a:rPr>
              <a:t>LR 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808080"/>
                </a:solidFill>
                <a:latin typeface="Times New Roman"/>
                <a:ea typeface="굴림"/>
              </a:rPr>
              <a:t>associazione troppo debole per indicare NT come test di screening per CHD</a:t>
            </a:r>
            <a:r>
              <a:rPr b="1" i="1" lang="it-IT" sz="2800" spc="-1" strike="noStrike">
                <a:solidFill>
                  <a:srgbClr val="808080"/>
                </a:solidFill>
                <a:latin typeface="Times New Roman"/>
                <a:ea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64911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00"/>
                </a:solidFill>
                <a:latin typeface="Times New Roman"/>
              </a:rPr>
              <a:t>Muller MA et al, </a:t>
            </a:r>
            <a:r>
              <a:rPr b="1" i="1" lang="en-GB" sz="1800" spc="-1" strike="noStrike">
                <a:solidFill>
                  <a:srgbClr val="ffff00"/>
                </a:solidFill>
                <a:latin typeface="Times New Roman"/>
                <a:ea typeface="굴림"/>
              </a:rPr>
              <a:t>Prenat Diagn. 2007 Feb;27(2):164-9</a:t>
            </a:r>
            <a:r>
              <a:rPr b="1" i="1" lang="it-IT" sz="1800" spc="-1" strike="noStrike">
                <a:solidFill>
                  <a:srgbClr val="ffff00"/>
                </a:solidFill>
                <a:latin typeface="Times New Roman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a"/>
            </a:gs>
            <a:gs pos="50000">
              <a:srgbClr val="00005c"/>
            </a:gs>
            <a:gs pos="100000">
              <a:srgbClr val="0000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ffff00"/>
                </a:solidFill>
                <a:latin typeface="Times New Roman"/>
              </a:rPr>
              <a:t>Antenatal Diagnosis/Screening</a:t>
            </a:r>
            <a:br>
              <a:rPr sz="4000"/>
            </a:br>
            <a:r>
              <a:rPr b="1" i="1" lang="en-AU" sz="2800" spc="-1" strike="noStrike">
                <a:solidFill>
                  <a:srgbClr val="ffff00"/>
                </a:solidFill>
                <a:latin typeface="Times New Roman"/>
              </a:rPr>
              <a:t>first trimester screening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3671640"/>
          </a:xfrm>
          <a:prstGeom prst="rect">
            <a:avLst/>
          </a:prstGeom>
          <a:solidFill>
            <a:srgbClr val="000000">
              <a:alpha val="83000"/>
            </a:srgbClr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Sens. per anomalie maggi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11 + 0 to 13 + 6-week sca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  <a:ea typeface="굴림"/>
              </a:rPr>
              <a:t>70 - 83.7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08080"/>
                </a:solidFill>
                <a:latin typeface="Times New Roman"/>
                <a:ea typeface="굴림"/>
              </a:rPr>
              <a:t>51.9% (14/27) per NT &lt; 2.5 m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08080"/>
                </a:solidFill>
                <a:latin typeface="Times New Roman"/>
                <a:ea typeface="굴림"/>
              </a:rPr>
              <a:t>98.3% (58/59) per NT &gt;or= 2.5 mm</a:t>
            </a:r>
            <a:r>
              <a:rPr b="0" lang="en-GB" sz="3200" spc="-1" strike="noStrike">
                <a:solidFill>
                  <a:srgbClr val="808080"/>
                </a:solidFill>
                <a:latin typeface="Times New Roman"/>
                <a:ea typeface="굴림"/>
              </a:rPr>
              <a:t>.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41480" y="6021360"/>
            <a:ext cx="6626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Times New Roman"/>
                <a:ea typeface="굴림"/>
              </a:rPr>
              <a:t>Becker R et al, Ultrasound Obstet Gynecol. 2006 Jun;27(6):613-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Times New Roman"/>
                <a:ea typeface="굴림"/>
              </a:rPr>
              <a:t>Dane B et al, </a:t>
            </a:r>
            <a:r>
              <a:rPr b="1" i="1" lang="it-IT" sz="1800" spc="-1" strike="noStrike">
                <a:solidFill>
                  <a:srgbClr val="ffff00"/>
                </a:solidFill>
                <a:latin typeface="Times New Roman"/>
                <a:ea typeface="굴림"/>
              </a:rPr>
              <a:t>Acta Obstet Gynecol Scand. 2007;86(6):666-70</a:t>
            </a:r>
            <a:r>
              <a:rPr b="0" lang="it-IT" sz="1800" spc="-1" strike="noStrike">
                <a:solidFill>
                  <a:srgbClr val="ffff00"/>
                </a:solidFill>
                <a:latin typeface="Times New Roman"/>
                <a:ea typeface="굴림"/>
              </a:rPr>
              <a:t> </a:t>
            </a:r>
            <a:r>
              <a:rPr b="1" i="1" lang="it-IT" sz="1800" spc="-1" strike="noStrike">
                <a:solidFill>
                  <a:srgbClr val="ffff00"/>
                </a:solidFill>
                <a:latin typeface="Times New Roman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a"/>
            </a:gs>
            <a:gs pos="50000">
              <a:srgbClr val="00005c"/>
            </a:gs>
            <a:gs pos="100000">
              <a:srgbClr val="0000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229600" cy="3657600"/>
          </a:xfrm>
          <a:prstGeom prst="rect">
            <a:avLst/>
          </a:prstGeom>
          <a:solidFill>
            <a:srgbClr val="000000">
              <a:alpha val="87000"/>
            </a:srgbClr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00"/>
                </a:solidFill>
                <a:latin typeface="Times New Roman"/>
                <a:ea typeface="굴림"/>
              </a:rPr>
              <a:t>70-77%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 detection rate globale per anomalie maggiori e minori (</a:t>
            </a:r>
            <a:r>
              <a:rPr b="1" i="1" lang="en-GB" sz="3600" spc="-1" strike="noStrike">
                <a:solidFill>
                  <a:srgbClr val="ffff00"/>
                </a:solidFill>
                <a:latin typeface="Times New Roman"/>
                <a:ea typeface="굴림"/>
              </a:rPr>
              <a:t>100%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 per anomalie maggiori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Circa</a:t>
            </a:r>
            <a:r>
              <a:rPr b="1" i="1" lang="en-GB" sz="3600" spc="-1" strike="noStrike">
                <a:solidFill>
                  <a:srgbClr val="ffff00"/>
                </a:solidFill>
                <a:latin typeface="Times New Roman"/>
                <a:ea typeface="굴림"/>
              </a:rPr>
              <a:t> 9.9%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delle osservazioni US non confermate da autopsi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Discrepanze in circa </a:t>
            </a:r>
            <a:r>
              <a:rPr b="1" i="1" lang="en-GB" sz="3600" spc="-1" strike="noStrike">
                <a:solidFill>
                  <a:srgbClr val="ffff00"/>
                </a:solidFill>
                <a:latin typeface="Times New Roman"/>
                <a:ea typeface="굴림"/>
              </a:rPr>
              <a:t>40% 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  <a:ea typeface="굴림"/>
              </a:rPr>
              <a:t>delle gravidanze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.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87640" y="5803920"/>
            <a:ext cx="525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00"/>
                </a:solidFill>
                <a:latin typeface="Times New Roman"/>
              </a:rPr>
              <a:t>Agkun H </a:t>
            </a:r>
            <a:r>
              <a:rPr b="1" i="1" lang="en-GB" sz="1800" spc="-1" strike="noStrike">
                <a:solidFill>
                  <a:srgbClr val="ffff00"/>
                </a:solidFill>
                <a:latin typeface="Times New Roman"/>
                <a:ea typeface="굴림"/>
              </a:rPr>
              <a:t>Prenat Diagn. </a:t>
            </a:r>
            <a:r>
              <a:rPr b="1" i="1" lang="it-IT" sz="1800" spc="-1" strike="noStrike">
                <a:solidFill>
                  <a:srgbClr val="ffff00"/>
                </a:solidFill>
                <a:latin typeface="Times New Roman"/>
                <a:ea typeface="굴림"/>
              </a:rPr>
              <a:t>2007 May;27(5):457-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00"/>
                </a:solidFill>
                <a:latin typeface="Times New Roman"/>
                <a:ea typeface="굴림"/>
              </a:rPr>
              <a:t>Kaasen A et al, </a:t>
            </a:r>
            <a:r>
              <a:rPr b="1" i="1" lang="en-GB" sz="1800" spc="-1" strike="noStrike">
                <a:solidFill>
                  <a:srgbClr val="ffff00"/>
                </a:solidFill>
                <a:latin typeface="Times New Roman"/>
                <a:ea typeface="굴림"/>
              </a:rPr>
              <a:t>Ultrasound Obstet Gynecol. 2006 Dec;28(7):925-33</a:t>
            </a:r>
            <a:r>
              <a:rPr b="1" i="1" lang="it-IT" sz="1800" spc="-1" strike="noStrike">
                <a:solidFill>
                  <a:srgbClr val="ffff00"/>
                </a:solidFill>
                <a:latin typeface="Times New Roman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85800"/>
            <a:ext cx="8915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Times New Roman"/>
                <a:ea typeface="굴림"/>
              </a:rPr>
              <a:t>Eco morfologica II trim vs autopsie fetali post 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a"/>
            </a:gs>
            <a:gs pos="50000">
              <a:srgbClr val="00005c"/>
            </a:gs>
            <a:gs pos="100000">
              <a:srgbClr val="0000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revenzione second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1981080"/>
          </a:xfrm>
          <a:prstGeom prst="rect">
            <a:avLst/>
          </a:prstGeom>
          <a:solidFill>
            <a:srgbClr val="333333">
              <a:alpha val="90000"/>
            </a:srgbClr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Screening , diagnosi precoce e terapia di patologie fetali in corso di gest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Terapia fetale in utero di difetti congeni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971800" y="1219320"/>
            <a:ext cx="312408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a"/>
            </a:gs>
            <a:gs pos="50000">
              <a:srgbClr val="00005c"/>
            </a:gs>
            <a:gs pos="100000">
              <a:srgbClr val="0000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52480" y="1193760"/>
            <a:ext cx="6172200" cy="5664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5800" y="2743200"/>
            <a:ext cx="8077320" cy="1556280"/>
          </a:xfrm>
          <a:prstGeom prst="rect">
            <a:avLst/>
          </a:prstGeom>
          <a:solidFill>
            <a:srgbClr val="333333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800" spc="-1" strike="noStrike">
                <a:solidFill>
                  <a:srgbClr val="ff0066"/>
                </a:solidFill>
                <a:latin typeface="Times New Roman"/>
                <a:ea typeface="Arial"/>
              </a:rPr>
              <a:t>RIFERIRE A CENTRI SPECIALIZZA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rcRect l="0" t="0" r="0" b="32393"/>
          <a:stretch/>
        </p:blipFill>
        <p:spPr>
          <a:xfrm>
            <a:off x="3200400" y="0"/>
            <a:ext cx="289548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a"/>
            </a:gs>
            <a:gs pos="50000">
              <a:srgbClr val="00005c"/>
            </a:gs>
            <a:gs pos="100000">
              <a:srgbClr val="0000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revenzione terz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solidFill>
            <a:srgbClr val="333333">
              <a:alpha val="89000"/>
            </a:srgbClr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Identificazione e correzione precoce di errori congeniti del metabol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anagement di patologie mediche del neon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anagement chirurgico di difetti strutturali congen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llatta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a"/>
            </a:gs>
            <a:gs pos="50000">
              <a:srgbClr val="00005c"/>
            </a:gs>
            <a:gs pos="100000">
              <a:srgbClr val="0000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00200" y="2514600"/>
            <a:ext cx="5943600" cy="3960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-152280"/>
            <a:ext cx="1373040" cy="2743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738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a"/>
            </a:gs>
            <a:gs pos="50000">
              <a:srgbClr val="00005c"/>
            </a:gs>
            <a:gs pos="100000">
              <a:srgbClr val="0000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00"/>
                </a:solidFill>
                <a:latin typeface="Times New Roman"/>
              </a:rPr>
              <a:t>Counselling preconcezionale:</a:t>
            </a:r>
            <a:br>
              <a:rPr sz="3600"/>
            </a:br>
            <a:r>
              <a:rPr b="1" i="1" lang="it-IT" sz="3600" spc="-1" strike="noStrike">
                <a:solidFill>
                  <a:srgbClr val="ffff00"/>
                </a:solidFill>
                <a:latin typeface="Times New Roman"/>
              </a:rPr>
              <a:t>opportunità di prevenzione prim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25040" cy="3876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191120" y="6019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ASSR 2004  - Linee guida per l’ assistenza alla gravidanza e al parto fisiolo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a"/>
            </a:gs>
            <a:gs pos="50000">
              <a:srgbClr val="00005c"/>
            </a:gs>
            <a:gs pos="100000">
              <a:srgbClr val="0000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revenzione prim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solidFill>
            <a:srgbClr val="333333">
              <a:alpha val="90000"/>
            </a:srgbClr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Nutrizione ma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deguato stato nutrizionale ma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upplementazione con acido folico ed altri micronutr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ssetto mat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ORCH, HBV, HCV, HIV, T.Pallidum, tampone vaginale e pap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revenzione esposizione a teratogeni ambient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lcool, fumo, farmaci e sostanze stupefacenti, agenti infettivi di cui si è dimostrata la mancata protezione, radiazioni ionizz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a"/>
            </a:gs>
            <a:gs pos="50000">
              <a:srgbClr val="00005c"/>
            </a:gs>
            <a:gs pos="100000">
              <a:srgbClr val="0000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2276640"/>
            <a:ext cx="8496000" cy="3097080"/>
          </a:xfrm>
          <a:prstGeom prst="rect">
            <a:avLst/>
          </a:prstGeom>
          <a:solidFill>
            <a:srgbClr val="4d4d4d">
              <a:alpha val="87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Prevenzione primaria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rofilassi antitrombo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234756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2/3 EPISODI IN GRAVID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74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00"/>
                </a:solidFill>
                <a:latin typeface="Times New Roman"/>
              </a:rPr>
              <a:t>50% I-II trimes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1/3 EPISODI IN PUERPE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74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00"/>
                </a:solidFill>
                <a:latin typeface="Times New Roman"/>
              </a:rPr>
              <a:t>40% dei casi tra 15° e 42° gio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9922" t="6639" r="8201" b="10657"/>
          <a:stretch/>
        </p:blipFill>
        <p:spPr>
          <a:xfrm>
            <a:off x="0" y="0"/>
            <a:ext cx="1050840" cy="1052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0" b="12294"/>
          <a:stretch/>
        </p:blipFill>
        <p:spPr>
          <a:xfrm>
            <a:off x="8028000" y="0"/>
            <a:ext cx="1116000" cy="985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29200" y="5641920"/>
            <a:ext cx="358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777777"/>
                </a:solidFill>
                <a:latin typeface="Times New Roman"/>
                <a:ea typeface="Arial"/>
              </a:rPr>
              <a:t>Greer IA. Thrombosis in pregnancy: maternal and fetal issues. </a:t>
            </a:r>
            <a:r>
              <a:rPr b="1" i="1" lang="it-IT" sz="1800" spc="-1" strike="noStrike">
                <a:solidFill>
                  <a:srgbClr val="777777"/>
                </a:solidFill>
                <a:latin typeface="Times New Roman"/>
                <a:ea typeface="Arial"/>
              </a:rPr>
              <a:t>Lancet 1999; 353: 1258–265</a:t>
            </a:r>
            <a:r>
              <a:rPr b="0" lang="it-IT" sz="1800" spc="-1" strike="noStrike">
                <a:solidFill>
                  <a:srgbClr val="777777"/>
                </a:solidFill>
                <a:latin typeface="Times New Roman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a"/>
            </a:gs>
            <a:gs pos="50000">
              <a:srgbClr val="00005c"/>
            </a:gs>
            <a:gs pos="100000">
              <a:srgbClr val="0000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Prevenzione primaria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rofilassi antitrombo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9922" t="6639" r="8201" b="10657"/>
          <a:stretch/>
        </p:blipFill>
        <p:spPr>
          <a:xfrm>
            <a:off x="0" y="0"/>
            <a:ext cx="1050840" cy="105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457200" y="1219320"/>
          <a:ext cx="8229600" cy="5495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F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70707"/>
                        </a:gs>
                        <a:gs pos="50000">
                          <a:srgbClr val="111111"/>
                        </a:gs>
                        <a:gs pos="100000">
                          <a:srgbClr val="07070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Profilassi antepar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LMW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70707"/>
                        </a:gs>
                        <a:gs pos="50000">
                          <a:srgbClr val="111111"/>
                        </a:gs>
                        <a:gs pos="100000">
                          <a:srgbClr val="07070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Profilassi postpar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LMW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70707"/>
                        </a:gs>
                        <a:gs pos="50000">
                          <a:srgbClr val="111111"/>
                        </a:gs>
                        <a:gs pos="100000">
                          <a:srgbClr val="070707"/>
                        </a:gs>
                      </a:gsLst>
                      <a:lin ang="5400000"/>
                    </a:gradFill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VTE ricorr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VTE pregr +  storia famili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70707"/>
                        </a:gs>
                        <a:gs pos="50000">
                          <a:srgbClr val="111111"/>
                        </a:gs>
                        <a:gs pos="100000">
                          <a:srgbClr val="07070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99cc00"/>
                          </a:solidFill>
                          <a:latin typeface="Times New Roman"/>
                          <a:ea typeface="Arial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70707"/>
                        </a:gs>
                        <a:gs pos="50000">
                          <a:srgbClr val="111111"/>
                        </a:gs>
                        <a:gs pos="100000">
                          <a:srgbClr val="07070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I- 6 settim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70707"/>
                        </a:gs>
                        <a:gs pos="50000">
                          <a:srgbClr val="111111"/>
                        </a:gs>
                        <a:gs pos="100000">
                          <a:srgbClr val="070707"/>
                        </a:gs>
                      </a:gsLst>
                      <a:lin ang="5400000"/>
                    </a:gra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VTE singolo per FR non in a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70707"/>
                        </a:gs>
                        <a:gs pos="50000">
                          <a:srgbClr val="111111"/>
                        </a:gs>
                        <a:gs pos="100000">
                          <a:srgbClr val="07070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70707"/>
                        </a:gs>
                        <a:gs pos="50000">
                          <a:srgbClr val="111111"/>
                        </a:gs>
                        <a:gs pos="100000">
                          <a:srgbClr val="07070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I- 6 settim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70707"/>
                        </a:gs>
                        <a:gs pos="50000">
                          <a:srgbClr val="111111"/>
                        </a:gs>
                        <a:gs pos="100000">
                          <a:srgbClr val="070707"/>
                        </a:gs>
                      </a:gsLst>
                      <a:lin ang="5400000"/>
                    </a:gra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VTE+ trombofi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70707"/>
                        </a:gs>
                        <a:gs pos="50000">
                          <a:srgbClr val="111111"/>
                        </a:gs>
                        <a:gs pos="100000">
                          <a:srgbClr val="07070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99cc00"/>
                          </a:solidFill>
                          <a:latin typeface="Times New Roman"/>
                          <a:ea typeface="Arial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70707"/>
                        </a:gs>
                        <a:gs pos="50000">
                          <a:srgbClr val="111111"/>
                        </a:gs>
                        <a:gs pos="100000">
                          <a:srgbClr val="07070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I- 6 settim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70707"/>
                        </a:gs>
                        <a:gs pos="50000">
                          <a:srgbClr val="111111"/>
                        </a:gs>
                        <a:gs pos="100000">
                          <a:srgbClr val="070707"/>
                        </a:gs>
                      </a:gsLst>
                      <a:lin ang="5400000"/>
                    </a:gra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trombofi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70707"/>
                        </a:gs>
                        <a:gs pos="50000">
                          <a:srgbClr val="111111"/>
                        </a:gs>
                        <a:gs pos="100000">
                          <a:srgbClr val="07070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dipende dal tipo e altri F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70707"/>
                        </a:gs>
                        <a:gs pos="50000">
                          <a:srgbClr val="111111"/>
                        </a:gs>
                        <a:gs pos="100000">
                          <a:srgbClr val="07070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dipende dal tipo e altri F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70707"/>
                        </a:gs>
                        <a:gs pos="50000">
                          <a:srgbClr val="111111"/>
                        </a:gs>
                        <a:gs pos="100000">
                          <a:srgbClr val="070707"/>
                        </a:gs>
                      </a:gsLst>
                      <a:lin ang="5400000"/>
                    </a:gradFill>
                  </a:tcPr>
                </a:tc>
              </a:tr>
              <a:tr h="62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70707"/>
                        </a:gs>
                        <a:gs pos="50000">
                          <a:srgbClr val="111111"/>
                        </a:gs>
                        <a:gs pos="100000">
                          <a:srgbClr val="07070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99cc00"/>
                          </a:solidFill>
                          <a:latin typeface="Times New Roman"/>
                          <a:ea typeface="Arial"/>
                        </a:rPr>
                        <a:t>SI+ A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70707"/>
                        </a:gs>
                        <a:gs pos="50000">
                          <a:srgbClr val="111111"/>
                        </a:gs>
                        <a:gs pos="100000">
                          <a:srgbClr val="07070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I- 3/5 gior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70707"/>
                        </a:gs>
                        <a:gs pos="50000">
                          <a:srgbClr val="111111"/>
                        </a:gs>
                        <a:gs pos="100000">
                          <a:srgbClr val="070707"/>
                        </a:gs>
                      </a:gsLst>
                      <a:lin ang="5400000"/>
                    </a:gra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 o &gt; F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070707"/>
                        </a:gs>
                        <a:gs pos="50000">
                          <a:srgbClr val="111111"/>
                        </a:gs>
                        <a:gs pos="100000">
                          <a:srgbClr val="07070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99cc00"/>
                          </a:solidFill>
                          <a:latin typeface="Times New Roman"/>
                          <a:ea typeface="Arial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070707"/>
                        </a:gs>
                        <a:gs pos="50000">
                          <a:srgbClr val="111111"/>
                        </a:gs>
                        <a:gs pos="100000">
                          <a:srgbClr val="07070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I- 3/5 gior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070707"/>
                        </a:gs>
                        <a:gs pos="50000">
                          <a:srgbClr val="111111"/>
                        </a:gs>
                        <a:gs pos="100000">
                          <a:srgbClr val="070707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124840" y="0"/>
            <a:ext cx="1019160" cy="1143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5800" y="297180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365760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41972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541008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601992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2133720"/>
            <a:ext cx="0" cy="4495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2133720"/>
            <a:ext cx="0" cy="4495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a"/>
            </a:gs>
            <a:gs pos="50000">
              <a:srgbClr val="00005c"/>
            </a:gs>
            <a:gs pos="100000">
              <a:srgbClr val="0000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Prevenzione primaria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rofilassi antitrombo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2698" r="0" b="3087"/>
          <a:stretch/>
        </p:blipFill>
        <p:spPr>
          <a:xfrm>
            <a:off x="1066680" y="1447920"/>
            <a:ext cx="6767640" cy="4690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721400" y="4989600"/>
            <a:ext cx="442260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a"/>
            </a:gs>
            <a:gs pos="50000">
              <a:srgbClr val="00005c"/>
            </a:gs>
            <a:gs pos="100000">
              <a:srgbClr val="0000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0" y="2432160"/>
            <a:ext cx="5977080" cy="4425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496360" cy="673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4360" y="0"/>
            <a:ext cx="7777080" cy="1323000"/>
          </a:xfrm>
          <a:prstGeom prst="rect">
            <a:avLst/>
          </a:prstGeom>
          <a:solidFill>
            <a:srgbClr val="333333">
              <a:alpha val="87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ec37"/>
                </a:solidFill>
                <a:latin typeface="Times New Roman"/>
                <a:ea typeface="Arial"/>
              </a:rPr>
              <a:t>Pz con trombofili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ec37"/>
                </a:solidFill>
                <a:latin typeface="Times New Roman"/>
                <a:ea typeface="Arial"/>
              </a:rPr>
              <a:t>no anamnesi per V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140680" y="0"/>
            <a:ext cx="1003320" cy="1125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76520" y="34290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38098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41148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3581280"/>
            <a:ext cx="1600200" cy="152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3886200"/>
            <a:ext cx="1676520" cy="228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4191120"/>
            <a:ext cx="1828800" cy="228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a"/>
            </a:gs>
            <a:gs pos="50000">
              <a:srgbClr val="00005c"/>
            </a:gs>
            <a:gs pos="100000">
              <a:srgbClr val="0000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revenzione second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2666880"/>
          </a:xfrm>
          <a:prstGeom prst="rect">
            <a:avLst/>
          </a:prstGeom>
          <a:solidFill>
            <a:srgbClr val="333333">
              <a:alpha val="88000"/>
            </a:srgbClr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anagement medico di condizioni patologiche materno/fetali in corso di gest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Terapie invasive/chirurgiche in ut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17:34:21Z</dcterms:created>
  <dc:creator>Kaiser</dc:creator>
  <dc:description/>
  <dc:language>en-US</dc:language>
  <cp:lastModifiedBy>Domenico Arduini</cp:lastModifiedBy>
  <cp:lastPrinted>2002-02-19T21:50:25Z</cp:lastPrinted>
  <dcterms:modified xsi:type="dcterms:W3CDTF">2007-11-08T22:35:14Z</dcterms:modified>
  <cp:revision>75</cp:revision>
  <dc:subject/>
  <dc:title>PREVENTION OF BIRTH DEFECTS</dc:title>
</cp:coreProperties>
</file>