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1CB-33B0-4C0F-B9D8-C0E821D4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81A-FE7C-4713-9D4D-26C50629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E8C-BAF3-42E2-8FFA-C4E29319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F52-D73A-4B05-8B8E-E537CC0F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98A-4508-4217-8D3F-1633484A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E19-ED29-42DD-9764-8C178471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57A-F8F5-4836-96FB-4B6FC48A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A60-FB60-47A8-82FB-6399E43D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FA0-CBDA-4BF1-B66D-2F932B5C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509-AD13-4055-979D-6C64E628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2FA-DC7B-4103-8829-C7F60B74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DBE-B676-43B1-85F2-091D223A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9486-C83C-40E0-99CF-1146ABF24A0B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83E9-75A1-4FF1-8ABA-BFDAE1095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30000"/>
          </a:blip>
          <a:srcRect l="49679" t="0" r="0" b="0"/>
          <a:stretch/>
        </p:blipFill>
        <p:spPr>
          <a:xfrm>
            <a:off x="1111320" y="1125360"/>
            <a:ext cx="2017800" cy="4248360"/>
          </a:xfrm>
          <a:prstGeom prst="rect">
            <a:avLst/>
          </a:prstGeom>
          <a:ln w="50760">
            <a:solidFill>
              <a:srgbClr val="c5c5c5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48040" y="4652640"/>
            <a:ext cx="561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9d9d9"/>
                </a:solidFill>
                <a:latin typeface="Tahoma"/>
              </a:rPr>
              <a:t>Roma, 9.11.2007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86280" y="1125000"/>
            <a:ext cx="720072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9d9d9"/>
                </a:solidFill>
                <a:latin typeface="Tahoma"/>
              </a:rPr>
              <a:t>Congresso Nazion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6600" y="404640"/>
            <a:ext cx="9288360" cy="5400720"/>
          </a:xfrm>
          <a:prstGeom prst="rect">
            <a:avLst/>
          </a:prstGeom>
          <a:noFill/>
          <a:ln w="25560">
            <a:solidFill>
              <a:srgbClr val="c5c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13359" t="0" r="10101" b="0"/>
          <a:stretch/>
        </p:blipFill>
        <p:spPr>
          <a:xfrm>
            <a:off x="5791320" y="2421000"/>
            <a:ext cx="1800000" cy="1773000"/>
          </a:xfrm>
          <a:prstGeom prst="rect">
            <a:avLst/>
          </a:prstGeom>
          <a:ln w="38160">
            <a:solidFill>
              <a:srgbClr val="c5c5c5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88040" y="2060640"/>
            <a:ext cx="2592360" cy="235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A5D-F156-4559-93E5-21D90A4C762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3E577-B235-420F-A1EE-63CEB158C7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0600" y="1413000"/>
            <a:ext cx="9524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ff"/>
                </a:solidFill>
                <a:latin typeface="Times New Roman"/>
              </a:rPr>
              <a:t>Fattori di natura “endocrin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1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Presuppost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440" indent="-248040" algn="just">
              <a:spcBef>
                <a:spcPts val="125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Pazienti con </a:t>
            </a:r>
            <a:r>
              <a:rPr b="0" lang="it-IT" sz="2100" spc="-1" strike="noStrike">
                <a:solidFill>
                  <a:srgbClr val="ffcc66"/>
                </a:solidFill>
                <a:latin typeface="Times New Roman"/>
              </a:rPr>
              <a:t>ipopituitarismo</a:t>
            </a: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 e/o disturbi neurologici con interessamento dell’asse ipotalamo-ipofisi presentano spesso criptorchidismo neonatale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440" indent="-248040" algn="just">
              <a:spcBef>
                <a:spcPts val="125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Frequente </a:t>
            </a:r>
            <a:r>
              <a:rPr b="0" lang="it-IT" sz="2100" spc="-1" strike="noStrike">
                <a:solidFill>
                  <a:srgbClr val="ffcc66"/>
                </a:solidFill>
                <a:latin typeface="Times New Roman"/>
              </a:rPr>
              <a:t>assenza di ostacoli anatomici</a:t>
            </a: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 dimostrabili alla migrazione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440" indent="-248040" algn="just">
              <a:spcBef>
                <a:spcPts val="113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66"/>
                </a:solidFill>
                <a:latin typeface="Times New Roman"/>
              </a:rPr>
              <a:t>Ridotti livelli di LH e di testosterone</a:t>
            </a: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 tra il 60° e il 90° giorno di vita nei criptorchidi vs. lattanti con discesa spontanea post-natale </a:t>
            </a:r>
            <a:r>
              <a:rPr b="0" lang="it-IT" sz="1900" spc="-1" strike="noStrike">
                <a:solidFill>
                  <a:srgbClr val="ffffff"/>
                </a:solidFill>
                <a:latin typeface="Times New Roman"/>
              </a:rPr>
              <a:t>(Job</a:t>
            </a:r>
            <a:r>
              <a:rPr b="0" i="1" lang="it-IT" sz="1900" spc="-1" strike="noStrike">
                <a:solidFill>
                  <a:srgbClr val="ffffff"/>
                </a:solidFill>
                <a:latin typeface="Times New Roman"/>
              </a:rPr>
              <a:t> et al</a:t>
            </a:r>
            <a:r>
              <a:rPr b="0" lang="it-IT" sz="1900" spc="-1" strike="noStrike">
                <a:solidFill>
                  <a:srgbClr val="ffffff"/>
                </a:solidFill>
                <a:latin typeface="Times New Roman"/>
              </a:rPr>
              <a:t>, 1987)</a:t>
            </a: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: un ipoandrogenismo neonatale è compatibile con atrofia delle cellule del Leydig, difetti della giunzione e ridotta secrezione neonatale di testosterone. Tale dato non è stato però confermato recentemente</a:t>
            </a:r>
            <a:r>
              <a:rPr b="0" lang="it-IT" sz="1900" spc="-1" strike="noStrike">
                <a:solidFill>
                  <a:srgbClr val="ffffff"/>
                </a:solidFill>
                <a:latin typeface="Times New Roman"/>
              </a:rPr>
              <a:t> (Haavisto </a:t>
            </a:r>
            <a:r>
              <a:rPr b="0" i="1" lang="it-IT" sz="19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1900" spc="-1" strike="noStrike">
                <a:solidFill>
                  <a:srgbClr val="ffffff"/>
                </a:solidFill>
                <a:latin typeface="Times New Roman"/>
              </a:rPr>
              <a:t>; 1999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1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Modalit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440" indent="-248040" algn="just">
              <a:spcBef>
                <a:spcPts val="113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Per trasformazioni chimico-fisiche sul gubernaculum testis</a:t>
            </a:r>
            <a:r>
              <a:rPr b="0" lang="it-IT" sz="1900" spc="-1" strike="noStrike">
                <a:solidFill>
                  <a:srgbClr val="ffffff"/>
                </a:solidFill>
                <a:latin typeface="Times New Roman"/>
              </a:rPr>
              <a:t> (Backhouse, 1981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440" indent="-248040" algn="just">
              <a:spcBef>
                <a:spcPts val="113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Per differenziazione delle strutture wolffiane </a:t>
            </a:r>
            <a:r>
              <a:rPr b="0" lang="it-IT" sz="1900" spc="-1" strike="noStrike">
                <a:solidFill>
                  <a:srgbClr val="ffffff"/>
                </a:solidFill>
                <a:latin typeface="Times New Roman"/>
              </a:rPr>
              <a:t>(Hadziselimovic, 1990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440" indent="-248040" algn="just">
              <a:spcBef>
                <a:spcPts val="113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Per sintesi di CGRP da parte del nucleo del genito-femorale </a:t>
            </a:r>
            <a:r>
              <a:rPr b="0" lang="it-IT" sz="1900" spc="-1" strike="noStrike">
                <a:solidFill>
                  <a:srgbClr val="ffffff"/>
                </a:solidFill>
                <a:latin typeface="Times New Roman"/>
              </a:rPr>
              <a:t>(Hutson, 1992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440" indent="-248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62120" y="0"/>
            <a:ext cx="8762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457200"/>
            <a:ext cx="6324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33744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2520" y="533520"/>
            <a:ext cx="603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Migrazione del testicolo. IV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F4D-9461-4032-B5C1-CE13A6A879B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45EF2-C33B-48C6-B931-9EF319E57B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0"/>
            <a:ext cx="9067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Il testicolo criptorchide, se non adeguatamente trattato, può presentare  una compromissione della funzione spermatogene-tica c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5480" algn="just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clerosi o ialinizzazione peritubular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5480" algn="just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trofia delle cellule del Leydi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5480" algn="just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itardo maturativo degli spermatogoni nel primo anno di vita e riduzione del numero delle cellule germinali successiv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Le alterazioni istologiche possono esser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5480" algn="just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primitive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displasia primitiva della gonad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5480" algn="just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secondarie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l mancato riposizionamento del testicolo nello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 scro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33520"/>
            <a:ext cx="8001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cc66"/>
                </a:solidFill>
                <a:latin typeface="Times New Roman"/>
              </a:rPr>
              <a:t>CRIPTORCHIDISMO.</a:t>
            </a:r>
            <a:br>
              <a:rPr sz="4200"/>
            </a:br>
            <a:r>
              <a:rPr b="0" i="1" lang="it-IT" sz="4200" spc="-1" strike="noStrike">
                <a:solidFill>
                  <a:srgbClr val="ffcc66"/>
                </a:solidFill>
                <a:latin typeface="Times New Roman"/>
              </a:rPr>
              <a:t>ASPETTI ISTOLOGICI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04920"/>
            <a:ext cx="75438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2CE-9D03-4D8D-9A8E-711E5D15519B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7E1B7-A612-4880-9611-FB5F5003D3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67652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ccff"/>
                </a:solidFill>
                <a:latin typeface="Times New Roman"/>
              </a:rPr>
              <a:t>Obiettivi della terapia</a:t>
            </a:r>
            <a:r>
              <a:rPr b="0" lang="it-IT" sz="2800" spc="-1" strike="noStrike">
                <a:solidFill>
                  <a:srgbClr val="00c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osizionare il testicolo nello scroto con lo scopo d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proteggere l’organo, evitando l’esposizione a temperature più elevate, garantendo una normale funzione endocrina e una normale fertilità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prevenire l’insorgenza di  neoplasie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ridurre l’evenienza di danni meccanici testicolari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 algn="just"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consentire un normale sviluppo volumetrico testicola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acilitare il chirurgo nel riposizionare il testicolo nello scroto </a:t>
            </a: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trattamento neoadiuvante</a:t>
            </a: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la fase post-chirurgica, garantire una normale funzione gonadica e proteggere dal danno seminale </a:t>
            </a: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trattamento adiuvante</a:t>
            </a: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5400" y="4777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57200"/>
            <a:ext cx="52578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8600" y="609480"/>
            <a:ext cx="48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CRIPTORCHIDIS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9A6-9697-4C44-81C8-421509B638F7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C2DA8-B272-4E14-97D1-DED97CC282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Ormoni impiegat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Testoster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Gonadotropina corionica umana (Gonasi HP</a:t>
            </a:r>
            <a:r>
              <a:rPr b="0" lang="it-IT" sz="32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, Pregnyl </a:t>
            </a:r>
            <a:r>
              <a:rPr b="0" lang="it-IT" sz="32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Gonadotropina corionica della menopausa o menotropina (Menogon</a:t>
            </a:r>
            <a:r>
              <a:rPr b="0" lang="it-IT" sz="3200" spc="-1" strike="noStrike" baseline="30000">
                <a:solidFill>
                  <a:srgbClr val="ffffff"/>
                </a:solidFill>
                <a:latin typeface="Times New Roman"/>
              </a:rPr>
              <a:t>®,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,Humegon</a:t>
            </a:r>
            <a:r>
              <a:rPr b="0" lang="it-IT" sz="32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Gonadorelina (Kryptocur spray</a:t>
            </a:r>
            <a:r>
              <a:rPr b="0" lang="it-IT" sz="32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Buserelin Acetato (Suprefact nasale</a:t>
            </a:r>
            <a:r>
              <a:rPr b="0" lang="it-IT" sz="32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5400" y="4795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RIPTORCHIDISMO</a:t>
            </a:r>
            <a:br>
              <a:rPr sz="4400"/>
            </a:br>
            <a:r>
              <a:rPr b="0" i="1" lang="it-IT" sz="4400" spc="-1" strike="noStrike">
                <a:solidFill>
                  <a:srgbClr val="ffcc66"/>
                </a:solidFill>
                <a:latin typeface="Times New Roman"/>
              </a:rPr>
              <a:t>TERAPIA MED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80880"/>
            <a:ext cx="5943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A3E-71DA-4152-9FD3-13DEB694837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18664-77A4-4FC3-87DD-8ACA583840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71480" y="1916280"/>
            <a:ext cx="95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11920" indent="-511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Gonadotropina corionica um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Ha un’azione LH-simil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Via di somministrazione: intramuscol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Migliore risposta: tra 2 e 6 anni (?)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(De Rosa </a:t>
            </a:r>
            <a:r>
              <a:rPr b="0" i="1" lang="it-IT" sz="2600" spc="-1" strike="noStrike">
                <a:solidFill>
                  <a:srgbClr val="ffffff"/>
                </a:solidFill>
                <a:latin typeface="Times New Roman"/>
              </a:rPr>
              <a:t>et al.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, 1983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Dosi più comunemente propost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5680" indent="-447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1. Da sola: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&lt; 2 anni: 250 UI per 2 volte/sett per 5-6 settima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95680" indent="-447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3-5 anni: 500 UI per 2 volte/sett per 5-6 settimane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95680" indent="-447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&gt; 6 anni: 1000 UI per 2 volte/sett per 5-6 settima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95680" indent="-4478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2. Dopo gonadorelina: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500 UI/sett per 3-6 settim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95680" indent="-4478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5400" y="4795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RIPTORCHIDISMO</a:t>
            </a:r>
            <a:br>
              <a:rPr sz="4400"/>
            </a:br>
            <a:r>
              <a:rPr b="0" i="1" lang="it-IT" sz="4400" spc="-1" strike="noStrike">
                <a:solidFill>
                  <a:srgbClr val="ffcc66"/>
                </a:solidFill>
                <a:latin typeface="Times New Roman"/>
              </a:rPr>
              <a:t>TERAPIA MED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80880"/>
            <a:ext cx="5943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705-7ED1-4243-962F-3DD606097D7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FBA83-4AFA-45C0-BD66-4ACBC57003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71480" y="1981080"/>
            <a:ext cx="890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Menotrop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Ha un’azione FSH-simile: causa un aumento dei recettori per l’L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Via di somministrazione: intramuscol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Non approvata dal Ministero della Sanità per l’uso a carico del SSN nel criptorchidis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mpiegata in associazione all’hCG alla dose di 75 UI  a settimana per 5-6 settim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5400" y="4795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RIPTORCHIDISMO</a:t>
            </a:r>
            <a:br>
              <a:rPr sz="4400"/>
            </a:br>
            <a:r>
              <a:rPr b="0" i="1" lang="it-IT" sz="4400" spc="-1" strike="noStrike">
                <a:solidFill>
                  <a:srgbClr val="ffcc66"/>
                </a:solidFill>
                <a:latin typeface="Times New Roman"/>
              </a:rPr>
              <a:t>TERAPIA MED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380880"/>
            <a:ext cx="5943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7B4-209C-4C02-9688-130320E4303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10BF3-74AF-4617-88C9-0C029CA86B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0960" y="198900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Gonadorelina </a:t>
            </a:r>
            <a:r>
              <a:rPr b="0" lang="it-IT" sz="3200" spc="-1" strike="noStrike">
                <a:solidFill>
                  <a:srgbClr val="00ccff"/>
                </a:solidFill>
                <a:latin typeface="Times New Roman"/>
              </a:rPr>
              <a:t>(Kriptocur</a:t>
            </a:r>
            <a:r>
              <a:rPr b="0" lang="it-IT" sz="3200" spc="-1" strike="noStrike" baseline="30000">
                <a:solidFill>
                  <a:srgbClr val="00ccff"/>
                </a:solidFill>
                <a:latin typeface="Times New Roman"/>
              </a:rPr>
              <a:t>®</a:t>
            </a:r>
            <a:r>
              <a:rPr b="0" lang="it-IT" sz="3200" spc="-1" strike="noStrike">
                <a:solidFill>
                  <a:srgbClr val="00c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È GnRH (o LHR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Via di somministrazione: intranas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mpieg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da sola alla dose di 100 </a:t>
            </a:r>
            <a:r>
              <a:rPr b="0" lang="it-IT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g (1 spruzzo) per narice per 3 volte al giorno per 4 settimane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prima della somministrazione di hCG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400" y="4795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RIPTORCHIDISMO:</a:t>
            </a:r>
            <a:br>
              <a:rPr sz="4400"/>
            </a:br>
            <a:r>
              <a:rPr b="0" i="1" lang="it-IT" sz="4400" spc="-1" strike="noStrike">
                <a:solidFill>
                  <a:srgbClr val="ffcc66"/>
                </a:solidFill>
                <a:latin typeface="Times New Roman"/>
              </a:rPr>
              <a:t>TERAPIA MED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80880"/>
            <a:ext cx="5943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422-1F20-447C-A354-15CF7ED17F14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3FEFD-B3D2-4557-A678-0962E236C3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0960" y="2133720"/>
            <a:ext cx="890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Buserelin Acetato </a:t>
            </a:r>
            <a:r>
              <a:rPr b="0" lang="it-IT" sz="3200" spc="-1" strike="noStrike">
                <a:solidFill>
                  <a:srgbClr val="00ccff"/>
                </a:solidFill>
                <a:latin typeface="Times New Roman"/>
              </a:rPr>
              <a:t>(Suprefact</a:t>
            </a:r>
            <a:r>
              <a:rPr b="0" lang="it-IT" sz="3200" spc="-1" strike="noStrike" baseline="30000">
                <a:solidFill>
                  <a:srgbClr val="00ccff"/>
                </a:solidFill>
                <a:latin typeface="Times New Roman"/>
              </a:rPr>
              <a:t>®</a:t>
            </a:r>
            <a:r>
              <a:rPr b="0" lang="it-IT" sz="3200" spc="-1" strike="noStrike">
                <a:solidFill>
                  <a:srgbClr val="00c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Ha un’azione di stimolo ipofis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ia di somministrazione: intranas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on approvata dal Ministero della Sanità per l’uso a carico del SSN nel criptorchid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sata alla dose di 1 puff  per narice per 3 volte al giorno per 4 settimane., con un successo del 17% e miglioramen-to del trofismo negli altri casi (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Hadziselimovich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; 1987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400" y="4795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cc66"/>
                </a:solidFill>
                <a:latin typeface="Times New Roman"/>
              </a:rPr>
              <a:t>CRIPTORCHIDISMO. </a:t>
            </a:r>
            <a:r>
              <a:rPr b="0" i="1" lang="it-IT" sz="3800" spc="-1" strike="noStrike">
                <a:solidFill>
                  <a:srgbClr val="ffcc66"/>
                </a:solidFill>
                <a:latin typeface="Times New Roman"/>
              </a:rPr>
              <a:t>TERAPIA MEDIC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33520"/>
            <a:ext cx="899136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EB6-0D63-429C-B7BF-541F91932BC4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86F26-D887-4AE0-B8E9-DC70644FEE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52280"/>
            <a:ext cx="97534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cc66"/>
                </a:solidFill>
                <a:latin typeface="Times New Roman"/>
              </a:rPr>
              <a:t>CRIPTORCHIDISMO: </a:t>
            </a:r>
            <a:r>
              <a:rPr b="0" i="1" lang="it-IT" sz="4200" spc="-1" strike="noStrike">
                <a:solidFill>
                  <a:srgbClr val="ffcc66"/>
                </a:solidFill>
                <a:latin typeface="Times New Roman"/>
              </a:rPr>
              <a:t>CHIRURGIA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28600"/>
            <a:ext cx="990612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398600" y="1700280"/>
          <a:ext cx="7775640" cy="4282920"/>
        </p:xfrm>
        <a:graphic>
          <a:graphicData uri="http://schemas.openxmlformats.org/drawingml/2006/table">
            <a:tbl>
              <a:tblPr/>
              <a:tblGrid>
                <a:gridCol w="2059200"/>
                <a:gridCol w="2033640"/>
                <a:gridCol w="3682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V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DALITA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TIM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Diagnosi iniziale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s obiet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lla nasci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Diagnosi defini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s obiettivo + ecograf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 mesi*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 mesi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3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Trattamento farmac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HCG o GnRH (associato o meno a h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 mesi*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 mesi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Trattamento chirur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rchidopes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&lt;2 anni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ollow 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s obiettivo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cocolorDopp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volta x anno x 5aa dopo orchipessi, poi 1 volta ogni 5aa**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A3C-E0BB-4780-BE3D-D81958DDEAB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116EA-DDB0-4EE6-B77A-D1D54868A0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3680" y="1628640"/>
            <a:ext cx="9219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 vari ormoni e schemi terapeutici offrono risultati tra lori abbastanza </a:t>
            </a:r>
            <a:r>
              <a:rPr b="0" lang="it-IT" sz="3200" spc="-1" strike="noStrike">
                <a:solidFill>
                  <a:srgbClr val="ffcc66"/>
                </a:solidFill>
                <a:latin typeface="Times New Roman"/>
              </a:rPr>
              <a:t>sovrapponibi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principale fattore condizionante la risposta positiva alla terapia ormonale è la </a:t>
            </a:r>
            <a:r>
              <a:rPr b="0" lang="it-IT" sz="3200" spc="-1" strike="noStrike">
                <a:solidFill>
                  <a:srgbClr val="ffcc66"/>
                </a:solidFill>
                <a:latin typeface="Times New Roman"/>
              </a:rPr>
              <a:t>sed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della gonade ritenuta, con un migliore risultato per i testicoli pre-scrotali e scarsa (o assente) risposta per i testicoli addomin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533520"/>
            <a:ext cx="6858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cc66"/>
                </a:solidFill>
                <a:latin typeface="Times New Roman"/>
              </a:rPr>
              <a:t>CRIPTORCHIDISMO</a:t>
            </a:r>
            <a:br>
              <a:rPr sz="4200"/>
            </a:br>
            <a:r>
              <a:rPr b="0" i="1" lang="it-IT" sz="4200" spc="-1" strike="noStrike">
                <a:solidFill>
                  <a:srgbClr val="ffcc66"/>
                </a:solidFill>
                <a:latin typeface="Times New Roman"/>
              </a:rPr>
              <a:t>TERAPIA MEDICA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04920"/>
            <a:ext cx="6248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2040" y="4076640"/>
            <a:ext cx="1008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7E8-A37B-4C3B-8847-FB61BB325AEB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AD06D-BC6E-4C74-A063-0A0B0C77BB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82600" y="1268280"/>
            <a:ext cx="81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3300"/>
                </a:solidFill>
                <a:latin typeface="Tahoma"/>
              </a:rPr>
              <a:t>IL CRIPTORCHIDISM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32440" y="1828800"/>
            <a:ext cx="16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11320" y="907920"/>
            <a:ext cx="8353440" cy="151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24280"/>
            <a:ext cx="102870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LAMBERTO COPP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entri di Andrologia e Fisiopatologia della Riproduzione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TECNOMED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i="1" lang="it-IT" sz="1800" spc="-1" strike="noStrike">
                <a:solidFill>
                  <a:srgbClr val="ffffff"/>
                </a:solidFill>
                <a:latin typeface="Tahoma"/>
              </a:rPr>
              <a:t>Nardò - Lecce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&amp; Case di Cura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SALUS </a:t>
            </a:r>
            <a:r>
              <a:rPr b="1" i="1" lang="it-IT" sz="1800" spc="-1" strike="noStrike">
                <a:solidFill>
                  <a:srgbClr val="ffffff"/>
                </a:solidFill>
                <a:latin typeface="Tahoma"/>
              </a:rPr>
              <a:t>(Brindisi  )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FABIA MATER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Tahoma"/>
              </a:rPr>
              <a:t>(Ro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- Partnership con le Università degli Studi degli Studi del Salento e La Sapienza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95680" y="5195880"/>
            <a:ext cx="1830600" cy="16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3FE-3AD8-4D4A-A14C-56F552DFD69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7359B-7961-4BEF-94F0-F4F90DB494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3680" y="1628640"/>
            <a:ext cx="9067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99440" indent="-19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Effetti sulla fertilità in età adul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i tratta di un aspetto ancora poco definito nell’ambito del trattamento medico o chirurgico del criptorchid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Knorr (1979) e di Albescu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(1971) dimostrarono che gli ex criptorchidi bilaterali trattati con la sola terapia ormonale (hCG) presentavano una incidenza di azoo- e oligospermia inferiore a quella dei soggetti trattati con terapia associata medica e poi chirurgica (63 vs 87%; 25 vs 78%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176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Times New Roman"/>
              </a:rPr>
              <a:t>La sola localizzazione sinistr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non sembrerebbe influire sulla fertilità, anche se non o mal tratt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33520"/>
            <a:ext cx="8001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cc66"/>
                </a:solidFill>
                <a:latin typeface="Times New Roman"/>
              </a:rPr>
              <a:t>CRIPTORCHIDISMO. </a:t>
            </a:r>
            <a:r>
              <a:rPr b="0" i="1" lang="it-IT" sz="4200" spc="-1" strike="noStrike">
                <a:solidFill>
                  <a:srgbClr val="ffcc66"/>
                </a:solidFill>
                <a:latin typeface="Times New Roman"/>
              </a:rPr>
              <a:t>TERAPIA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304920"/>
            <a:ext cx="769644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9320" y="5229360"/>
            <a:ext cx="482472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757-317E-4022-92A5-D629D597CA35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41091-38E7-47A1-8188-8B367BBC8F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4960" y="1557360"/>
            <a:ext cx="9067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99440" indent="-19944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Effetti sulla fertilità in età adul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162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Chilvers </a:t>
            </a:r>
            <a:r>
              <a:rPr b="0" i="1" lang="it-IT" sz="26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(1985) hanno revisionato 27 casistiche (1940-1985), rilevando che nel criptorchidismo bilaterale la terapia riduce la oligo-azoospermici all’80% (vs. 100% dei non trattati), senza differenze tra terapia medica e chirurgica, mentre non erano dimostrate differenze nei monolaterali. (43 vs 44%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162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Isidori </a:t>
            </a:r>
            <a:r>
              <a:rPr b="0" i="1" lang="it-IT" sz="26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(1988) prospettano l’efficacia dell’hCG prima dell’intervento chirurgico nel migliorare la funzione spermatogenetica testicolare (</a:t>
            </a:r>
            <a:r>
              <a:rPr b="0" i="1" lang="it-IT" sz="2600" spc="-1" strike="noStrike">
                <a:solidFill>
                  <a:srgbClr val="ffcc66"/>
                </a:solidFill>
                <a:latin typeface="Times New Roman"/>
              </a:rPr>
              <a:t>effetto adiuvante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162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Cortes </a:t>
            </a:r>
            <a:r>
              <a:rPr b="0" i="1" lang="it-IT" sz="26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(2001) hanno recentemete proposto con sucecsso l’impiego della </a:t>
            </a:r>
            <a:r>
              <a:rPr b="0" lang="it-IT" sz="2600" spc="-1" strike="noStrike">
                <a:solidFill>
                  <a:srgbClr val="ffcc66"/>
                </a:solidFill>
                <a:latin typeface="Times New Roman"/>
              </a:rPr>
              <a:t>eritropoietina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per ridurre il danno semina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33520"/>
            <a:ext cx="8001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cc66"/>
                </a:solidFill>
                <a:latin typeface="Times New Roman"/>
              </a:rPr>
              <a:t>CRIPTORCHIDISMO. </a:t>
            </a:r>
            <a:r>
              <a:rPr b="0" i="1" lang="it-IT" sz="4200" spc="-1" strike="noStrike">
                <a:solidFill>
                  <a:srgbClr val="ffcc66"/>
                </a:solidFill>
                <a:latin typeface="Times New Roman"/>
              </a:rPr>
              <a:t>TERAPIA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04920"/>
            <a:ext cx="75438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4600" y="3716280"/>
            <a:ext cx="10112400" cy="1657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9C2-7B5C-4431-9392-1FDDBC2B12E6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D0D9B-BCA7-4109-8757-5C3251F5F1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4960" y="1484280"/>
            <a:ext cx="9067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93320" indent="-193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Effetti sulla fertilità in età adul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3320" indent="-19332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Taskinen &amp; Wilstrom (1997) hanno, al contrario, dimostrato una </a:t>
            </a:r>
            <a:r>
              <a:rPr b="0" lang="it-IT" sz="2600" spc="-1" strike="noStrike">
                <a:solidFill>
                  <a:srgbClr val="ffcc66"/>
                </a:solidFill>
                <a:latin typeface="Times New Roman"/>
              </a:rPr>
              <a:t>riduzione del volume testicolare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negli ex-criptorchidi trattati con hCG prima dell’intervento nei confronti di quelli non trattat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3320" indent="-19332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Una possibile interpretazione è che l’hCG sembra causare un </a:t>
            </a:r>
            <a:r>
              <a:rPr b="0" lang="it-IT" sz="2600" spc="-1" strike="noStrike">
                <a:solidFill>
                  <a:srgbClr val="ffcc66"/>
                </a:solidFill>
                <a:latin typeface="Times New Roman"/>
              </a:rPr>
              <a:t>aumento del processo di apoptosi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nei criptorchidi rispetto ai controlli e ai criptorchidi trattati solo chirurgicamente: i soggetti con la apoptosi più elevata al momento dell'intervento, avevano da adulti testicoli più piccoli 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(Dunkel </a:t>
            </a:r>
            <a:r>
              <a:rPr b="0" i="1" lang="it-IT" sz="22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, 1997).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 In effetti Kaleva </a:t>
            </a:r>
            <a:r>
              <a:rPr b="0" i="1" lang="it-IT" sz="26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(1996) hanno rilevato una maggiore incidenza di emorragie intraparenchimali nei testicoli trattati con hCG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533520"/>
            <a:ext cx="8001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cc66"/>
                </a:solidFill>
                <a:latin typeface="Times New Roman"/>
              </a:rPr>
              <a:t>CRIPTORCHIDISMO. </a:t>
            </a:r>
            <a:r>
              <a:rPr b="0" i="1" lang="it-IT" sz="4200" spc="-1" strike="noStrike">
                <a:solidFill>
                  <a:srgbClr val="ffcc66"/>
                </a:solidFill>
                <a:latin typeface="Times New Roman"/>
              </a:rPr>
              <a:t>TERAPIA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960" y="260280"/>
            <a:ext cx="804852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ED9-5816-4879-A08C-B76C853F9C1A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64BDF-2A59-421C-B90D-761CF13B05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3680" y="1413000"/>
            <a:ext cx="9067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93320" indent="-193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Effetti sulla fertilità in età adul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3320" indent="-19332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Lala </a:t>
            </a:r>
            <a:r>
              <a:rPr b="0" i="1" lang="it-IT" sz="26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(1997), eseguendo la biopsia testicolare, hanno dimostrato un </a:t>
            </a:r>
            <a:r>
              <a:rPr b="0" lang="it-IT" sz="2600" spc="-1" strike="noStrike">
                <a:solidFill>
                  <a:srgbClr val="ffcc66"/>
                </a:solidFill>
                <a:latin typeface="Times New Roman"/>
              </a:rPr>
              <a:t>miglior trofismo dell’epitelio germinale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nei trattati con GnRH + hCG rispetto ai trattati con la sola chirurg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3320" indent="-19332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È stata rilevata una </a:t>
            </a:r>
            <a:r>
              <a:rPr b="0" lang="it-IT" sz="2600" spc="-1" strike="noStrike">
                <a:solidFill>
                  <a:srgbClr val="ffcc66"/>
                </a:solidFill>
                <a:latin typeface="Times New Roman"/>
              </a:rPr>
              <a:t>peggiore istologia gonadica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nei bambini operati a partire dal secondo anno di vita rispetto a quelli trattati più precocemente 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(McLeer </a:t>
            </a:r>
            <a:r>
              <a:rPr b="0" i="1" lang="it-IT" sz="22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, 1995),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sebbene non sempre sia stata rilevata una correlazione tra istologia gonadica e fertilità da adulti 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(Gracia </a:t>
            </a:r>
            <a:r>
              <a:rPr b="0" i="1" lang="it-IT" sz="22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 , 1998).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In effetti, D’Agostino </a:t>
            </a:r>
            <a:r>
              <a:rPr b="0" i="1" lang="it-IT" sz="26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(1996) hanno dimostrato su 172 pazienti, le caratteristiche seminali da adulti non sono risultate influenzate dall’età dell’interven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95320" y="404640"/>
            <a:ext cx="80010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cc66"/>
                </a:solidFill>
                <a:latin typeface="Times New Roman"/>
              </a:rPr>
              <a:t>CRIPTORCHIDISMO. </a:t>
            </a:r>
            <a:r>
              <a:rPr b="0" i="1" lang="it-IT" sz="4200" spc="-1" strike="noStrike">
                <a:solidFill>
                  <a:srgbClr val="ffcc66"/>
                </a:solidFill>
                <a:latin typeface="Times New Roman"/>
              </a:rPr>
              <a:t>TERAPIA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04920"/>
            <a:ext cx="7543800" cy="963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E31-545D-47AF-9111-22AFA98F0983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FA0E4-60E3-46B2-B773-1561665B33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8960" y="1413000"/>
            <a:ext cx="906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97280" indent="-197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Effetti sul rischio neoplas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7280" indent="-197280" algn="just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Il rischio di degenerazione maligna è chiaramente </a:t>
            </a:r>
            <a:r>
              <a:rPr b="0" lang="it-IT" sz="2600" spc="-1" strike="noStrike">
                <a:solidFill>
                  <a:srgbClr val="ffcc66"/>
                </a:solidFill>
                <a:latin typeface="Times New Roman"/>
              </a:rPr>
              <a:t>più elevato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nel testicolo criptorchide, sebbene ad un livello probabilmente inferiore rispetto a quanto ritenuto in passato: 4-7,5% 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(Swerdlow </a:t>
            </a:r>
            <a:r>
              <a:rPr b="0" i="1" lang="it-IT" sz="22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, 1997; Haavisto </a:t>
            </a:r>
            <a:r>
              <a:rPr b="0" i="1" lang="it-IT" sz="22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, 1999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7280" indent="-197280" algn="just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Studi epidemiologici hanno dimostrato che né la </a:t>
            </a:r>
            <a:r>
              <a:rPr b="0" lang="it-IT" sz="2600" spc="-1" strike="noStrike">
                <a:solidFill>
                  <a:srgbClr val="ffcc66"/>
                </a:solidFill>
                <a:latin typeface="Times New Roman"/>
              </a:rPr>
              <a:t>terapia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ormonale, né </a:t>
            </a:r>
            <a:r>
              <a:rPr b="0" lang="it-IT" sz="2600" spc="-1" strike="noStrike">
                <a:solidFill>
                  <a:srgbClr val="ffcc66"/>
                </a:solidFill>
                <a:latin typeface="Times New Roman"/>
              </a:rPr>
              <a:t>l’età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del trattamento sembrano influire sul rischio neoplastico 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(Swerdlow </a:t>
            </a:r>
            <a:r>
              <a:rPr b="0" i="1" lang="it-IT" sz="22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, 1997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7280" indent="-197280" algn="just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Al contrario, un </a:t>
            </a:r>
            <a:r>
              <a:rPr b="0" lang="it-IT" sz="2600" spc="-1" strike="noStrike">
                <a:solidFill>
                  <a:srgbClr val="ffcc66"/>
                </a:solidFill>
                <a:latin typeface="Times New Roman"/>
              </a:rPr>
              <a:t>precoce riposizionamento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del testicolo in sede scrotale potrebbe influire sul tipo di tumore, riducendo i seminomi dal 75-85 al 50% 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(Toppari &amp; Kaleva, 1999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7280" indent="-197280" algn="just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5320" y="333360"/>
            <a:ext cx="8001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cc66"/>
                </a:solidFill>
                <a:latin typeface="Times New Roman"/>
              </a:rPr>
              <a:t>CRIPTORCHIDISMO: </a:t>
            </a:r>
            <a:r>
              <a:rPr b="0" i="1" lang="it-IT" sz="4200" spc="-1" strike="noStrike">
                <a:solidFill>
                  <a:srgbClr val="ffcc66"/>
                </a:solidFill>
                <a:latin typeface="Times New Roman"/>
              </a:rPr>
              <a:t>TERAPIA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04920"/>
            <a:ext cx="7543800" cy="89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206-24C1-40D5-A2B9-FCC47F926A80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38CFE-26C5-430B-9A5A-80F4943FE6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4960" y="1268280"/>
            <a:ext cx="9067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99440" indent="-19944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ndividuare la patologi precoce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Terapia medica o/e chirurgica preco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ollow up con esame obiettivo, ecografia ed ecocolor doppoler ogni anno poer 5 anni e poi ogni 5 an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Osservazione in età puberale,  postpuberale ed adulta anche con spermiogrammi annu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rioconservazione preventiva dei gameti prima dei 20 ann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9440" indent="-19944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14600" y="333360"/>
            <a:ext cx="7543800" cy="89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87680" y="333360"/>
            <a:ext cx="72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CRIPTORCHIDISMO: cosa fa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797360"/>
            <a:ext cx="10112400" cy="151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50D-BEA7-4C45-9E1B-6D23D66532E2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551FC-D296-4316-87A9-0660B99AA6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14600" y="333360"/>
            <a:ext cx="7543800" cy="89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87680" y="333360"/>
            <a:ext cx="72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CRIPTORCHIDISMO: cosa fa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687680" y="1989000"/>
            <a:ext cx="3090600" cy="324036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791320" y="1989000"/>
            <a:ext cx="3313080" cy="326412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B69-4723-42DF-A301-B1EEEE2D44E6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BE512-3077-40A9-AA52-B6C0EE769B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13359" t="0" r="10101" b="0"/>
          <a:stretch/>
        </p:blipFill>
        <p:spPr>
          <a:xfrm>
            <a:off x="3990960" y="1341360"/>
            <a:ext cx="2352600" cy="25210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6600" y="46526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GRAZIE PER L’ATTENZIO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19680" y="1197000"/>
            <a:ext cx="2670120" cy="273672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198960" y="1125360"/>
            <a:ext cx="3600360" cy="300204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rcRect l="33485" t="40260" r="6319" b="24316"/>
          <a:stretch/>
        </p:blipFill>
        <p:spPr>
          <a:xfrm>
            <a:off x="3056040" y="1052640"/>
            <a:ext cx="3959280" cy="310176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695680" y="260280"/>
            <a:ext cx="4968720" cy="451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>
            <a:lum contrast="12000"/>
          </a:blip>
          <a:srcRect l="17638" t="9409" r="16111" b="64102"/>
          <a:stretch/>
        </p:blipFill>
        <p:spPr>
          <a:xfrm>
            <a:off x="1255680" y="260280"/>
            <a:ext cx="7632720" cy="43592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DDE-FBA3-473C-8516-326EBF126E3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D221F-2D1D-40C9-BB13-8E3724F333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ccff"/>
                </a:solidFill>
                <a:latin typeface="Times New Roman"/>
              </a:rPr>
              <a:t>Definizion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162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Condizione caratterizzata dalla posizione di uno o entrambi i testicoli al di fuori della borsa scrotale, ma situati lungo il percorso della fisiologica linea di migrazion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spcBef>
                <a:spcPts val="162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permanentemente (non riconducibile nello scroto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spcBef>
                <a:spcPts val="162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transitoriamente (anche se riconducibili nello scroto, ritor-nano immediatamente nella posizione iniziale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ccff"/>
                </a:solidFill>
                <a:latin typeface="Times New Roman"/>
              </a:rPr>
              <a:t>Da differenziare da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162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Ectopia testicolare (perineale, pubo-peniena, trasversa, crura-le, epifasciale, crociat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62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Testicoli mobili o retrattili o a ascensor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5400" y="4795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RIPTORCHIDISM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3600" y="631800"/>
            <a:ext cx="58676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6C1-2285-4326-B884-A8316A2E5E4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27DA2-4231-4E4A-8AB0-A85CAC03ED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4960" y="1268280"/>
            <a:ext cx="9067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01600" indent="-20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ff"/>
                </a:solidFill>
                <a:latin typeface="Times New Roman"/>
              </a:rPr>
              <a:t>Cosa f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1600" indent="-20160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ndividuare, con un controllo frequente, i cosiddetti “</a:t>
            </a:r>
            <a:r>
              <a:rPr b="0" lang="it-IT" sz="3200" spc="-1" strike="noStrike">
                <a:solidFill>
                  <a:srgbClr val="ffcc66"/>
                </a:solidFill>
                <a:latin typeface="Times New Roman"/>
              </a:rPr>
              <a:t>segni d’allarm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”, come indicazioni per una terapia med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5000" indent="-285480" algn="just">
              <a:spcBef>
                <a:spcPts val="176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miscroto ipoplasico o comunque asimmetr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5000" indent="-285480" algn="just">
              <a:spcBef>
                <a:spcPts val="176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testicolo più piccolo nei confronti del controlater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5000" indent="-285480" algn="just">
              <a:spcBef>
                <a:spcPts val="176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iflesso cremasterico “molto vivace” (+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5000" indent="-285480" algn="just">
              <a:spcBef>
                <a:spcPts val="176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mpia pervietà dell’orifizio inguinale ester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5000" indent="-285480" algn="just">
              <a:spcBef>
                <a:spcPts val="176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eperto ecografico di riduzione della fisiologica ipoecogenicità prepub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5000" indent="-2854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1600" indent="-20160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39680" y="260280"/>
            <a:ext cx="80010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TESTICOLO AD ASCENS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80880"/>
            <a:ext cx="8001000" cy="81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388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30D-CCF6-49FE-822E-C9D2E5B1021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CD5D7-DDFB-4FD5-9E12-B9AE6363D1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79320" y="1700280"/>
            <a:ext cx="9001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Times New Roman"/>
              </a:rPr>
              <a:t>Patologia dell’età pediatrica che ha assun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n sempre maggiore </a:t>
            </a:r>
            <a:r>
              <a:rPr b="0" lang="it-IT" sz="2800" spc="-1" strike="noStrike">
                <a:solidFill>
                  <a:srgbClr val="ffcc66"/>
                </a:solidFill>
                <a:latin typeface="Times New Roman"/>
              </a:rPr>
              <a:t>rilievo scientifico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per l’interpretazione fisiopatologica della “sindrome criptorchide” e per le opzioni terapeutiche disponibi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ruolo, nel bambino più grande, come possibile causa di </a:t>
            </a:r>
            <a:r>
              <a:rPr b="0" lang="it-IT" sz="2800" spc="-1" strike="noStrike">
                <a:solidFill>
                  <a:srgbClr val="ffcc66"/>
                </a:solidFill>
                <a:latin typeface="Times New Roman"/>
              </a:rPr>
              <a:t>disturbi psicologic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0" lang="it-IT" sz="2800" spc="-1" strike="noStrike">
                <a:solidFill>
                  <a:srgbClr val="ffcc66"/>
                </a:solidFill>
                <a:latin typeface="Times New Roman"/>
              </a:rPr>
              <a:t>interesse social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per le possibili complicanze organiche, quali il maggior rischio di lesioni meccaniche testicolari e, in età adulta, di infertilità e di neoplas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5400" y="4777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533520"/>
            <a:ext cx="52578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2640" y="685800"/>
            <a:ext cx="48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CRIPTORCHIDIS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5320" y="5373720"/>
            <a:ext cx="619272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BEC-6CC4-458A-A3D5-4D157EB3AF5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59CBF-0F1E-41E3-A210-E83CF7E39A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53920" y="480960"/>
            <a:ext cx="861084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8960" y="260280"/>
            <a:ext cx="96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Il criptorchidismo: aspetti epidemiologici</a:t>
            </a: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9320" y="1628640"/>
            <a:ext cx="904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Times New Roman"/>
              </a:rPr>
              <a:t>Costituisce la </a:t>
            </a:r>
            <a:r>
              <a:rPr b="0" lang="it-IT" sz="2700" spc="-1" strike="noStrike">
                <a:solidFill>
                  <a:srgbClr val="ffcc66"/>
                </a:solidFill>
                <a:latin typeface="Times New Roman"/>
              </a:rPr>
              <a:t>più frequente anomalia</a:t>
            </a:r>
            <a:r>
              <a:rPr b="0" lang="it-IT" sz="2700" spc="-1" strike="noStrike">
                <a:solidFill>
                  <a:srgbClr val="ffffff"/>
                </a:solidFill>
                <a:latin typeface="Times New Roman"/>
              </a:rPr>
              <a:t> dell’apparato uro-genitale in età pediatrica nel maschio e la più comune anomalia a carico delle ghiandole endocrine in assolut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Times New Roman"/>
              </a:rPr>
              <a:t>Alla nascita è presente nel </a:t>
            </a:r>
            <a:r>
              <a:rPr b="1" lang="it-IT" sz="2700" spc="-1" strike="noStrike">
                <a:solidFill>
                  <a:srgbClr val="ffcc66"/>
                </a:solidFill>
                <a:latin typeface="Times New Roman"/>
              </a:rPr>
              <a:t>10%</a:t>
            </a:r>
            <a:r>
              <a:rPr b="0" lang="it-IT" sz="2700" spc="-1" strike="noStrike">
                <a:solidFill>
                  <a:srgbClr val="ffcc66"/>
                </a:solidFill>
                <a:latin typeface="Times New Roman"/>
              </a:rPr>
              <a:t> dei nati a termine </a:t>
            </a:r>
            <a:r>
              <a:rPr b="0" lang="it-IT" sz="2700" spc="-1" strike="noStrike">
                <a:solidFill>
                  <a:srgbClr val="ffffff"/>
                </a:solidFill>
                <a:latin typeface="Times New Roman"/>
              </a:rPr>
              <a:t>e fino al </a:t>
            </a:r>
            <a:r>
              <a:rPr b="1" lang="it-IT" sz="2700" spc="-1" strike="noStrike">
                <a:solidFill>
                  <a:srgbClr val="ffcc66"/>
                </a:solidFill>
                <a:latin typeface="Times New Roman"/>
              </a:rPr>
              <a:t>30%</a:t>
            </a:r>
            <a:r>
              <a:rPr b="0" lang="it-IT" sz="2700" spc="-1" strike="noStrike">
                <a:solidFill>
                  <a:srgbClr val="ffcc66"/>
                </a:solidFill>
                <a:latin typeface="Times New Roman"/>
              </a:rPr>
              <a:t> dei pretermine</a:t>
            </a:r>
            <a:r>
              <a:rPr b="0" lang="it-IT" sz="27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it-IT" sz="27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700" spc="-1" strike="noStrike">
                <a:solidFill>
                  <a:srgbClr val="ffffff"/>
                </a:solidFill>
                <a:latin typeface="Times New Roman"/>
              </a:rPr>
              <a:t> 10.000-75.000 soggetti/anno in Italia)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Times New Roman"/>
              </a:rPr>
              <a:t>È bilaterale nel </a:t>
            </a:r>
            <a:r>
              <a:rPr b="1" lang="it-IT" sz="2700" spc="-1" strike="noStrike">
                <a:solidFill>
                  <a:srgbClr val="ffcc66"/>
                </a:solidFill>
                <a:latin typeface="Times New Roman"/>
              </a:rPr>
              <a:t>30%</a:t>
            </a:r>
            <a:r>
              <a:rPr b="0" lang="it-IT" sz="2700" spc="-1" strike="noStrike">
                <a:solidFill>
                  <a:srgbClr val="ffffff"/>
                </a:solidFill>
                <a:latin typeface="Times New Roman"/>
              </a:rPr>
              <a:t> dei casi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5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Times New Roman"/>
              </a:rPr>
              <a:t>Sembra presentare un </a:t>
            </a:r>
            <a:r>
              <a:rPr b="0" lang="it-IT" sz="2700" spc="-1" strike="noStrike">
                <a:solidFill>
                  <a:srgbClr val="ffcc66"/>
                </a:solidFill>
                <a:latin typeface="Times New Roman"/>
              </a:rPr>
              <a:t>costante incremento</a:t>
            </a:r>
            <a:r>
              <a:rPr b="0" lang="it-IT" sz="2700" spc="-1" strike="noStrike">
                <a:solidFill>
                  <a:srgbClr val="ffffff"/>
                </a:solidFill>
                <a:latin typeface="Times New Roman"/>
              </a:rPr>
              <a:t> negli ultimi 40 anni </a:t>
            </a: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(Toppari &amp; Kaleva, 1999)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39680" y="3357720"/>
            <a:ext cx="3240360" cy="50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6040" y="2924280"/>
            <a:ext cx="345456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57E-BB92-42C1-9310-3A0BA07B09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AD770-8939-421E-9A38-9232CBA534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6765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Secondo Gier &amp; Marion (1969), si distinguono tre fa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1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it-IT" sz="2400" spc="-1" strike="noStrike">
                <a:solidFill>
                  <a:srgbClr val="ffcc66"/>
                </a:solidFill>
                <a:latin typeface="Times New Roman"/>
              </a:rPr>
              <a:t>Spostamento nefric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: si</a:t>
            </a: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mpleta</a:t>
            </a: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ll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i="1" lang="it-IT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-8</a:t>
            </a:r>
            <a:r>
              <a:rPr b="0" i="1" lang="it-IT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 settiman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(non ormono-dipendente): il metanefro migra cranialmente e la gonade caudalmen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1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it-IT" sz="2400" spc="-1" strike="noStrike">
                <a:solidFill>
                  <a:srgbClr val="ffcc66"/>
                </a:solidFill>
                <a:latin typeface="Times New Roman"/>
              </a:rPr>
              <a:t>Migrazione trans-addominale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il testicolo raggiunge l’orifizio in-terno del canale inguinale all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i="1" lang="it-IT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-20</a:t>
            </a:r>
            <a:r>
              <a:rPr b="0" i="1" lang="it-IT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 settiman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(MIF-dipendente?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gubernaculum testis e epididimo). In questa fase, si forma una evagi-nazione sacciforme della parete addominale (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processo vaginal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), che sotto la guida del gubernaculum testis, penetra nella borsa scrota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1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it-IT" sz="2400" spc="-1" strike="noStrike">
                <a:solidFill>
                  <a:srgbClr val="ffcc66"/>
                </a:solidFill>
                <a:latin typeface="Times New Roman"/>
              </a:rPr>
              <a:t>Migrazione trans-inguinal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(o transito canalicolare): il testicolo raggiunge lo scroto dall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i="1" lang="it-IT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 alla 40</a:t>
            </a:r>
            <a:r>
              <a:rPr b="0" i="1" lang="it-IT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 settiman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(talora anche in epoca post-natale) (androgeno-dipendente?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regressione gubernaculum testis, sviluppo scroto, allungamento deferente e vasi spermatici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1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62120" y="0"/>
            <a:ext cx="8762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457200"/>
            <a:ext cx="60962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1640" y="457200"/>
            <a:ext cx="56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Migrazione del testicolo. 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D2B-02FD-4548-B875-68F32891083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E5554-ACB6-4598-BAAB-BCFD647C57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0600" y="1844640"/>
            <a:ext cx="9524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ccff"/>
                </a:solidFill>
                <a:latin typeface="Times New Roman"/>
              </a:rPr>
              <a:t>Fattori di natura “meccanica”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17440" algn="just">
              <a:spcBef>
                <a:spcPts val="1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Trazion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sul testicolo da parte del gubernaculum testis, che, stimolato dagli androgeni, assume l’aspetto di gelatina e apre la via alla disces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17440" algn="just">
              <a:spcBef>
                <a:spcPts val="1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17440" algn="just">
              <a:spcBef>
                <a:spcPts val="1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Accrescimento differenziat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tra regione inguinale e gonade e gubernaculum testis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migrazione trans-inguinal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17440" algn="just">
              <a:spcBef>
                <a:spcPts val="1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fluenza positiva della </a:t>
            </a: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pressione addominal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17440" algn="just">
              <a:spcBef>
                <a:spcPts val="1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17440" algn="just">
              <a:spcBef>
                <a:spcPts val="1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Spinta epididimale”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, per differenziazione delle strutture wolffia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38080" y="0"/>
            <a:ext cx="8763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380880"/>
            <a:ext cx="59436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80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Migrazione del testicolo. I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810-D3B6-474A-A7E5-6C91EBA482E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7EF9A-1228-464E-B03F-56EF5302A1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6765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ff"/>
                </a:solidFill>
                <a:latin typeface="Times New Roman"/>
              </a:rPr>
              <a:t>Fattori di natura “genetic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sistono forme </a:t>
            </a: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familiar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di criptorchidism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È stato dimostrato un aumento delle mutazioni e dei polimorfismi nel gene </a:t>
            </a: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HOXA 10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(cromosoma 7) nei soggetti criptorchidi rispetto ai norma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Top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knock-out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per HOXA10, presentano: anomalie di sviluppo del gubernaculum testis, criptorchidismo bilaterale, alterazioni della spermatogenesi e sterilità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(Satokata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, 1995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ff"/>
                </a:solidFill>
                <a:latin typeface="Symbol"/>
                <a:ea typeface="Symbol"/>
              </a:rPr>
              <a:t></a:t>
            </a:r>
            <a:r>
              <a:rPr b="0" lang="it-IT" sz="2400" spc="-1" strike="noStrike">
                <a:solidFill>
                  <a:srgbClr val="00ccff"/>
                </a:solidFill>
                <a:latin typeface="Symbol"/>
                <a:ea typeface="Symbol"/>
              </a:rPr>
              <a:t>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riptorchidismo come consegu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 una displasia primitiva della gon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62120" y="0"/>
            <a:ext cx="9524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57200"/>
            <a:ext cx="64767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5720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Migrazione del testicolo. II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793-3130-4CA3-A0E1-D61986B3E98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3AEAA-F7C4-4307-9D03-395A4B0C16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11:29:26Z</dcterms:created>
  <dc:creator>Prof. Lamberto Coppola</dc:creator>
  <dc:description/>
  <dc:language>en-US</dc:language>
  <cp:lastModifiedBy>Prof. Coppola L</cp:lastModifiedBy>
  <cp:lastPrinted>2002-03-21T11:22:54Z</cp:lastPrinted>
  <dcterms:modified xsi:type="dcterms:W3CDTF">2007-11-09T07:49:27Z</dcterms:modified>
  <cp:revision>108</cp:revision>
  <dc:subject/>
  <dc:title>Nessun titolo diapositiva</dc:title>
</cp:coreProperties>
</file>