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709-F276-4CF1-AAF7-D8D9CC1A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121F-5563-4B4D-AD88-C0DFC6E0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773-AFDF-4D6C-8BE9-5BA9A44A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613-718E-4FC6-B00C-B91224AB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8FF-83DA-4D94-9EE3-32D5299B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5A4-4304-4DCE-B2D2-B484CA87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AB5-F8CA-4F5E-8137-C9AE38DA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9C2F-A3AD-4DE6-84F9-EC3BCF99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B18C-F456-4888-A262-5D68C9C4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8162-E37A-4725-90B0-47F58491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BAB-8076-4DB1-BAEB-E494A760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70D-5C2E-4690-8C01-FC3B9BF1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2DEF-33DD-43A6-A789-BC626E7E6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La vaccinazione anti HPV </a:t>
            </a:r>
            <a:r>
              <a:rPr b="0" i="1" lang="it-IT" sz="4400" spc="-1" strike="noStrike">
                <a:solidFill>
                  <a:srgbClr val="ffff00"/>
                </a:solidFill>
                <a:latin typeface="Times New Roman"/>
              </a:rPr>
              <a:t>indicazioni e counsel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. Minuc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gresso nazionale AG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 9 novembre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Vaccinazione antipapillomavirus um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1" i="1" lang="it-IT" sz="3200" spc="-1" strike="noStrike">
                <a:solidFill>
                  <a:srgbClr val="ffff00"/>
                </a:solidFill>
                <a:latin typeface="Times New Roman"/>
              </a:rPr>
              <a:t>chi vaccinare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600200"/>
            <a:ext cx="8574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La Vaccinazione per  HPV è raccomandata per tutte le donne di 11-12 anni e può essere somministrata anche dai 9 an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La vaccinazione è raccomandata anche per donne sopra i 13 anni che non siano mai state vaccinate o che non abbiano completato la vaccinazi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Tahoma"/>
              </a:rPr>
              <a:t>Da: Quadrivalent Human Papillomavirus vaccine</a:t>
            </a:r>
            <a:r>
              <a:rPr b="0" i="1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ffffff"/>
                </a:solidFill>
                <a:latin typeface="Tahoma"/>
              </a:rPr>
              <a:t>Recommendations of the Advisory Committee on Immunization Practices (ACIP) 23 marzo 2007 – CDC Atla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3160" y="533520"/>
            <a:ext cx="89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PREVENZIONE PRIMARIA CARCINOMA COLLO UT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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Vaccinazione antipapilloma virus umano</a:t>
            </a:r>
            <a:r>
              <a:rPr b="0" lang="it-IT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4920" y="32004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pidemio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2640" y="426708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dia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79120" y="5181480"/>
            <a:ext cx="196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neco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tetri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3048120"/>
            <a:ext cx="320040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886200"/>
            <a:ext cx="3733920" cy="1219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4800600"/>
            <a:ext cx="3124080" cy="1447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4114800"/>
            <a:ext cx="3962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9900"/>
                </a:solidFill>
                <a:latin typeface="Times New Roman"/>
              </a:rPr>
              <a:t>-Inform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9900"/>
                </a:solidFill>
                <a:latin typeface="Times New Roman"/>
              </a:rPr>
              <a:t>-Couns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9900"/>
                </a:solidFill>
                <a:latin typeface="Times New Roman"/>
              </a:rPr>
              <a:t>-Vaccinazioni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9900"/>
                </a:solidFill>
                <a:latin typeface="Times New Roman"/>
              </a:rPr>
              <a:t>-continuazione screening citologico!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9640" y="1488960"/>
            <a:ext cx="372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grammi pubbl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-preadolescenti 11a compiu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26668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Vaccinazione sopra i 12 a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-fino a 26 a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-olt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5181480"/>
            <a:ext cx="838080" cy="76320"/>
          </a:xfrm>
          <a:prstGeom prst="rightArrow">
            <a:avLst>
              <a:gd name="adj1" fmla="val 50000"/>
              <a:gd name="adj2" fmla="val 274528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267080" y="3657600"/>
            <a:ext cx="1981440" cy="1371600"/>
          </a:xfrm>
          <a:prstGeom prst="line">
            <a:avLst/>
          </a:prstGeom>
          <a:ln w="38160">
            <a:solidFill>
              <a:srgbClr val="33cc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380880"/>
            <a:ext cx="8534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Vaccinazione antipapillomavirus umano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1" i="1" lang="it-IT" sz="3200" spc="-1" strike="noStrike">
                <a:solidFill>
                  <a:srgbClr val="ffff00"/>
                </a:solidFill>
                <a:latin typeface="Times New Roman"/>
              </a:rPr>
              <a:t>chi vaccinare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anno un vantaggio dalla vaccinazione le donne che hanno già iniziato l’attività sessuale? Fino a quale età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e si può valutare l’efficacia del vaccino in questo cas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82880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sitività per HPV 16-18 e 6-11 in          donne di età 23-26 anni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studio FUT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1523880"/>
          <a:ext cx="8458200" cy="512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458200" cy="51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096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308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57040" indent="-2570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Il vaccino HPV è stato somministrato secondo la schedula a 0-, 2- e 6-me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Le forme dell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ve dei tipi 31, 45, 52 e 58 di HPV sono simili a quelle dei tipi 16 e 18 e sono indicative di una risposta immunitaria ‘vera’ al vac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I livelli anticorpali prodotti sono conformi al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vello di somiglianza tra i tipi vaccinali e non vaccinali; ad es. il tipo HPV 45, che è strettamente correlato al tipo 18, mostra i livelli anticorpali più alt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344840" y="2514600"/>
            <a:ext cx="4556160" cy="3145680"/>
            <a:chOff x="4344840" y="2514600"/>
            <a:chExt cx="4556160" cy="3145680"/>
          </a:xfrm>
        </p:grpSpPr>
        <p:grpSp>
          <p:nvGrpSpPr>
            <p:cNvPr id="123" name=""/>
            <p:cNvGrpSpPr/>
            <p:nvPr/>
          </p:nvGrpSpPr>
          <p:grpSpPr>
            <a:xfrm>
              <a:off x="4344840" y="2514600"/>
              <a:ext cx="4556160" cy="3145680"/>
              <a:chOff x="4344840" y="2514600"/>
              <a:chExt cx="4556160" cy="3145680"/>
            </a:xfrm>
          </p:grpSpPr>
          <p:sp>
            <p:nvSpPr>
              <p:cNvPr id="124" name=""/>
              <p:cNvSpPr/>
              <p:nvPr/>
            </p:nvSpPr>
            <p:spPr>
              <a:xfrm>
                <a:off x="4984920" y="2578320"/>
                <a:ext cx="3894120" cy="265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84920" y="4705560"/>
                <a:ext cx="389412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84920" y="4175280"/>
                <a:ext cx="38941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984920" y="3646440"/>
                <a:ext cx="38941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84920" y="2578320"/>
                <a:ext cx="38941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984920" y="2578320"/>
                <a:ext cx="3894120" cy="265572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984920" y="2578320"/>
                <a:ext cx="1800" cy="26557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970160" y="5234040"/>
                <a:ext cx="14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70160" y="507384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970160" y="498024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970160" y="4916520"/>
                <a:ext cx="14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970160" y="486432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70160" y="4821480"/>
                <a:ext cx="14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70160" y="478800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970160" y="4757760"/>
                <a:ext cx="14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970160" y="472608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970160" y="4705560"/>
                <a:ext cx="14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970160" y="4546800"/>
                <a:ext cx="14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70160" y="444996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970160" y="438804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70160" y="433404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970160" y="429120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970160" y="425952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970160" y="422928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970160" y="4195800"/>
                <a:ext cx="14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970160" y="417528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70160" y="401652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70160" y="3921120"/>
                <a:ext cx="14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970160" y="385776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70160" y="3805200"/>
                <a:ext cx="14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70160" y="3764160"/>
                <a:ext cx="14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970160" y="3719520"/>
                <a:ext cx="14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70160" y="3689280"/>
                <a:ext cx="14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70160" y="366732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70160" y="3646440"/>
                <a:ext cx="14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70160" y="3476880"/>
                <a:ext cx="14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70160" y="339264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970160" y="331812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970160" y="326556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70160" y="322272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70160" y="319104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970160" y="315936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70160" y="3138480"/>
                <a:ext cx="14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970160" y="310680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970160" y="2948040"/>
                <a:ext cx="14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970160" y="2852640"/>
                <a:ext cx="14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970160" y="2789280"/>
                <a:ext cx="14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970160" y="273708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970160" y="269424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970160" y="2662200"/>
                <a:ext cx="14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970160" y="2630520"/>
                <a:ext cx="14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970160" y="2600280"/>
                <a:ext cx="14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970160" y="257832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970160" y="5234040"/>
                <a:ext cx="14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970160" y="4705560"/>
                <a:ext cx="14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970160" y="417528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970160" y="3646440"/>
                <a:ext cx="14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70160" y="310680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970160" y="2578320"/>
                <a:ext cx="14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984920" y="5234040"/>
                <a:ext cx="389412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4984920" y="5234040"/>
                <a:ext cx="180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5466240" y="523404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5937480" y="5234040"/>
                <a:ext cx="144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6418800" y="5234040"/>
                <a:ext cx="144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891840" y="523404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7373160" y="523404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7846200" y="523404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8327520" y="523404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8800560" y="523404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24880" y="4037040"/>
                <a:ext cx="3813480" cy="879480"/>
              </a:xfrm>
              <a:custGeom>
                <a:avLst/>
                <a:gdLst/>
                <a:ahLst/>
                <a:rect l="l" t="t" r="r" b="b"/>
                <a:pathLst>
                  <a:path w="476" h="83">
                    <a:moveTo>
                      <a:pt x="0" y="83"/>
                    </a:moveTo>
                    <a:lnTo>
                      <a:pt x="20" y="61"/>
                    </a:lnTo>
                    <a:lnTo>
                      <a:pt x="30" y="16"/>
                    </a:lnTo>
                    <a:lnTo>
                      <a:pt x="60" y="34"/>
                    </a:lnTo>
                    <a:lnTo>
                      <a:pt x="70" y="0"/>
                    </a:lnTo>
                    <a:lnTo>
                      <a:pt x="119" y="35"/>
                    </a:lnTo>
                    <a:lnTo>
                      <a:pt x="178" y="35"/>
                    </a:lnTo>
                    <a:lnTo>
                      <a:pt x="238" y="35"/>
                    </a:lnTo>
                    <a:lnTo>
                      <a:pt x="298" y="32"/>
                    </a:lnTo>
                    <a:lnTo>
                      <a:pt x="357" y="36"/>
                    </a:lnTo>
                    <a:lnTo>
                      <a:pt x="476" y="47"/>
                    </a:lnTo>
                  </a:path>
                </a:pathLst>
              </a:custGeom>
              <a:noFill/>
              <a:ln w="1440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024880" y="3730680"/>
                <a:ext cx="3813480" cy="836640"/>
              </a:xfrm>
              <a:custGeom>
                <a:avLst/>
                <a:gdLst/>
                <a:ahLst/>
                <a:rect l="l" t="t" r="r" b="b"/>
                <a:pathLst>
                  <a:path w="476" h="79">
                    <a:moveTo>
                      <a:pt x="0" y="79"/>
                    </a:moveTo>
                    <a:lnTo>
                      <a:pt x="20" y="27"/>
                    </a:lnTo>
                    <a:lnTo>
                      <a:pt x="30" y="2"/>
                    </a:lnTo>
                    <a:lnTo>
                      <a:pt x="60" y="19"/>
                    </a:lnTo>
                    <a:lnTo>
                      <a:pt x="70" y="0"/>
                    </a:lnTo>
                    <a:lnTo>
                      <a:pt x="119" y="29"/>
                    </a:lnTo>
                    <a:lnTo>
                      <a:pt x="178" y="22"/>
                    </a:lnTo>
                    <a:lnTo>
                      <a:pt x="238" y="30"/>
                    </a:lnTo>
                    <a:lnTo>
                      <a:pt x="298" y="32"/>
                    </a:lnTo>
                    <a:lnTo>
                      <a:pt x="357" y="37"/>
                    </a:lnTo>
                    <a:lnTo>
                      <a:pt x="476" y="57"/>
                    </a:lnTo>
                  </a:path>
                </a:pathLst>
              </a:custGeom>
              <a:noFill/>
              <a:ln w="1440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024880" y="4206960"/>
                <a:ext cx="3813480" cy="581040"/>
              </a:xfrm>
              <a:custGeom>
                <a:avLst/>
                <a:gdLst/>
                <a:ahLst/>
                <a:rect l="l" t="t" r="r" b="b"/>
                <a:pathLst>
                  <a:path w="476" h="55">
                    <a:moveTo>
                      <a:pt x="0" y="47"/>
                    </a:moveTo>
                    <a:lnTo>
                      <a:pt x="20" y="55"/>
                    </a:lnTo>
                    <a:lnTo>
                      <a:pt x="30" y="0"/>
                    </a:lnTo>
                    <a:lnTo>
                      <a:pt x="60" y="37"/>
                    </a:lnTo>
                    <a:lnTo>
                      <a:pt x="70" y="25"/>
                    </a:lnTo>
                    <a:lnTo>
                      <a:pt x="119" y="52"/>
                    </a:lnTo>
                    <a:lnTo>
                      <a:pt x="178" y="49"/>
                    </a:lnTo>
                    <a:lnTo>
                      <a:pt x="238" y="52"/>
                    </a:lnTo>
                    <a:lnTo>
                      <a:pt x="298" y="55"/>
                    </a:lnTo>
                    <a:lnTo>
                      <a:pt x="357" y="52"/>
                    </a:lnTo>
                    <a:lnTo>
                      <a:pt x="476" y="24"/>
                    </a:lnTo>
                  </a:path>
                </a:pathLst>
              </a:custGeom>
              <a:noFill/>
              <a:ln w="1440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24880" y="4165560"/>
                <a:ext cx="3813480" cy="908280"/>
              </a:xfrm>
              <a:custGeom>
                <a:avLst/>
                <a:gdLst/>
                <a:ahLst/>
                <a:rect l="l" t="t" r="r" b="b"/>
                <a:pathLst>
                  <a:path w="476" h="86">
                    <a:moveTo>
                      <a:pt x="0" y="86"/>
                    </a:moveTo>
                    <a:lnTo>
                      <a:pt x="20" y="53"/>
                    </a:lnTo>
                    <a:lnTo>
                      <a:pt x="30" y="8"/>
                    </a:lnTo>
                    <a:lnTo>
                      <a:pt x="60" y="32"/>
                    </a:lnTo>
                    <a:lnTo>
                      <a:pt x="70" y="0"/>
                    </a:lnTo>
                    <a:lnTo>
                      <a:pt x="119" y="41"/>
                    </a:lnTo>
                    <a:lnTo>
                      <a:pt x="178" y="49"/>
                    </a:lnTo>
                    <a:lnTo>
                      <a:pt x="238" y="53"/>
                    </a:lnTo>
                    <a:lnTo>
                      <a:pt x="298" y="56"/>
                    </a:lnTo>
                    <a:lnTo>
                      <a:pt x="357" y="53"/>
                    </a:lnTo>
                    <a:lnTo>
                      <a:pt x="476" y="47"/>
                    </a:lnTo>
                  </a:path>
                </a:pathLst>
              </a:custGeom>
              <a:noFill/>
              <a:ln w="144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024880" y="3065400"/>
                <a:ext cx="3813480" cy="1660680"/>
              </a:xfrm>
              <a:custGeom>
                <a:avLst/>
                <a:gdLst/>
                <a:ahLst/>
                <a:rect l="l" t="t" r="r" b="b"/>
                <a:pathLst>
                  <a:path w="476" h="157">
                    <a:moveTo>
                      <a:pt x="0" y="157"/>
                    </a:moveTo>
                    <a:lnTo>
                      <a:pt x="20" y="55"/>
                    </a:lnTo>
                    <a:lnTo>
                      <a:pt x="30" y="0"/>
                    </a:lnTo>
                    <a:lnTo>
                      <a:pt x="60" y="30"/>
                    </a:lnTo>
                    <a:lnTo>
                      <a:pt x="70" y="10"/>
                    </a:lnTo>
                    <a:lnTo>
                      <a:pt x="119" y="42"/>
                    </a:lnTo>
                    <a:lnTo>
                      <a:pt x="178" y="40"/>
                    </a:lnTo>
                    <a:lnTo>
                      <a:pt x="238" y="35"/>
                    </a:lnTo>
                    <a:lnTo>
                      <a:pt x="298" y="35"/>
                    </a:lnTo>
                    <a:lnTo>
                      <a:pt x="357" y="50"/>
                    </a:lnTo>
                    <a:lnTo>
                      <a:pt x="476" y="38"/>
                    </a:lnTo>
                  </a:path>
                </a:pathLst>
              </a:custGeom>
              <a:noFill/>
              <a:ln w="144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024880" y="3276720"/>
                <a:ext cx="3813480" cy="1639800"/>
              </a:xfrm>
              <a:custGeom>
                <a:avLst/>
                <a:gdLst/>
                <a:ahLst/>
                <a:rect l="l" t="t" r="r" b="b"/>
                <a:pathLst>
                  <a:path w="476" h="155">
                    <a:moveTo>
                      <a:pt x="0" y="155"/>
                    </a:moveTo>
                    <a:lnTo>
                      <a:pt x="20" y="50"/>
                    </a:lnTo>
                    <a:lnTo>
                      <a:pt x="30" y="15"/>
                    </a:lnTo>
                    <a:lnTo>
                      <a:pt x="60" y="20"/>
                    </a:lnTo>
                    <a:lnTo>
                      <a:pt x="70" y="0"/>
                    </a:lnTo>
                    <a:lnTo>
                      <a:pt x="119" y="35"/>
                    </a:lnTo>
                    <a:lnTo>
                      <a:pt x="178" y="25"/>
                    </a:lnTo>
                    <a:lnTo>
                      <a:pt x="238" y="30"/>
                    </a:lnTo>
                    <a:lnTo>
                      <a:pt x="298" y="30"/>
                    </a:lnTo>
                    <a:lnTo>
                      <a:pt x="357" y="40"/>
                    </a:lnTo>
                    <a:lnTo>
                      <a:pt x="476" y="3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001480" y="4884840"/>
                <a:ext cx="55080" cy="73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5001120" y="4884840"/>
                <a:ext cx="23400" cy="316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024880" y="4916520"/>
                <a:ext cx="24840" cy="316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5001120" y="4916520"/>
                <a:ext cx="23400" cy="316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5024880" y="4884840"/>
                <a:ext cx="24840" cy="316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160240" y="4651560"/>
                <a:ext cx="56520" cy="74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flipV="1">
                <a:off x="5160240" y="4651560"/>
                <a:ext cx="25200" cy="316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185800" y="4683240"/>
                <a:ext cx="23040" cy="316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5160240" y="4683240"/>
                <a:ext cx="25200" cy="316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5185800" y="4651560"/>
                <a:ext cx="23040" cy="316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41960" y="4175280"/>
                <a:ext cx="55080" cy="74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flipV="1">
                <a:off x="5241600" y="4175280"/>
                <a:ext cx="23400" cy="316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65720" y="4206960"/>
                <a:ext cx="24840" cy="334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5241600" y="4206960"/>
                <a:ext cx="23400" cy="334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5265720" y="4175280"/>
                <a:ext cx="24840" cy="316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82800" y="4365720"/>
                <a:ext cx="55080" cy="74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flipV="1">
                <a:off x="5482440" y="4365720"/>
                <a:ext cx="23400" cy="316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506200" y="4397400"/>
                <a:ext cx="16560" cy="3024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5482440" y="4397400"/>
                <a:ext cx="23400" cy="3024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5506200" y="4365720"/>
                <a:ext cx="16560" cy="316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561640" y="4006800"/>
                <a:ext cx="58320" cy="73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flipV="1">
                <a:off x="5561280" y="4006800"/>
                <a:ext cx="24840" cy="3024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586480" y="4037040"/>
                <a:ext cx="15120" cy="334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5561280" y="4037040"/>
                <a:ext cx="24840" cy="334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5586480" y="4006800"/>
                <a:ext cx="15120" cy="3024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955840" y="4376880"/>
                <a:ext cx="55080" cy="73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5955480" y="4376880"/>
                <a:ext cx="21960" cy="3312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977800" y="4410000"/>
                <a:ext cx="24840" cy="3024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5955480" y="4410000"/>
                <a:ext cx="21960" cy="3024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5977800" y="4376880"/>
                <a:ext cx="24840" cy="3312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35720" y="4376880"/>
                <a:ext cx="55080" cy="73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435720" y="4376880"/>
                <a:ext cx="15120" cy="3312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50840" y="4410000"/>
                <a:ext cx="24840" cy="3024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6435720" y="4410000"/>
                <a:ext cx="15120" cy="3024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6450840" y="4376880"/>
                <a:ext cx="24840" cy="3312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08400" y="4376880"/>
                <a:ext cx="54720" cy="73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 flipV="1">
                <a:off x="6908040" y="4376880"/>
                <a:ext cx="23400" cy="3312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32160" y="4410000"/>
                <a:ext cx="23040" cy="3024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908040" y="4410000"/>
                <a:ext cx="23400" cy="3024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6932160" y="4376880"/>
                <a:ext cx="23040" cy="3312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388280" y="4345200"/>
                <a:ext cx="56160" cy="74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 flipV="1">
                <a:off x="7387920" y="4345200"/>
                <a:ext cx="24840" cy="316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413480" y="4376880"/>
                <a:ext cx="14760" cy="3312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7387920" y="4376880"/>
                <a:ext cx="24840" cy="3312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7413480" y="4345200"/>
                <a:ext cx="14760" cy="316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860960" y="4388040"/>
                <a:ext cx="56520" cy="73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7860960" y="4388040"/>
                <a:ext cx="25200" cy="316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86160" y="4419720"/>
                <a:ext cx="21600" cy="3024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7860960" y="4419720"/>
                <a:ext cx="25200" cy="3024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7886160" y="4388040"/>
                <a:ext cx="21600" cy="316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815320" y="4503960"/>
                <a:ext cx="56520" cy="74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8814960" y="4503960"/>
                <a:ext cx="23400" cy="316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838720" y="4535640"/>
                <a:ext cx="23400" cy="316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8814960" y="4535640"/>
                <a:ext cx="23400" cy="316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8838720" y="4503960"/>
                <a:ext cx="23400" cy="31680"/>
              </a:xfrm>
              <a:prstGeom prst="line">
                <a:avLst/>
              </a:prstGeom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01480" y="4535640"/>
                <a:ext cx="55080" cy="7308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5001120" y="4535640"/>
                <a:ext cx="23400" cy="316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024880" y="4567320"/>
                <a:ext cx="24840" cy="3024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5001120" y="4567320"/>
                <a:ext cx="23400" cy="3024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5024880" y="4535640"/>
                <a:ext cx="24840" cy="316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160240" y="3984840"/>
                <a:ext cx="56520" cy="7452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flipV="1">
                <a:off x="5160240" y="3984840"/>
                <a:ext cx="25200" cy="316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85800" y="4016520"/>
                <a:ext cx="23040" cy="3312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5160240" y="4016520"/>
                <a:ext cx="25200" cy="3312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5185800" y="3984840"/>
                <a:ext cx="23040" cy="316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241960" y="3719520"/>
                <a:ext cx="55080" cy="8568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flipV="1">
                <a:off x="5241600" y="3730680"/>
                <a:ext cx="23400" cy="2232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265720" y="3753000"/>
                <a:ext cx="24840" cy="3024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241600" y="3753000"/>
                <a:ext cx="23400" cy="3024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265720" y="3730680"/>
                <a:ext cx="24840" cy="2232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482800" y="3900600"/>
                <a:ext cx="55080" cy="7308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5482440" y="3900240"/>
                <a:ext cx="23400" cy="334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06200" y="3934080"/>
                <a:ext cx="16560" cy="298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5482440" y="3934080"/>
                <a:ext cx="23400" cy="298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5506200" y="3900240"/>
                <a:ext cx="16560" cy="334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561640" y="3699000"/>
                <a:ext cx="58320" cy="7452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5561280" y="3699000"/>
                <a:ext cx="24840" cy="316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586480" y="3730680"/>
                <a:ext cx="15120" cy="334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5561280" y="3730680"/>
                <a:ext cx="24840" cy="334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5586480" y="3699000"/>
                <a:ext cx="15120" cy="316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955840" y="4006800"/>
                <a:ext cx="55080" cy="7308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5955480" y="4006800"/>
                <a:ext cx="21960" cy="3024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77800" y="4037040"/>
                <a:ext cx="24840" cy="334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5955480" y="4037040"/>
                <a:ext cx="21960" cy="334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5977800" y="4006800"/>
                <a:ext cx="24840" cy="3024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435720" y="3934080"/>
                <a:ext cx="55080" cy="7272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6435720" y="3933720"/>
                <a:ext cx="15120" cy="298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450840" y="3963960"/>
                <a:ext cx="24840" cy="316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435720" y="3963960"/>
                <a:ext cx="15120" cy="316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6450840" y="3933720"/>
                <a:ext cx="24840" cy="298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908400" y="4016520"/>
                <a:ext cx="54720" cy="7452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6908040" y="4016520"/>
                <a:ext cx="23400" cy="3312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932160" y="4049640"/>
                <a:ext cx="23040" cy="3024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6908040" y="4049640"/>
                <a:ext cx="23400" cy="3024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6932160" y="4016520"/>
                <a:ext cx="23040" cy="3312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388280" y="4037040"/>
                <a:ext cx="56160" cy="7452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>
                <a:off x="7387920" y="4036680"/>
                <a:ext cx="24840" cy="334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413480" y="4070520"/>
                <a:ext cx="14760" cy="316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7387920" y="4070520"/>
                <a:ext cx="24840" cy="316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7413480" y="4036680"/>
                <a:ext cx="14760" cy="334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860960" y="4102200"/>
                <a:ext cx="56520" cy="7308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flipV="1">
                <a:off x="7860960" y="4101840"/>
                <a:ext cx="25200" cy="2052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886160" y="4122720"/>
                <a:ext cx="21600" cy="316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7860960" y="4122720"/>
                <a:ext cx="25200" cy="316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7886160" y="4101840"/>
                <a:ext cx="21600" cy="2052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815320" y="4302360"/>
                <a:ext cx="56520" cy="8568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8814960" y="4311720"/>
                <a:ext cx="23400" cy="2232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838720" y="4334040"/>
                <a:ext cx="23400" cy="31680"/>
              </a:xfrm>
              <a:prstGeom prst="line">
                <a:avLst/>
              </a:prstGeom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5001480" y="3033720"/>
                <a:ext cx="3870360" cy="2084040"/>
                <a:chOff x="5001480" y="3033720"/>
                <a:chExt cx="3870360" cy="2084040"/>
              </a:xfrm>
            </p:grpSpPr>
            <p:sp>
              <p:nvSpPr>
                <p:cNvPr id="308" name=""/>
                <p:cNvSpPr/>
                <p:nvPr/>
              </p:nvSpPr>
              <p:spPr>
                <a:xfrm flipH="1">
                  <a:off x="8816040" y="4334400"/>
                  <a:ext cx="23760" cy="32400"/>
                </a:xfrm>
                <a:prstGeom prst="line">
                  <a:avLst/>
                </a:prstGeom>
                <a:ln w="144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8839800" y="4312800"/>
                  <a:ext cx="24480" cy="21240"/>
                </a:xfrm>
                <a:prstGeom prst="line">
                  <a:avLst/>
                </a:prstGeom>
                <a:ln w="144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001480" y="4673160"/>
                  <a:ext cx="56880" cy="7344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 flipV="1">
                  <a:off x="5001480" y="4673160"/>
                  <a:ext cx="24480" cy="3240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025960" y="470556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>
                  <a:off x="5001480" y="4705560"/>
                  <a:ext cx="2448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5025960" y="4673160"/>
                  <a:ext cx="23760" cy="3240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161680" y="4758120"/>
                  <a:ext cx="55800" cy="7344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>
                  <a:off x="5161680" y="475812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85800" y="4789440"/>
                  <a:ext cx="24480" cy="3240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5161680" y="4789440"/>
                  <a:ext cx="23760" cy="3240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5185800" y="4758120"/>
                  <a:ext cx="2448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242320" y="4175640"/>
                  <a:ext cx="55800" cy="7488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>
                  <a:off x="5242320" y="4175640"/>
                  <a:ext cx="23760" cy="3240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266440" y="4208400"/>
                  <a:ext cx="2340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>
                  <a:off x="5242320" y="420840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V="1">
                  <a:off x="5266440" y="4175640"/>
                  <a:ext cx="23400" cy="3240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482440" y="4568040"/>
                  <a:ext cx="55800" cy="7344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 flipV="1">
                  <a:off x="5482440" y="456804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506560" y="4599360"/>
                  <a:ext cx="1656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>
                  <a:off x="5482440" y="459936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5506560" y="4568040"/>
                  <a:ext cx="1656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562360" y="4440600"/>
                  <a:ext cx="56880" cy="84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flipV="1">
                  <a:off x="5562360" y="4450320"/>
                  <a:ext cx="24480" cy="2124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587200" y="4471920"/>
                  <a:ext cx="15480" cy="3240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>
                  <a:off x="5562360" y="4471920"/>
                  <a:ext cx="24480" cy="3240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>
                  <a:off x="5587200" y="4450320"/>
                  <a:ext cx="15480" cy="2124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955840" y="4726800"/>
                  <a:ext cx="55800" cy="7344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 flipV="1">
                  <a:off x="5955840" y="472680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979600" y="4758120"/>
                  <a:ext cx="2340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>
                  <a:off x="5955840" y="475812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5979600" y="4726800"/>
                  <a:ext cx="2340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436080" y="4694400"/>
                  <a:ext cx="55800" cy="84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 flipV="1">
                  <a:off x="6435720" y="4705200"/>
                  <a:ext cx="16200" cy="2124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452640" y="472680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6435720" y="4726800"/>
                  <a:ext cx="1620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6452640" y="4705200"/>
                  <a:ext cx="23760" cy="2124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909120" y="4726800"/>
                  <a:ext cx="55800" cy="7344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>
                  <a:off x="6909120" y="472680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932880" y="4758120"/>
                  <a:ext cx="2340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6909120" y="475812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6932880" y="4726800"/>
                  <a:ext cx="2340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389720" y="4758120"/>
                  <a:ext cx="56520" cy="7344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7389720" y="4758120"/>
                  <a:ext cx="2448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414200" y="4789440"/>
                  <a:ext cx="15480" cy="3240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>
                  <a:off x="7389720" y="4789440"/>
                  <a:ext cx="24480" cy="3240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V="1">
                  <a:off x="7414200" y="4758120"/>
                  <a:ext cx="1548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862400" y="4726800"/>
                  <a:ext cx="55800" cy="7344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 flipV="1">
                  <a:off x="7862400" y="472680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886520" y="4758120"/>
                  <a:ext cx="2340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7862400" y="475812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7886520" y="4726800"/>
                  <a:ext cx="2340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816040" y="4429440"/>
                  <a:ext cx="55800" cy="7488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>
                  <a:off x="8816040" y="4429440"/>
                  <a:ext cx="23760" cy="3240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8839800" y="4461840"/>
                  <a:ext cx="2448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>
                  <a:off x="8816040" y="446184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8839800" y="4429440"/>
                  <a:ext cx="24480" cy="32400"/>
                </a:xfrm>
                <a:prstGeom prst="line">
                  <a:avLst/>
                </a:prstGeom>
                <a:ln w="144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001480" y="5044320"/>
                  <a:ext cx="56880" cy="734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>
                  <a:off x="5001480" y="5044320"/>
                  <a:ext cx="2448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025960" y="507564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>
                  <a:off x="5001480" y="5075640"/>
                  <a:ext cx="2448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5025960" y="504432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161680" y="4694400"/>
                  <a:ext cx="55800" cy="849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flipV="1">
                  <a:off x="5161680" y="4705200"/>
                  <a:ext cx="23760" cy="2124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185800" y="4726800"/>
                  <a:ext cx="2448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5161680" y="472680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5185800" y="4705200"/>
                  <a:ext cx="24480" cy="2124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242320" y="4218120"/>
                  <a:ext cx="55800" cy="734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flipV="1">
                  <a:off x="5242320" y="4218120"/>
                  <a:ext cx="23760" cy="3240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266440" y="4250880"/>
                  <a:ext cx="2340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>
                  <a:off x="5242320" y="425088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5266440" y="4218120"/>
                  <a:ext cx="23400" cy="3240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482440" y="4471920"/>
                  <a:ext cx="55800" cy="7488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 flipV="1">
                  <a:off x="5482440" y="4471920"/>
                  <a:ext cx="23760" cy="3240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506560" y="4504320"/>
                  <a:ext cx="1656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>
                  <a:off x="5482440" y="450432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5506560" y="4471920"/>
                  <a:ext cx="16560" cy="3240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562360" y="4133160"/>
                  <a:ext cx="56880" cy="7488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 flipV="1">
                  <a:off x="5562360" y="4133160"/>
                  <a:ext cx="24480" cy="3240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587200" y="4165920"/>
                  <a:ext cx="1548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>
                  <a:off x="5562360" y="4165920"/>
                  <a:ext cx="2448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>
                  <a:off x="5587200" y="4133160"/>
                  <a:ext cx="15480" cy="3240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955840" y="4568040"/>
                  <a:ext cx="55800" cy="734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5955840" y="456804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979600" y="4599360"/>
                  <a:ext cx="2340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5955840" y="459936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5979600" y="4568040"/>
                  <a:ext cx="2340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436080" y="4651920"/>
                  <a:ext cx="55800" cy="7488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 flipV="1">
                  <a:off x="6435720" y="4651920"/>
                  <a:ext cx="16200" cy="3240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452640" y="468432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>
                  <a:off x="6435720" y="4684320"/>
                  <a:ext cx="1620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6452640" y="4651920"/>
                  <a:ext cx="23760" cy="3240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909120" y="4694400"/>
                  <a:ext cx="55800" cy="849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 flipV="1">
                  <a:off x="6909120" y="4705200"/>
                  <a:ext cx="23760" cy="2124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932880" y="4726800"/>
                  <a:ext cx="2340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6909120" y="472680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6932880" y="4705200"/>
                  <a:ext cx="23400" cy="2124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389720" y="4726800"/>
                  <a:ext cx="56520" cy="734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7389720" y="4726800"/>
                  <a:ext cx="2448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414200" y="4758120"/>
                  <a:ext cx="1548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>
                  <a:off x="7389720" y="4758120"/>
                  <a:ext cx="2448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V="1">
                  <a:off x="7414200" y="4726800"/>
                  <a:ext cx="1548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862400" y="4694400"/>
                  <a:ext cx="55800" cy="849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 flipV="1">
                  <a:off x="7862400" y="4705200"/>
                  <a:ext cx="23760" cy="2124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886520" y="4726800"/>
                  <a:ext cx="2340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>
                  <a:off x="7862400" y="472680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7886520" y="4705200"/>
                  <a:ext cx="23400" cy="2124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8816040" y="4630680"/>
                  <a:ext cx="55800" cy="7488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>
                  <a:off x="8816040" y="4630680"/>
                  <a:ext cx="23760" cy="3240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839800" y="4663080"/>
                  <a:ext cx="2448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>
                  <a:off x="8816040" y="466308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V="1">
                  <a:off x="8839800" y="4630680"/>
                  <a:ext cx="24480" cy="32400"/>
                </a:xfrm>
                <a:prstGeom prst="line">
                  <a:avLst/>
                </a:prstGeom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001480" y="4694400"/>
                  <a:ext cx="56880" cy="849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 flipV="1">
                  <a:off x="5001480" y="4705200"/>
                  <a:ext cx="2448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025960" y="472680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>
                  <a:off x="5001480" y="4726800"/>
                  <a:ext cx="24480" cy="3096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5025960" y="4705200"/>
                  <a:ext cx="2376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5025960" y="4705200"/>
                  <a:ext cx="72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025960" y="4726800"/>
                  <a:ext cx="720" cy="3096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161680" y="3615840"/>
                  <a:ext cx="55800" cy="7380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H="1" flipV="1">
                  <a:off x="5161680" y="3615480"/>
                  <a:ext cx="23760" cy="3132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185800" y="3647160"/>
                  <a:ext cx="24480" cy="3096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>
                  <a:off x="5161680" y="364716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V="1">
                  <a:off x="5185800" y="3615480"/>
                  <a:ext cx="24480" cy="3132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V="1">
                  <a:off x="5185800" y="3615480"/>
                  <a:ext cx="720" cy="3132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185800" y="3647160"/>
                  <a:ext cx="720" cy="3096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242320" y="3033720"/>
                  <a:ext cx="55800" cy="7344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flipH="1" flipV="1">
                  <a:off x="5242320" y="303372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266440" y="3064680"/>
                  <a:ext cx="2340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H="1">
                  <a:off x="5242320" y="3064680"/>
                  <a:ext cx="2376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V="1">
                  <a:off x="5266440" y="3033720"/>
                  <a:ext cx="23400" cy="3096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V="1">
                  <a:off x="5266440" y="3033720"/>
                  <a:ext cx="720" cy="3096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266440" y="3064680"/>
                  <a:ext cx="72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482440" y="3350880"/>
                  <a:ext cx="55800" cy="7344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H="1" flipV="1">
                  <a:off x="5482440" y="335088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506560" y="3382200"/>
                  <a:ext cx="1656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>
                  <a:off x="5482440" y="3382200"/>
                  <a:ext cx="2376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V="1">
                  <a:off x="5506560" y="3350880"/>
                  <a:ext cx="16560" cy="3096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V="1">
                  <a:off x="5506560" y="3350880"/>
                  <a:ext cx="720" cy="3096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506560" y="3382200"/>
                  <a:ext cx="72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562360" y="3139560"/>
                  <a:ext cx="56880" cy="7380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 flipV="1">
                  <a:off x="5562360" y="3139200"/>
                  <a:ext cx="24480" cy="3132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587200" y="3170880"/>
                  <a:ext cx="1548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562360" y="3170880"/>
                  <a:ext cx="2448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V="1">
                  <a:off x="5587200" y="3139200"/>
                  <a:ext cx="15480" cy="3132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V="1">
                  <a:off x="5587200" y="3139200"/>
                  <a:ext cx="720" cy="3132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587200" y="3170880"/>
                  <a:ext cx="72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955840" y="3477240"/>
                  <a:ext cx="55800" cy="7488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 flipV="1">
                  <a:off x="5955840" y="3477240"/>
                  <a:ext cx="23760" cy="3240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979600" y="3509640"/>
                  <a:ext cx="23400" cy="3096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>
                  <a:off x="5955840" y="350964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V="1">
                  <a:off x="5979600" y="3477240"/>
                  <a:ext cx="23400" cy="3240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V="1">
                  <a:off x="5979600" y="3477240"/>
                  <a:ext cx="720" cy="3240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979600" y="3509640"/>
                  <a:ext cx="720" cy="3096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436080" y="3457080"/>
                  <a:ext cx="55800" cy="7380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 flipV="1">
                  <a:off x="6435720" y="3456720"/>
                  <a:ext cx="16200" cy="3132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452640" y="3488400"/>
                  <a:ext cx="2376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6435720" y="3488400"/>
                  <a:ext cx="1620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V="1">
                  <a:off x="6452640" y="3456720"/>
                  <a:ext cx="23760" cy="3132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6452640" y="3456720"/>
                  <a:ext cx="720" cy="3132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452640" y="3488400"/>
                  <a:ext cx="72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909120" y="3403440"/>
                  <a:ext cx="55800" cy="7344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 flipV="1">
                  <a:off x="6909120" y="3403080"/>
                  <a:ext cx="23760" cy="320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932880" y="3435840"/>
                  <a:ext cx="2340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6909120" y="3435840"/>
                  <a:ext cx="2376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V="1">
                  <a:off x="6932880" y="3403080"/>
                  <a:ext cx="23400" cy="320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6932880" y="3403080"/>
                  <a:ext cx="720" cy="320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932880" y="3435840"/>
                  <a:ext cx="72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389720" y="3403440"/>
                  <a:ext cx="56520" cy="7344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 flipV="1">
                  <a:off x="7389720" y="3403080"/>
                  <a:ext cx="24480" cy="320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414200" y="3435840"/>
                  <a:ext cx="1548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7389720" y="3435840"/>
                  <a:ext cx="2448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V="1">
                  <a:off x="7414200" y="3403080"/>
                  <a:ext cx="15480" cy="320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7414200" y="3403080"/>
                  <a:ext cx="720" cy="320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414200" y="3435840"/>
                  <a:ext cx="720" cy="212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862400" y="3562200"/>
                  <a:ext cx="55800" cy="7344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 flipV="1">
                  <a:off x="7862400" y="3561840"/>
                  <a:ext cx="23760" cy="320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886520" y="3594240"/>
                  <a:ext cx="23400" cy="3132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>
                  <a:off x="7862400" y="3594240"/>
                  <a:ext cx="23760" cy="3132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>
                  <a:off x="7886520" y="3561840"/>
                  <a:ext cx="23400" cy="320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7886520" y="3561840"/>
                  <a:ext cx="720" cy="320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886520" y="3594240"/>
                  <a:ext cx="720" cy="3132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816040" y="3435840"/>
                  <a:ext cx="55800" cy="7380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 flipV="1">
                  <a:off x="8816040" y="3435480"/>
                  <a:ext cx="23760" cy="3132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839800" y="3467160"/>
                  <a:ext cx="24480" cy="3096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>
                  <a:off x="8816040" y="346716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V="1">
                  <a:off x="8839800" y="3435480"/>
                  <a:ext cx="24480" cy="3132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8839800" y="3435480"/>
                  <a:ext cx="720" cy="3132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839800" y="3467160"/>
                  <a:ext cx="720" cy="3096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001480" y="4885560"/>
                  <a:ext cx="56880" cy="73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5001480" y="4885560"/>
                  <a:ext cx="24480" cy="309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025960" y="491688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5001480" y="4916880"/>
                  <a:ext cx="24480" cy="309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5025960" y="488556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161680" y="3774240"/>
                  <a:ext cx="55800" cy="73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5161680" y="3773880"/>
                  <a:ext cx="23760" cy="313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185800" y="3805920"/>
                  <a:ext cx="24480" cy="309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>
                  <a:off x="5161680" y="3805920"/>
                  <a:ext cx="23760" cy="309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5185800" y="3773880"/>
                  <a:ext cx="24480" cy="313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242320" y="3403440"/>
                  <a:ext cx="55800" cy="73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8" name=""/>
              <p:cNvSpPr/>
              <p:nvPr/>
            </p:nvSpPr>
            <p:spPr>
              <a:xfrm flipH="1" flipV="1">
                <a:off x="5241600" y="3403800"/>
                <a:ext cx="23400" cy="31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265720" y="3435480"/>
                <a:ext cx="24840" cy="22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5241600" y="3435480"/>
                <a:ext cx="23400" cy="22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5265720" y="3403800"/>
                <a:ext cx="24840" cy="31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482800" y="3457800"/>
                <a:ext cx="55080" cy="7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 flipV="1">
                <a:off x="5482440" y="3457440"/>
                <a:ext cx="23400" cy="29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506200" y="3487680"/>
                <a:ext cx="16560" cy="20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5482440" y="3487680"/>
                <a:ext cx="23400" cy="20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5506200" y="3457440"/>
                <a:ext cx="16560" cy="29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561640" y="3245040"/>
                <a:ext cx="5832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 flipV="1">
                <a:off x="5561280" y="3245040"/>
                <a:ext cx="24840" cy="31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586480" y="3276720"/>
                <a:ext cx="15120" cy="22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5561280" y="3276720"/>
                <a:ext cx="24840" cy="22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5586480" y="3245040"/>
                <a:ext cx="15120" cy="31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955840" y="3614760"/>
                <a:ext cx="55080" cy="74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flipV="1">
                <a:off x="5955480" y="3614760"/>
                <a:ext cx="21960" cy="31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977800" y="3646440"/>
                <a:ext cx="24840" cy="32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5955480" y="3646440"/>
                <a:ext cx="21960" cy="32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977800" y="3614760"/>
                <a:ext cx="24840" cy="31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435720" y="3508560"/>
                <a:ext cx="55080" cy="74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 flipV="1">
                <a:off x="6435720" y="3508560"/>
                <a:ext cx="15120" cy="331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450840" y="3541680"/>
                <a:ext cx="24840" cy="32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6435720" y="3541680"/>
                <a:ext cx="15120" cy="32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450840" y="3508560"/>
                <a:ext cx="24840" cy="331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908400" y="3560760"/>
                <a:ext cx="54720" cy="74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>
                <a:off x="6908040" y="3560400"/>
                <a:ext cx="23400" cy="334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932160" y="3594240"/>
                <a:ext cx="23040" cy="31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6908040" y="3594240"/>
                <a:ext cx="23400" cy="31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6932160" y="3560400"/>
                <a:ext cx="23040" cy="334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8280" y="3560760"/>
                <a:ext cx="56160" cy="74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 flipV="1">
                <a:off x="7387920" y="3560400"/>
                <a:ext cx="24840" cy="334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413480" y="3594240"/>
                <a:ext cx="14760" cy="31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7387920" y="3594240"/>
                <a:ext cx="24840" cy="31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7413480" y="3560400"/>
                <a:ext cx="14760" cy="334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860960" y="3667320"/>
                <a:ext cx="56520" cy="74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flipV="1">
                <a:off x="7860960" y="3667320"/>
                <a:ext cx="25200" cy="31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886160" y="3699000"/>
                <a:ext cx="21600" cy="31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7860960" y="3699000"/>
                <a:ext cx="25200" cy="31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886160" y="3667320"/>
                <a:ext cx="21600" cy="31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815320" y="3560760"/>
                <a:ext cx="56520" cy="74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flipV="1">
                <a:off x="8814960" y="3560400"/>
                <a:ext cx="23400" cy="334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838720" y="3594240"/>
                <a:ext cx="23400" cy="31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8814960" y="3594240"/>
                <a:ext cx="23400" cy="31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8838720" y="3560400"/>
                <a:ext cx="23400" cy="334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905360" y="5180040"/>
                <a:ext cx="5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333399"/>
                    </a:solidFill>
                    <a:latin typeface="Arial Narrow"/>
                  </a:rPr>
                  <a:t>1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794480" y="4632480"/>
                <a:ext cx="116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 Narrow"/>
                  </a:rPr>
                  <a:t>10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743000" y="4102200"/>
                <a:ext cx="17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689000" y="3568680"/>
                <a:ext cx="23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 Narrow"/>
                  </a:rPr>
                  <a:t>1000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3054600"/>
                <a:ext cx="29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 Narrow"/>
                  </a:rPr>
                  <a:t>10000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570920" y="2514600"/>
                <a:ext cx="348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 Narrow"/>
                  </a:rPr>
                  <a:t>100000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88800">
                <a:off x="4959720" y="5272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88800">
                <a:off x="5440320" y="5272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51600">
                <a:off x="5895000" y="52704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12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51600">
                <a:off x="6377400" y="52671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18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51600">
                <a:off x="6848640" y="52671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24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51600">
                <a:off x="7331400" y="52671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51600">
                <a:off x="7803000" y="52671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36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51600">
                <a:off x="8283600" y="52671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42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51600">
                <a:off x="8758800" y="52671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48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462720" y="5446800"/>
                <a:ext cx="901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 Narrow"/>
                  </a:rPr>
                  <a:t>Tempo (mesi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6200000">
                <a:off x="3650400" y="3950640"/>
                <a:ext cx="1602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 Narrow"/>
                  </a:rPr>
                  <a:t>GMT (titolo totale di IgG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7129440" y="2640240"/>
              <a:ext cx="1666440" cy="598320"/>
              <a:chOff x="7129440" y="2640240"/>
              <a:chExt cx="1666440" cy="598320"/>
            </a:xfrm>
          </p:grpSpPr>
          <p:sp>
            <p:nvSpPr>
              <p:cNvPr id="570" name=""/>
              <p:cNvSpPr/>
              <p:nvPr/>
            </p:nvSpPr>
            <p:spPr>
              <a:xfrm>
                <a:off x="7129440" y="2640240"/>
                <a:ext cx="1666440" cy="598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71" name=""/>
              <p:cNvGrpSpPr/>
              <p:nvPr/>
            </p:nvGrpSpPr>
            <p:grpSpPr>
              <a:xfrm>
                <a:off x="7173000" y="2674800"/>
                <a:ext cx="1582200" cy="525240"/>
                <a:chOff x="7173000" y="2674800"/>
                <a:chExt cx="1582200" cy="525240"/>
              </a:xfrm>
            </p:grpSpPr>
            <p:grpSp>
              <p:nvGrpSpPr>
                <p:cNvPr id="572" name=""/>
                <p:cNvGrpSpPr/>
                <p:nvPr/>
              </p:nvGrpSpPr>
              <p:grpSpPr>
                <a:xfrm>
                  <a:off x="7173000" y="3047400"/>
                  <a:ext cx="737280" cy="152640"/>
                  <a:chOff x="7173000" y="3047400"/>
                  <a:chExt cx="737280" cy="15264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7173000" y="3118680"/>
                    <a:ext cx="275040" cy="1080"/>
                  </a:xfrm>
                  <a:prstGeom prst="line">
                    <a:avLst/>
                  </a:prstGeom>
                  <a:ln w="144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7278120" y="3079080"/>
                    <a:ext cx="78120" cy="9324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7475040" y="3047400"/>
                    <a:ext cx="4352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PV 52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8012880" y="3044520"/>
                  <a:ext cx="738720" cy="152640"/>
                  <a:chOff x="8012880" y="3044520"/>
                  <a:chExt cx="738720" cy="15264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8012880" y="3121920"/>
                    <a:ext cx="275040" cy="108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8117640" y="3080520"/>
                    <a:ext cx="78480" cy="9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8316360" y="3044520"/>
                    <a:ext cx="4352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PV 18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0" name=""/>
                <p:cNvGrpSpPr/>
                <p:nvPr/>
              </p:nvGrpSpPr>
              <p:grpSpPr>
                <a:xfrm>
                  <a:off x="7173000" y="2860200"/>
                  <a:ext cx="737280" cy="152640"/>
                  <a:chOff x="7173000" y="2860200"/>
                  <a:chExt cx="737280" cy="15264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>
                    <a:off x="7173000" y="2931480"/>
                    <a:ext cx="275040" cy="1080"/>
                  </a:xfrm>
                  <a:prstGeom prst="line">
                    <a:avLst/>
                  </a:prstGeom>
                  <a:ln w="1440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7278120" y="2891520"/>
                    <a:ext cx="78120" cy="9324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7475040" y="2860200"/>
                    <a:ext cx="4352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PV 45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8017200" y="2861640"/>
                  <a:ext cx="738000" cy="152640"/>
                  <a:chOff x="8017200" y="2861640"/>
                  <a:chExt cx="738000" cy="15264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>
                    <a:off x="8017200" y="2932920"/>
                    <a:ext cx="275040" cy="1080"/>
                  </a:xfrm>
                  <a:prstGeom prst="line">
                    <a:avLst/>
                  </a:prstGeom>
                  <a:ln w="144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8122320" y="2893320"/>
                    <a:ext cx="78120" cy="932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8319960" y="2861640"/>
                    <a:ext cx="4352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PV 16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7173000" y="2676240"/>
                  <a:ext cx="737280" cy="152640"/>
                  <a:chOff x="7173000" y="2676240"/>
                  <a:chExt cx="737280" cy="15264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7173000" y="2742480"/>
                    <a:ext cx="275040" cy="1080"/>
                  </a:xfrm>
                  <a:prstGeom prst="line">
                    <a:avLst/>
                  </a:prstGeom>
                  <a:ln w="1440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7475040" y="2676240"/>
                    <a:ext cx="4352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PV 31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7278120" y="2702880"/>
                    <a:ext cx="78120" cy="93240"/>
                  </a:xfrm>
                  <a:prstGeom prst="rect">
                    <a:avLst/>
                  </a:prstGeom>
                  <a:solidFill>
                    <a:srgbClr val="ff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2" name=""/>
                <p:cNvGrpSpPr/>
                <p:nvPr/>
              </p:nvGrpSpPr>
              <p:grpSpPr>
                <a:xfrm>
                  <a:off x="8017200" y="2674800"/>
                  <a:ext cx="738000" cy="152640"/>
                  <a:chOff x="8017200" y="2674800"/>
                  <a:chExt cx="738000" cy="15264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>
                    <a:off x="8017200" y="2746080"/>
                    <a:ext cx="275040" cy="1080"/>
                  </a:xfrm>
                  <a:prstGeom prst="line">
                    <a:avLst/>
                  </a:prstGeom>
                  <a:ln w="144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8319960" y="2674800"/>
                    <a:ext cx="4352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PV 58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8122320" y="2719080"/>
                    <a:ext cx="78120" cy="806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96" name=""/>
          <p:cNvSpPr/>
          <p:nvPr/>
        </p:nvSpPr>
        <p:spPr>
          <a:xfrm>
            <a:off x="4568760" y="1523880"/>
            <a:ext cx="4575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Media geometrica del titolo totale 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IgG di HPV stimolato dal vaccino quadrivalente(n=10)</a:t>
            </a:r>
            <a:r>
              <a:rPr b="1" lang="en-GB" sz="1800" spc="-1" strike="noStrike" baseline="30000">
                <a:solidFill>
                  <a:srgbClr val="ffffff"/>
                </a:solidFill>
                <a:latin typeface="Arial Narrow"/>
              </a:rPr>
              <a:t>1,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87480"/>
            <a:ext cx="769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HPV Protezione crociata 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videnze attuali con Vaccino Quadrivalente</a:t>
            </a:r>
            <a:r>
              <a:rPr b="0" lang="en-GB" sz="3200" spc="-1" strike="noStrike" baseline="30000">
                <a:solidFill>
                  <a:srgbClr val="ffff00"/>
                </a:solidFill>
                <a:latin typeface="Times New Roman"/>
              </a:rPr>
              <a:t>®</a:t>
            </a: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0" y="6324480"/>
            <a:ext cx="850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</a:rPr>
              <a:t>1. SPMSD data on file. 2. Smith JF, Brownlow M, Brown M et al. GardasilTM antibodies cross-neutralise infection of vaccine type-related HPV types. 23rd International Papillomavirus Conference and Clinical Workshop. 1–7 September 2006. Prague, Czech Republ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99072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Il vaccino quadrivalente anti papilloma virus:                                                                                protezione crociata per CIN 2-3 ed AIS</a:t>
            </a:r>
            <a:br>
              <a:rPr sz="3600"/>
            </a:b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(Brown D,  ICAAC 2007)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HPV31/33/35/39/45/51/52/56/58/59 responsabili del 10-15% dei tumori cervica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l vaccino quadrivalente riduce l’incidenza di infezioni HPV persistenti e di CIN 2-3 o AIS causati da questi 10 tipi non compresi nel vacci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5029200" y="1752480"/>
          <a:ext cx="38098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752480"/>
                    <a:ext cx="38098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4" name="" descr=""/>
          <p:cNvPicPr/>
          <p:nvPr/>
        </p:nvPicPr>
        <p:blipFill>
          <a:blip r:embed="rId3"/>
          <a:srcRect l="2501" t="9703" r="74564" b="7515"/>
          <a:stretch/>
        </p:blipFill>
        <p:spPr>
          <a:xfrm>
            <a:off x="0" y="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Efficacia della vaccinazione antipapillomavirus umano in relazione all’esposizione ad H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28600" y="2286000"/>
            <a:ext cx="4114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onne che non sono mai state esposte ad HP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icacia de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00% per i tipi contenuti nel vacci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icacia minori per tipi omologhi non contenuti nel vacci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venzione di circa 80-85% dei carcinomi cervicali per tutte le donne vacci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648320" y="2286000"/>
            <a:ext cx="4190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ffff"/>
                </a:solidFill>
                <a:uFillTx/>
                <a:latin typeface="Times New Roman"/>
              </a:rPr>
              <a:t>Donne già esposte a uno o più tipi  di HP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fficacia per i tipi a cui non sono state ancora espo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revenzione dei cervicocarcinomi correlati agli HPV a cui non sono state ancora esposte, in misura variabile da caso a ca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8600" y="2057400"/>
            <a:ext cx="4191120" cy="464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495680" y="2057400"/>
            <a:ext cx="4419720" cy="464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83808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La vaccinazione antipapilloma virus</a:t>
            </a:r>
            <a:br>
              <a:rPr sz="3200"/>
            </a:br>
            <a:r>
              <a:rPr b="0" i="1" lang="it-IT" sz="3200" spc="-1" strike="noStrike">
                <a:solidFill>
                  <a:srgbClr val="ffff00"/>
                </a:solidFill>
                <a:latin typeface="Times New Roman"/>
              </a:rPr>
              <a:t>…chi vaccinare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90440" y="1600200"/>
            <a:ext cx="8915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dealmente il vaccino dovrebbe essere somministrato prima di una potenziale esposizione a HPV, quindi prima dell’inizio dei rapporti sessua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’immunogenicità e l’efficacia del vaccino sono state sperimentate e registrate in donne fino a 26 anni. In donne da 26 a 45 anni è stata recentemente dimostrata efficacia del 92% (quadrivalent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a vaccinazione dà un beneficio pieno a chi non è stato ancora esposto ad HPV, ma dà un beneficio, se pur minore, anche a chi è già stato espo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on è possibile stabilire prima l’entità del beneficio che ne può avere una persona sessualmente attiva e d’altra parte il rischio di esposizione continua fino a che una persona è sessualmente at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rima della vaccinazione, ai fini di questa,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n è necessari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che la donna faccia il Pap test o il test HPV o il test degli anticorpi anti HP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21932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150920" y="228600"/>
            <a:ext cx="779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La vaccinazione antipapilloma virus</a:t>
            </a:r>
            <a:br>
              <a:rPr sz="3600"/>
            </a:br>
            <a:r>
              <a:rPr b="0" i="1" lang="it-IT" sz="3200" spc="-1" strike="noStrike">
                <a:solidFill>
                  <a:srgbClr val="ffff00"/>
                </a:solidFill>
                <a:latin typeface="Times New Roman"/>
              </a:rPr>
              <a:t>…chi vaccinare </a:t>
            </a:r>
            <a:r>
              <a:rPr b="0" i="1" lang="it-IT" sz="3200" spc="-1" strike="noStrike">
                <a:solidFill>
                  <a:srgbClr val="ff9900"/>
                </a:solidFill>
                <a:latin typeface="Times New Roman"/>
              </a:rPr>
              <a:t>?….se il Pap test è anorma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3520" y="1905120"/>
            <a:ext cx="8421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Le donne con </a:t>
            </a:r>
            <a:r>
              <a:rPr b="0" lang="it-IT" sz="2600" spc="-1" strike="noStrike" u="sng">
                <a:solidFill>
                  <a:srgbClr val="ffffff"/>
                </a:solidFill>
                <a:uFillTx/>
                <a:latin typeface="Times New Roman"/>
              </a:rPr>
              <a:t>Pap test anormale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potrebbero essere infettate con uno dei circa 40 tipi di HPV ad alto rischio, ma è molto improbabile che una donna sia infettata con tutti e quattro tipi presenti nel vaccin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La vaccinazione </a:t>
            </a:r>
            <a:r>
              <a:rPr b="0" lang="it-IT" sz="2600" spc="-1" strike="noStrike" u="sng">
                <a:solidFill>
                  <a:srgbClr val="ffffff"/>
                </a:solidFill>
                <a:uFillTx/>
                <a:latin typeface="Times New Roman"/>
              </a:rPr>
              <a:t>dà protezione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per i tipi di HPV con cui non è infetta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Più alto è il grado di alterazione del Pap test più alta è la probabilità che la donna sia infettata con il tipo 16 o 18 e quindi il beneficio della vaccinazione diminuis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Il vaccino </a:t>
            </a:r>
            <a:r>
              <a:rPr b="0" lang="it-IT" sz="2600" spc="-1" strike="noStrike" u="sng">
                <a:solidFill>
                  <a:srgbClr val="ffffff"/>
                </a:solidFill>
                <a:uFillTx/>
                <a:latin typeface="Times New Roman"/>
              </a:rPr>
              <a:t>non ha effetto terapeutico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sulla infezione esist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1150920" y="228600"/>
            <a:ext cx="779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La vaccinazione antipapilloma virus</a:t>
            </a:r>
            <a:br>
              <a:rPr sz="3200"/>
            </a:br>
            <a:r>
              <a:rPr b="0" i="1" lang="it-IT" sz="3000" spc="-1" strike="noStrike">
                <a:solidFill>
                  <a:srgbClr val="ffff00"/>
                </a:solidFill>
                <a:latin typeface="Times New Roman"/>
              </a:rPr>
              <a:t>Chi vaccinare ? </a:t>
            </a:r>
            <a:r>
              <a:rPr b="0" i="1" lang="it-IT" sz="3000" spc="-1" strike="noStrike">
                <a:solidFill>
                  <a:srgbClr val="ff9900"/>
                </a:solidFill>
                <a:latin typeface="Times New Roman"/>
              </a:rPr>
              <a:t>… se vi è un test HPV positivo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 donne c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st HPV positiv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r alto rischio tipo HC2 potrebbero avere un’infezione d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o  dei 13 tip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d alto rischio compresi nel test, ma potrebbero anche non essere infettate con nessuno dei quattro tipi contenuti nel vacci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positività del test indica infezione attuale, ma non infezioni pregre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vaccinazion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à protezio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r i tipi di HPV contenuti nel vaccino e non ancora acquisiti.Gli acquisiti non sono necessariamente indicati dal t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 vaccin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n ha nessuna azione terapeutic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ulle infezioni già acquisite o sulle lesioni cervicali o vaginali esisten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52388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INFEZIONE HPV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Infezione persistente HPV alto rischio / progress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Epitelio normale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attivazione protooncoge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perdita dei geni soppressor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attività telomeras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Vaccinazione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           scree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lesioni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CIN 1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CIN 2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CIN 3     Carcinoma invas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(20%)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it-IT" sz="1800" spc="-1" strike="noStrike" u="sng">
                <a:solidFill>
                  <a:srgbClr val="ffffff"/>
                </a:solidFill>
                <a:uFillTx/>
                <a:latin typeface="Times New Roman"/>
              </a:rPr>
              <a:t>+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13 an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Clearance HP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La  scomparsa dell’HPV e la regressione del CIN dipendono 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-grado C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-stato immunit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-caratteristiche HPV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Non lesioni (&gt;80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Infezione da HPV e patogenesi del carcinoma cervicale 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( mod. da Meijer C.J., 2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13372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18288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182880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213372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24382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2743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190512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43434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4495680"/>
            <a:ext cx="2590560" cy="381240"/>
          </a:xfrm>
          <a:prstGeom prst="rtTriangle">
            <a:avLst/>
          </a:pr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143000" cy="1112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>
            <a:off x="3123720" y="4419720"/>
            <a:ext cx="3505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28600" y="21337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274320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2666880"/>
            <a:ext cx="228600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590920"/>
            <a:ext cx="1981080" cy="609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La vaccinazione antipapilloma virus</a:t>
            </a:r>
            <a:br>
              <a:rPr sz="3600"/>
            </a:br>
            <a:r>
              <a:rPr b="0" i="1" lang="it-IT" sz="3200" spc="-1" strike="noStrike">
                <a:solidFill>
                  <a:srgbClr val="ffff00"/>
                </a:solidFill>
                <a:latin typeface="Times New Roman"/>
              </a:rPr>
              <a:t>Chi vaccinare ? </a:t>
            </a:r>
            <a:r>
              <a:rPr b="0" i="1" lang="it-IT" sz="3200" spc="-1" strike="noStrike">
                <a:solidFill>
                  <a:srgbClr val="ff9900"/>
                </a:solidFill>
                <a:latin typeface="Times New Roman"/>
              </a:rPr>
              <a:t>…. Se vi è storia o evidenza di condilomi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33520" y="2057400"/>
            <a:ext cx="842148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Una storia o l’evidenza di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dilom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indica infezione con HPV, spesso 6 o 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Queste donne potrebbero non avere infezione da HPV 6 e 11 insieme o non avere o non aver avuto infezione da HPV 16 e 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l vaccino dà protezione per le infezioni da HPV contenuti nel vaccino e non ancora acqui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l vaccino non ha effetto terapeutico sulle infezioni da HPV nè sui condilomi già esisten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1150920" y="304920"/>
            <a:ext cx="7792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La vaccinazione antipapilloma virus</a:t>
            </a:r>
            <a:br>
              <a:rPr sz="3200"/>
            </a:b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i="1" lang="it-IT" sz="3200" spc="-1" strike="noStrike">
                <a:solidFill>
                  <a:srgbClr val="ffff00"/>
                </a:solidFill>
                <a:latin typeface="Times New Roman"/>
              </a:rPr>
              <a:t>chi vaccinare ?</a:t>
            </a:r>
            <a:r>
              <a:rPr b="0" i="1" lang="it-IT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9900"/>
                </a:solidFill>
                <a:latin typeface="Times New Roman"/>
              </a:rPr>
              <a:t>……in gravidanz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4920" y="1447920"/>
            <a:ext cx="86104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l vaccino non ha virus v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l vaccino non è associato ad effetti avversi sull’esito della gravidanza o sullo sviluppo embrio-feta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 dati su vaccinazioni anti HPV durante la gravidanza sono scarsi. Fino alla disponibilità di dati più numeros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l’inizio della vaccinazione dovrebbe essere rinviato a dopo il termine della gravidanza. Può essere somministrato durante l’allattamen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se la gravidanza interviene dopo l’inizio della vaccinazione, le dosi rimanenti si somministrano dopo il termine della gravidan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se una dose di vaccino viene somministrata durante la gravidanza non è necessario  fare n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registro delle vaccinazioni in gravidan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0880" y="6477120"/>
            <a:ext cx="45720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2952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066680" y="152280"/>
            <a:ext cx="787716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La vaccinazione antipapilloma virus</a:t>
            </a:r>
            <a:br>
              <a:rPr sz="3600"/>
            </a:br>
            <a:r>
              <a:rPr b="0" i="1" lang="it-IT" sz="3200" spc="-1" strike="noStrike">
                <a:solidFill>
                  <a:srgbClr val="ffff00"/>
                </a:solidFill>
                <a:latin typeface="Times New Roman"/>
              </a:rPr>
              <a:t>…chi vaccinare ?</a:t>
            </a:r>
            <a:r>
              <a:rPr b="0" i="1" lang="it-IT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9900"/>
                </a:solidFill>
                <a:latin typeface="Times New Roman"/>
              </a:rPr>
              <a:t>……in caso di immunodepressio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52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Poiché il vaccino HPV non ha virus vivo può essere somministrato a soggetti immunodepress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a risposta immunitaria potrebbe essere più bassa che nei soggetti immunocompeten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ono necessari studi specifi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2952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1447920" y="228600"/>
            <a:ext cx="749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La vaccinazione antipapilloma virus</a:t>
            </a:r>
            <a:br>
              <a:rPr sz="3200"/>
            </a:b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i="1" lang="it-IT" sz="3200" spc="-1" strike="noStrike">
                <a:solidFill>
                  <a:srgbClr val="ffff00"/>
                </a:solidFill>
                <a:latin typeface="Times New Roman"/>
              </a:rPr>
              <a:t>chi vaccinare ?</a:t>
            </a:r>
            <a:r>
              <a:rPr b="0" i="1" lang="it-IT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9900"/>
                </a:solidFill>
                <a:latin typeface="Times New Roman"/>
              </a:rPr>
              <a:t>…vaccinare gli uomini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088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ono disponibili i dati di immunogenicità e sicurezza sugli uomini, ma non ancora quelli di effica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ono necessari studi per definire l’efficacia del vaccino quadrivalente HPV per prevenir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 condilomi e le neoplasie intraepiteliali anogenitali nei masc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a trasmissione ai partner sessuali femminili o maschi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21932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2286000" y="304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cinomi HPV correlat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304920" y="1371600"/>
          <a:ext cx="8610120" cy="5181480"/>
        </p:xfrm>
        <a:graphic>
          <a:graphicData uri="http://schemas.openxmlformats.org/drawingml/2006/table">
            <a:tbl>
              <a:tblPr/>
              <a:tblGrid>
                <a:gridCol w="2355840"/>
                <a:gridCol w="2809800"/>
                <a:gridCol w="3444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cinom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HPV correlat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erv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g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-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ulv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saloid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-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eratinizzant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-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ofarin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-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vità ora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saloid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-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eratinizzant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22860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OSITIVITA’ PER HPV IN CARCINOMI UMANI ANOGENITALI E NON-ANOGENITA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57200" y="1600200"/>
          <a:ext cx="8356680" cy="4867200"/>
        </p:xfrm>
        <a:graphic>
          <a:graphicData uri="http://schemas.openxmlformats.org/drawingml/2006/table">
            <a:tbl>
              <a:tblPr/>
              <a:tblGrid>
                <a:gridCol w="3200400"/>
                <a:gridCol w="3124080"/>
                <a:gridCol w="2032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po di HPV associa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ercentuale HPV-positiv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8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Cerv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ul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asaloide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“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arty” cheratinizza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e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asaloide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“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arty” cheratinizza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ag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vità orale e tonsi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tto ungue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16, 18,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31, 33, 35, 39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, 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, 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, 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, 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, 18, 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~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gt;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gt;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~4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~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~2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~7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150920" y="228600"/>
            <a:ext cx="779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La vaccinazione antipapilloma virus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ff00"/>
                </a:solidFill>
                <a:latin typeface="Times New Roman"/>
              </a:rPr>
              <a:t>Dosaggio e somministr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280" y="1523880"/>
            <a:ext cx="88394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a somministrazione completa è di tre dosi, di cui la seconda e la terza rispettivamente 2 e 6 mesi dopo la pr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2 mesi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    6 me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’intervallo minimo tra la prima e la seconda dose è di 4 settimane e quello tra la seconda e la terza di 12 settim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osi inadeguate o somministrate dopo un tempo più breve di quello previsto devono essere risomminist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e non viene completata la somministrazione di tutte e tre le dosi, non è necessario ricominci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se è stato interrotto dopo la prima dose , la seconda  dovrebbe essere somministrata appena possibile e la terza 12 settimane dopo la seco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se  si sono oltrepassate 12 settimane dopo la seconda dose, la terza dovrebbe essere somministrata appena possibi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743200"/>
            <a:ext cx="5639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2952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1295280" y="152280"/>
            <a:ext cx="76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La vaccinazione antipapilloma virus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it-IT" sz="3200" spc="-1" strike="noStrike">
                <a:solidFill>
                  <a:srgbClr val="ffff00"/>
                </a:solidFill>
                <a:latin typeface="Times New Roman"/>
              </a:rPr>
              <a:t>Dosaggio e somministr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0880" y="1828800"/>
            <a:ext cx="857412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l vaccino quadrivalente per HPV può essere somministrato in caso di malattie acute minori (diarrea, infezioni respiratorie lievi,con o senza febbre), deve essere rinviato a dopo la guarigione in caso di malattie medio-gra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l vaccino HPV non è un vaccino vivo e non ha componenti che possano diminuire la sicurezza o l’efficacia di altri vaccini, per cui può essere somministrato anche con altri vaccin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iascun vaccino deve tuttavia essere somministrato usando una siringa diversa ed iniettato in un posto diverso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2952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914400" y="3049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Vaccinazione antipapilloma virus e screening prevenzione cervicocarcinoma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Popolazione target per et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accina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11-12 an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18 an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25 an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dopo?…immunogenicità ed efficacia (26- 45 anni) dimost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cree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25-64 an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on vacci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Vaccinate “naive” (efficacia tota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Vaccinate non “naive” (efficacia parzia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362320" y="2514600"/>
            <a:ext cx="0" cy="457200"/>
          </a:xfrm>
          <a:prstGeom prst="line">
            <a:avLst/>
          </a:prstGeom>
          <a:ln w="572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77120" y="2514600"/>
            <a:ext cx="0" cy="380880"/>
          </a:xfrm>
          <a:prstGeom prst="line">
            <a:avLst/>
          </a:prstGeom>
          <a:ln w="572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143000" cy="111276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85800" y="1981080"/>
            <a:ext cx="3886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1981080"/>
            <a:ext cx="373392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648320" y="2971800"/>
            <a:ext cx="304560" cy="76320"/>
          </a:xfrm>
          <a:prstGeom prst="leftRightArrow">
            <a:avLst>
              <a:gd name="adj1" fmla="val 50000"/>
              <a:gd name="adj2" fmla="val 79442"/>
            </a:avLst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648320" y="4038480"/>
            <a:ext cx="304560" cy="76320"/>
          </a:xfrm>
          <a:prstGeom prst="leftRightArrow">
            <a:avLst>
              <a:gd name="adj1" fmla="val 50000"/>
              <a:gd name="adj2" fmla="val 79442"/>
            </a:avLst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648320" y="5181480"/>
            <a:ext cx="304560" cy="76320"/>
          </a:xfrm>
          <a:prstGeom prst="leftRightArrow">
            <a:avLst>
              <a:gd name="adj1" fmla="val 50000"/>
              <a:gd name="adj2" fmla="val 79442"/>
            </a:avLst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143000" y="228600"/>
            <a:ext cx="779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La vaccinazione antipapilloma virus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 e 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screening per il cervicocarcino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e donne vaccinate andranno aumentando negli anni ma in esse il vaccino avrà avuto una efficacia variabile in relazione alle condizioni iniziali(naive o non naiv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e raccomandazioni per lo screening non cambiano per le donne vaccinat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perché i tipi virali per cui si vaccina rappresentano solo il 70-80% di quelli implicati nel cancro cervic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perché potrebbe essere già stata esposta ad uno o più tipi di HP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hi somministra il vaccino deve informare sull’importanza di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n abbandonare lo screening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per il cervicocarcin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5120" y="8892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Incidenza dell’infezione da HPV secondo l’età </a:t>
            </a: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(Myers,20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17520" y="1828800"/>
          <a:ext cx="85345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828800"/>
                    <a:ext cx="85345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85800" y="6553080"/>
          <a:ext cx="8458200" cy="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6553080"/>
                    <a:ext cx="845820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828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fluenza della vaccinazione sullo screening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04920" y="1981080"/>
            <a:ext cx="4114800" cy="46483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mpatto del vaccino sulle lesioni cervica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iminuzione d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SILHPV hr   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20-3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SILHPV lr    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3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HSIL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50-7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a sq. Inv.        &gt; 70-8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48320" y="1981080"/>
            <a:ext cx="42670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i="1" lang="it-IT" sz="2600" spc="-1" strike="noStrike">
                <a:solidFill>
                  <a:srgbClr val="ffffff"/>
                </a:solidFill>
                <a:latin typeface="Times New Roman"/>
              </a:rPr>
              <a:t>Minor numero di lesioni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it-IT" sz="2600" spc="-1" strike="noStrike">
                <a:solidFill>
                  <a:srgbClr val="ffffff"/>
                </a:solidFill>
                <a:latin typeface="Times New Roman"/>
              </a:rPr>
              <a:t>-problemi apert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Come mantenere l’attenzione sia dei citologi che dei colposcopi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Come rivedere linee-guida diagnosi, trattamento e follow-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Quali indicatori di qualità e  di efficacia e nuovi standar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Maggiore centralizzazio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………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04920" y="1981080"/>
            <a:ext cx="4114800" cy="464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48320" y="1981080"/>
            <a:ext cx="4267080" cy="46483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1295280" y="60948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La vaccinazione antipapillomavirus umano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ff33"/>
                </a:solidFill>
                <a:latin typeface="Times New Roman"/>
              </a:rPr>
              <a:t>!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ndispensabil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gistro vaccinazion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onne vaccin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vaccinazioni in gravida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eventi avver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vaccinazioni immunodepre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ff33"/>
                </a:solidFill>
                <a:latin typeface="Times New Roman"/>
              </a:rPr>
              <a:t>!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ollegamento       con: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registri oncolog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registri scre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Integrazione tra prevenzione primaria e secondaria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143000" cy="11127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3352680" y="4343400"/>
            <a:ext cx="457200" cy="76320"/>
          </a:xfrm>
          <a:prstGeom prst="leftRightArrow">
            <a:avLst>
              <a:gd name="adj1" fmla="val 50000"/>
              <a:gd name="adj2" fmla="val 119257"/>
            </a:avLst>
          </a:prstGeom>
          <a:solidFill>
            <a:srgbClr val="66ff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5562720"/>
            <a:ext cx="8077320" cy="91440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4300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Prevalenza di HPV*, LSIL**, HSIL** in relazione all’età</a:t>
            </a: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   da  Myers, 2000</a:t>
            </a:r>
            <a:br>
              <a:rPr sz="2400"/>
            </a:b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i="1" lang="it-IT" sz="2000" spc="-1" strike="noStrike">
                <a:solidFill>
                  <a:srgbClr val="ffff00"/>
                </a:solidFill>
                <a:latin typeface="Times New Roman"/>
              </a:rPr>
              <a:t>*DNAHPV+ con citologia normale  ** diagnosi istologica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80880" y="2209680"/>
          <a:ext cx="84582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09680"/>
                    <a:ext cx="8458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 flipH="1">
            <a:off x="1752480" y="2286000"/>
            <a:ext cx="15264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5200" y="17938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ccin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742840" y="3429000"/>
            <a:ext cx="7621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28954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e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828800"/>
            <a:ext cx="175284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2895480"/>
            <a:ext cx="12952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rcRect l="2501" t="9703" r="74564" b="7515"/>
          <a:stretch/>
        </p:blipFill>
        <p:spPr>
          <a:xfrm>
            <a:off x="0" y="0"/>
            <a:ext cx="1143000" cy="1112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2209680" y="2286000"/>
            <a:ext cx="763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36232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2438280"/>
            <a:ext cx="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3429000"/>
            <a:ext cx="9144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2362320"/>
            <a:ext cx="15228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6668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Risposta anticorpale ed efficacia del vaccino quadrivalente anti H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981080"/>
            <a:ext cx="86104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Induce anticorpi antiHPV nel 99,5% dei casi dopo la terza do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molto più alti che nell’immunità natur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ersistenti anche dopo 5 a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forte memoria immunitar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apaci di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impedire la penetrazione del virus nelle cell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Ha efficacia profilattica nel preveni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99-100% dei CIN 2&amp;3, AIS in soggetti con vaccinazione completa, sieronegativi all’inizio della stessa , HPV negativi al termine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90% dei condilomi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(quadrivalen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90360" y="1981080"/>
          <a:ext cx="9053640" cy="3621240"/>
        </p:xfrm>
        <a:graphic>
          <a:graphicData uri="http://schemas.openxmlformats.org/drawingml/2006/table">
            <a:tbl>
              <a:tblPr/>
              <a:tblGrid>
                <a:gridCol w="4405320"/>
                <a:gridCol w="762120"/>
                <a:gridCol w="1066680"/>
                <a:gridCol w="762120"/>
                <a:gridCol w="762120"/>
                <a:gridCol w="1295280"/>
              </a:tblGrid>
              <a:tr h="100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Endpoi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accino Quadrivalente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N=8,487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cebo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N=8,46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Efficacia osservata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 (C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a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a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IN 2/3 o AIS  correlati a HPV 16, 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IN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IN 3/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0%</a:t>
                      </a: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93, 1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0%</a:t>
                      </a: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89, 1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0%</a:t>
                      </a: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88, 1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90360" y="85680"/>
            <a:ext cx="90727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alisi combinata di efficaci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opolazione PPE (CIN 2/3 o evento più grav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5715000"/>
            <a:ext cx="92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urata mediana del follow-up = 4, 3 o 2 anni, in base allo studio dopo il termine del ciclo vaccin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172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 Narrow"/>
              </a:rPr>
              <a:t>*</a:t>
            </a: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SPMSD data on file, 2005. Ault K on behalf of the Gardasil</a:t>
            </a:r>
            <a:r>
              <a:rPr b="0" lang="en-GB" sz="1200" spc="-1" strike="noStrike" baseline="30000">
                <a:solidFill>
                  <a:srgbClr val="ffffff"/>
                </a:solidFill>
                <a:latin typeface="Arial Narrow"/>
              </a:rPr>
              <a:t>TM</a:t>
            </a: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 Phase III Steering Committee. Prophylactic use of quadrivalent human papillomavirus (HPV) (types 6, 11, 16, 18) L1 virus-like particle (VLP) vaccine reduces cervical intraepithelial neoplasia (CIN) 2/3 and adenocarcinoma </a:t>
            </a:r>
            <a:r>
              <a:rPr b="0" i="1" lang="en-GB" sz="1200" spc="-1" strike="noStrike">
                <a:solidFill>
                  <a:srgbClr val="ffffff"/>
                </a:solidFill>
                <a:latin typeface="Arial Narrow"/>
              </a:rPr>
              <a:t>in situ</a:t>
            </a: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 (AIS) risk. Abstract presented at European Cancer Conference. 2 November 2005. Paris, Fran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51000" y="1295280"/>
            <a:ext cx="679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po 3 dosi (0, 2 e 6 mes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19160" y="981000"/>
          <a:ext cx="9024840" cy="4932360"/>
        </p:xfrm>
        <a:graphic>
          <a:graphicData uri="http://schemas.openxmlformats.org/drawingml/2006/table">
            <a:tbl>
              <a:tblPr/>
              <a:tblGrid>
                <a:gridCol w="1633320"/>
                <a:gridCol w="3276720"/>
                <a:gridCol w="990720"/>
                <a:gridCol w="1600200"/>
                <a:gridCol w="1523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io clinic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ndpoint Primar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fficacia(C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a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TURE I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IN 1–3 o AIS correlati a </a:t>
                      </a: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HPV 6, 11, 16 o 18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4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87–10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aceb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TURE I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N 1–3, VaIN 1–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dilomi genitali correlati a </a:t>
                      </a: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HPV 6, 11, 16 o 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4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88–1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aceb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TURE II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IN 2/3 o AIS</a:t>
                      </a: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 correlati a HPV 16 o 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.1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6–1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aceb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alisi Combinata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IN 2/3 o AIS</a:t>
                      </a: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 correlati a HPV 16 o 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.5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93–1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aceb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alisi Combinata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IN 3 o AIS</a:t>
                      </a: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 correlati 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HPV 16 o 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.5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88–1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aceb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15840" y="0"/>
            <a:ext cx="9072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iassunto dei dati clinici 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Endpoints primari secondo Protocollo</a:t>
            </a: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245280"/>
            <a:ext cx="913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1. CSR_V501_013_P013 DRAFT. 2. CSR_V501_015-03_P015V2 DRAFT. 3. Ault K on behalf of the Gardasil</a:t>
            </a:r>
            <a:r>
              <a:rPr b="0" lang="en-GB" sz="1200" spc="-1" strike="noStrike" baseline="30000">
                <a:solidFill>
                  <a:srgbClr val="ffffff"/>
                </a:solidFill>
                <a:latin typeface="Arial Narrow"/>
              </a:rPr>
              <a:t>TM</a:t>
            </a: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 Phase III Steering Committee. Prophylactic use of quadrivalent human papillomavirus (HPV) (types 6, 11, 16, 18) L1 virus-like particle (VLP) vaccine reduces cervical intraepithelial neoplasia (CIN) 2/3 and adenocarcinoma </a:t>
            </a:r>
            <a:r>
              <a:rPr b="0" i="1" lang="en-GB" sz="1200" spc="-1" strike="noStrike">
                <a:solidFill>
                  <a:srgbClr val="ffffff"/>
                </a:solidFill>
                <a:latin typeface="Arial Narrow"/>
              </a:rPr>
              <a:t>in situ</a:t>
            </a: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 (AIS) risk. Abstract presented at European Cancer Conference. 2 November 2005. Paris, Fran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0" y="6086520"/>
            <a:ext cx="850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fezioni e lesioni genitali HPV correlate in Euro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8600" y="1371600"/>
          <a:ext cx="8763120" cy="5181480"/>
        </p:xfrm>
        <a:graphic>
          <a:graphicData uri="http://schemas.openxmlformats.org/drawingml/2006/table">
            <a:tbl>
              <a:tblPr/>
              <a:tblGrid>
                <a:gridCol w="2894040"/>
                <a:gridCol w="1366920"/>
                <a:gridCol w="1530360"/>
                <a:gridCol w="1523880"/>
                <a:gridCol w="1447920"/>
              </a:tblGrid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ervi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ulva vagin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PV16-18 correla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HPV 6-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orrela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cinoma invasiv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4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0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sioni alto grad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30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20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sioni basso grad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40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00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800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lom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250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fezione HP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2% donne 25-64 ann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Vaccinazione antipapillomavirus umano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…c</a:t>
            </a:r>
            <a:r>
              <a:rPr b="1" i="1" lang="it-IT" sz="3200" spc="-1" strike="noStrike">
                <a:solidFill>
                  <a:srgbClr val="ffff00"/>
                </a:solidFill>
                <a:latin typeface="Times New Roman"/>
              </a:rPr>
              <a:t>hi vaccinare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Gli anticorpi indotti dal vaccino sono capaci di impedire la penetrazione del virus nelle cellu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L’efficacia della vaccinazione è massima in chi non è ancora stato esposto agli  HPV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Idealmente il vaccino dovrebbe essere somministrato prima di una potenziale esposizione a HPV, quindi prima dell’inizio dei rapporti sessual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0666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4:18:33Z</dcterms:created>
  <dc:creator>p000387</dc:creator>
  <dc:description/>
  <dc:language>en-US</dc:language>
  <cp:lastModifiedBy>xxxxxxx</cp:lastModifiedBy>
  <dcterms:modified xsi:type="dcterms:W3CDTF">2007-11-08T22:33:43Z</dcterms:modified>
  <cp:revision>5</cp:revision>
  <dc:subject/>
  <dc:title>La vaccinazione anti HPV:indicazioni e counselling</dc:title>
</cp:coreProperties>
</file>