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1A5-1D25-47EE-888D-9F4A3A3A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422-FEFA-4EF2-BD9A-A397188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404-8A9A-48B5-9285-1AFC1191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E78-5C81-4751-B522-4A60AE25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3CB-CF8E-4F94-A7DC-FFFBB05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841-6222-4F71-A45A-4283B9A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EE4-4498-4147-9634-DEBD074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B4C-9C1D-49C5-A3ED-2F21B7F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890-B5A7-4A08-B289-89894968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AB3-317C-418A-8C07-8C3BB6A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C22-6888-4EBF-B798-8239924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AEA-52E9-4882-8707-3FAA0D7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1AE-83E8-4F60-912A-46D7B64896D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Screening oncologici ginecologic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D. Minuc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gresso nazionale A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oma 9/11/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Criticità dello screening citologic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Equità dell’offerta dello screening in tutto il territorio naz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Adesione allo scre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apporto sensibilità/specificità dei test di screening (citologia, test HP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llegamento tra primo e secondo livello (compliance alla colposcop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erifiche di qualità, indicatori,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Attivazione programmi screening citologico in Italia e adesio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981080"/>
          <a:ext cx="8686800" cy="4114800"/>
        </p:xfrm>
        <a:graphic>
          <a:graphicData uri="http://schemas.openxmlformats.org/drawingml/2006/table">
            <a:tbl>
              <a:tblPr/>
              <a:tblGrid>
                <a:gridCol w="1460520"/>
                <a:gridCol w="977760"/>
                <a:gridCol w="944640"/>
                <a:gridCol w="998640"/>
                <a:gridCol w="1000080"/>
                <a:gridCol w="998640"/>
                <a:gridCol w="1230120"/>
                <a:gridCol w="10764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mi at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°donne obiet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9379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8013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2604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152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1077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0674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695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donne 25-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,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,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sione inv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,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52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Estensione programmi screening citologici in Italia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copertura della popolazione bersaglio (donne 25-64 anni) è in estensione, ma non è ancora completa (circa 2/3 nel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62520" y="1905120"/>
          <a:ext cx="5181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5181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Attivazione programmi screening citologico in Italia e adesioni(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981080"/>
          <a:ext cx="792468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064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mi at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NT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D e ISO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°donne obiet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872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333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49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695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don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-64 an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,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,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sione inv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Attivazione programmi screening citologico in Italia e adesioni(2005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1600200"/>
          <a:ext cx="8610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610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Criticità dello screening citologic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quità dell’offerta dello screening in tutto il territorio naz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desione allo scre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Rapporto sensibilità/specificità dei test di screening (citologia, test HP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llegamento tra primo e secondo livello (compliance alla colposcop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erifiche di qualità, indicatori,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tudio italiano NTTC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1° fase reclut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981080"/>
          <a:ext cx="8001000" cy="4525920"/>
        </p:xfrm>
        <a:graphic>
          <a:graphicData uri="http://schemas.openxmlformats.org/drawingml/2006/table">
            <a:tbl>
              <a:tblPr/>
              <a:tblGrid>
                <a:gridCol w="2066760"/>
                <a:gridCol w="2428920"/>
                <a:gridCol w="1752840"/>
                <a:gridCol w="175248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-34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-60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PV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nsibilità relati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PV test vs P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PV test vs P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P vs P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P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57200" y="4724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Criticità dello screening citologic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quità dell’offerta dello screening in tutto il territorio naz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desione allo scre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apporto sensibilità/specificità dei test di screening (citologia, test HP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Collegamento tra primo e secondo livello (compliance alla colposcop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Verifiche di qualità, indicatori,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creening citologico in Italia anno 2004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Compliance alla colposcopia per Pap test anorm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2438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Lo screening per la prevenzione del  cervicocarcino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668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razie allo screening molti paesi, tra cui l’Italia, hanno i più bassi tassi di cervicocarcinoma ( 8-9/100.000 donne /ann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uttavia, per quanto efficace, rimane un </a:t>
            </a:r>
            <a:r>
              <a:rPr b="0" lang="it-IT" sz="3200" spc="-1" strike="noStrike" u="sng">
                <a:solidFill>
                  <a:srgbClr val="ff9900"/>
                </a:solidFill>
                <a:uFillTx/>
                <a:latin typeface="Times New Roman"/>
              </a:rPr>
              <a:t>sistema imperfetto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che non previene la totalità dei ca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280" y="87480"/>
            <a:ext cx="90727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40" y="6541920"/>
            <a:ext cx="9037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 Narrow"/>
                <a:ea typeface="Arial"/>
              </a:rPr>
              <a:t>1. Ferlay et al, editors. Globocan 2002: Cancer incidence, mortality and prevalence worldwide, version 2.0 IARC Cancer-Base No.5. Lyon. IARC Press, 2004.</a:t>
            </a:r>
            <a:r>
              <a:rPr b="0" lang="en-GB" sz="9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62040" y="380880"/>
            <a:ext cx="6019920" cy="4647600"/>
            <a:chOff x="1562040" y="380880"/>
            <a:chExt cx="6019920" cy="4647600"/>
          </a:xfrm>
        </p:grpSpPr>
        <p:grpSp>
          <p:nvGrpSpPr>
            <p:cNvPr id="46" name=""/>
            <p:cNvGrpSpPr/>
            <p:nvPr/>
          </p:nvGrpSpPr>
          <p:grpSpPr>
            <a:xfrm>
              <a:off x="1576080" y="777240"/>
              <a:ext cx="5990040" cy="4251240"/>
              <a:chOff x="1576080" y="777240"/>
              <a:chExt cx="5990040" cy="4251240"/>
            </a:xfrm>
          </p:grpSpPr>
          <p:sp>
            <p:nvSpPr>
              <p:cNvPr id="47" name=""/>
              <p:cNvSpPr/>
              <p:nvPr/>
            </p:nvSpPr>
            <p:spPr>
              <a:xfrm>
                <a:off x="2210760" y="4629960"/>
                <a:ext cx="476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1428840"/>
                    <a:tab algn="l" pos="2571840"/>
                    <a:tab algn="l" pos="3657600"/>
                    <a:tab algn="l" pos="4743360"/>
                    <a:tab algn="l" pos="58294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</a:rPr>
                  <a:t>&lt; 9.4            &lt; 17.2             &lt; 23.6            &lt; 33.7            &lt; 82.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29640" y="4415400"/>
                <a:ext cx="44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ffffff"/>
                    </a:solidFill>
                    <a:latin typeface="Arial"/>
                  </a:rPr>
                  <a:t>Incidenza standardizzata per l’età per 100,000 persone/ann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1"/>
              <a:srcRect l="0" t="18280" r="4672" b="8724"/>
              <a:stretch/>
            </p:blipFill>
            <p:spPr>
              <a:xfrm>
                <a:off x="1860480" y="935280"/>
                <a:ext cx="5464440" cy="33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170080" y="4738680"/>
                <a:ext cx="156240" cy="149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70800" y="4738680"/>
                <a:ext cx="156240" cy="149760"/>
              </a:xfrm>
              <a:prstGeom prst="rect">
                <a:avLst/>
              </a:prstGeom>
              <a:solidFill>
                <a:srgbClr val="0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81320" y="4738680"/>
                <a:ext cx="156240" cy="1497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107320" y="4738680"/>
                <a:ext cx="156240" cy="149760"/>
              </a:xfrm>
              <a:prstGeom prst="rect">
                <a:avLst/>
              </a:prstGeom>
              <a:solidFill>
                <a:srgbClr val="ffb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17480" y="4738680"/>
                <a:ext cx="156240" cy="149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6080" y="777240"/>
                <a:ext cx="5990040" cy="425124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562040" y="380880"/>
              <a:ext cx="6019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 Narrow"/>
                </a:rPr>
                <a:t>Incidenza di carcinoma cervicale standardizzata per l’età nel 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85680" y="5181480"/>
            <a:ext cx="748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Il carcinoma cervicale è presente nelle donne di ogni pa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 Narrow"/>
              </a:rPr>
              <a:t>Nel mondo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 2° per incidenza e 3°per mortal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 Narrow"/>
              </a:rPr>
              <a:t>In Italia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 9° per incidenza e 13° per mortal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" y="6527880"/>
            <a:ext cx="869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I cervicocarcinomi attualmente presenti in Italia (8-9/100.000 donne/anno) in don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560" y="4267080"/>
            <a:ext cx="13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ai fat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Pap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0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6320" y="434340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p test più 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5-8 anni p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69120" y="396252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p test anor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lposcopia/t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4343400"/>
            <a:ext cx="1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alsi nega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itolog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514600"/>
            <a:ext cx="1066680" cy="1676520"/>
          </a:xfrm>
          <a:prstGeom prst="downArrow">
            <a:avLst>
              <a:gd name="adj1" fmla="val 50000"/>
              <a:gd name="adj2" fmla="val 392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2514600"/>
            <a:ext cx="609840" cy="1676520"/>
          </a:xfrm>
          <a:prstGeom prst="downArrow">
            <a:avLst>
              <a:gd name="adj1" fmla="val 50000"/>
              <a:gd name="adj2" fmla="val 6872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2514600"/>
            <a:ext cx="380880" cy="1638360"/>
          </a:xfrm>
          <a:prstGeom prst="downArrow">
            <a:avLst>
              <a:gd name="adj1" fmla="val 50000"/>
              <a:gd name="adj2" fmla="val 10753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1000" y="2514600"/>
            <a:ext cx="76320" cy="1600200"/>
          </a:xfrm>
          <a:prstGeom prst="downArrow">
            <a:avLst>
              <a:gd name="adj1" fmla="val 50000"/>
              <a:gd name="adj2" fmla="val 52417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Screening per la prevenzione del  cervicocarcino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Grazie allo screening molti paesi, tra cui l’Italia, hanno i più bassi tassi di cervicocarcinoma ( 8-9/100.000 donne /an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otezione potenziale screening: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uttavia, per quanto efficace, rimane un </a:t>
            </a:r>
            <a:r>
              <a:rPr b="0" lang="it-IT" sz="2400" spc="-1" strike="noStrike" u="sng">
                <a:solidFill>
                  <a:srgbClr val="ff9900"/>
                </a:solidFill>
                <a:uFillTx/>
                <a:latin typeface="Times New Roman"/>
              </a:rPr>
              <a:t>sistema imperfet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he non previene la totalità dei c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olte donne ancora non fanno il Pap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olte non lo ripetono ogni 3 anni costante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na parte delle donne con Pap test anormale non eseguono accertamenti e t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l’adenocarcinoma l’efficacia è min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380988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981080"/>
            <a:ext cx="380988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Efficacia della vaccinazione antipapillomavirus umano in relazione all’esposizione ad H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2860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nne che non sono mai state esposte ad H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fficacia del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100% per i tipi contenuti nel vac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fficacia minori per tipi omologhi non contenuti nel vac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evenzione di circa 80-85% dei carcinomi cervicali per tutte le donne vacc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2286000"/>
            <a:ext cx="4190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nne già esposte a uno o più tipi  di H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fficacia per i tipi a cui non sono state ancora espo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evenzione dei cervicocarcinomi correlati agli HPV a cui non sono state ancora esposte, in misura variabile da caso a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057400"/>
            <a:ext cx="419112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057400"/>
            <a:ext cx="441972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304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Vaccinazione antipapilloma virus e screening prevenzione cervicocarcinoma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opolazione target per et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1-12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8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5 an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opo?…dimostrate immunogenicità ed  efficacia (26- 45 ann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25-64 an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n vacc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ccinate “naive” (efficacia tot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ccinate non “naive” (efficacia parzi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514600"/>
            <a:ext cx="0" cy="457200"/>
          </a:xfrm>
          <a:prstGeom prst="line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2514600"/>
            <a:ext cx="0" cy="380880"/>
          </a:xfrm>
          <a:prstGeom prst="line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580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97180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40384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51814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Influenza della vaccinazione sullo screening</a:t>
            </a:r>
            <a:r>
              <a:rPr b="1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981080"/>
            <a:ext cx="4114800" cy="4648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mpatto del vaccino sulle lesioni cervic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minuzione d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SILHPV hr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20-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SILHPV lr 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HSIL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50-7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 sq. Inv.        &gt; 70-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981080"/>
            <a:ext cx="4267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Minor numero di lesioni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it-IT" sz="2600" spc="-1" strike="noStrike">
                <a:solidFill>
                  <a:srgbClr val="ffffff"/>
                </a:solidFill>
                <a:latin typeface="Times New Roman"/>
              </a:rPr>
              <a:t>-problemi apert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me mantenere l’attenzione sia dei citologi che dei colposcopi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me rivedere linee-guida diagnosi, trattamento e follow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Quali indicatori di qualità e  di efficacia e nuovi standar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Maggiore centralizz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981080"/>
            <a:ext cx="41148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981080"/>
            <a:ext cx="4267080" cy="4648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Carcinoma cervice in Italia –2002</a:t>
            </a: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(tasso X 100.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981080"/>
          <a:ext cx="8610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610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524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364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cidenza del cancro in Europa per organo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onne 15-44 an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120" y="6521400"/>
            <a:ext cx="8318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 Narrow"/>
              </a:rPr>
              <a:t>Europa = 25 stati membri più Islanda, Norvegia ed Svizzera</a:t>
            </a:r>
            <a:r>
              <a:rPr b="0" lang="en-GB" sz="9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GB" sz="900" spc="-1" strike="noStrike">
                <a:solidFill>
                  <a:srgbClr val="ffffff"/>
                </a:solidFill>
                <a:latin typeface="Arial Narrow"/>
              </a:rPr>
              <a:t>Ferlay et al, editors. Globocan 2000: Cancer incidence, mortality and prevalence worldwide, version 1.0 IARC Cancer-Base No.5. Lyon. IARC Press, 2001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345280"/>
            <a:ext cx="86868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opo il carcinoma della mammella, il carcinoma cervicale è la neoplasia più diffusa tra le donne Europee di età compresa tra 15 e 44 a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1296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6512040"/>
            <a:ext cx="802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1143000"/>
            <a:ext cx="2057400" cy="4014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Cervice ute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Mamme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Melanoma cutane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Ova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Colon ret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Malattia di Hodgk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Tiro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Cervello S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Linfoma non Hodgk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Stoma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Leucem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Corpo dell’ut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Polm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Narrow"/>
              </a:rPr>
              <a:t>Altre neoplas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16440" y="1604880"/>
            <a:ext cx="1317600" cy="1455840"/>
          </a:xfrm>
          <a:custGeom>
            <a:avLst/>
            <a:gdLst/>
            <a:ahLst/>
            <a:rect l="l" t="t" r="r" b="b"/>
            <a:pathLst>
              <a:path w="150" h="153">
                <a:moveTo>
                  <a:pt x="150" y="19"/>
                </a:moveTo>
                <a:cubicBezTo>
                  <a:pt x="127" y="7"/>
                  <a:pt x="102" y="1"/>
                  <a:pt x="76" y="1"/>
                </a:cubicBezTo>
                <a:cubicBezTo>
                  <a:pt x="49" y="0"/>
                  <a:pt x="23" y="8"/>
                  <a:pt x="0" y="21"/>
                </a:cubicBezTo>
                <a:lnTo>
                  <a:pt x="76" y="153"/>
                </a:lnTo>
                <a:lnTo>
                  <a:pt x="150" y="1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92520" y="2109960"/>
            <a:ext cx="1503360" cy="2616120"/>
          </a:xfrm>
          <a:custGeom>
            <a:avLst/>
            <a:gdLst/>
            <a:ahLst/>
            <a:rect l="l" t="t" r="r" b="b"/>
            <a:pathLst>
              <a:path w="153" h="275">
                <a:moveTo>
                  <a:pt x="59" y="275"/>
                </a:moveTo>
                <a:cubicBezTo>
                  <a:pt x="116" y="251"/>
                  <a:pt x="153" y="195"/>
                  <a:pt x="153" y="134"/>
                </a:cubicBezTo>
                <a:cubicBezTo>
                  <a:pt x="153" y="78"/>
                  <a:pt x="122" y="27"/>
                  <a:pt x="74" y="0"/>
                </a:cubicBezTo>
                <a:lnTo>
                  <a:pt x="0" y="134"/>
                </a:lnTo>
                <a:lnTo>
                  <a:pt x="59" y="275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57600" y="3384720"/>
            <a:ext cx="554040" cy="1446120"/>
          </a:xfrm>
          <a:custGeom>
            <a:avLst/>
            <a:gdLst/>
            <a:ahLst/>
            <a:rect l="l" t="t" r="r" b="b"/>
            <a:pathLst>
              <a:path w="63" h="152">
                <a:moveTo>
                  <a:pt x="0" y="152"/>
                </a:moveTo>
                <a:cubicBezTo>
                  <a:pt x="2" y="152"/>
                  <a:pt x="3" y="152"/>
                  <a:pt x="4" y="152"/>
                </a:cubicBezTo>
                <a:cubicBezTo>
                  <a:pt x="24" y="152"/>
                  <a:pt x="44" y="148"/>
                  <a:pt x="63" y="141"/>
                </a:cubicBezTo>
                <a:lnTo>
                  <a:pt x="4" y="0"/>
                </a:lnTo>
                <a:lnTo>
                  <a:pt x="0" y="15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3384720"/>
            <a:ext cx="552240" cy="1446120"/>
          </a:xfrm>
          <a:custGeom>
            <a:avLst/>
            <a:gdLst/>
            <a:ahLst/>
            <a:rect l="l" t="t" r="r" b="b"/>
            <a:pathLst>
              <a:path w="63" h="152">
                <a:moveTo>
                  <a:pt x="0" y="139"/>
                </a:moveTo>
                <a:cubicBezTo>
                  <a:pt x="19" y="147"/>
                  <a:pt x="39" y="152"/>
                  <a:pt x="59" y="152"/>
                </a:cubicBezTo>
                <a:lnTo>
                  <a:pt x="63" y="0"/>
                </a:lnTo>
                <a:lnTo>
                  <a:pt x="0" y="139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87840" y="3384720"/>
            <a:ext cx="904680" cy="1322280"/>
          </a:xfrm>
          <a:custGeom>
            <a:avLst/>
            <a:gdLst/>
            <a:ahLst/>
            <a:rect l="l" t="t" r="r" b="b"/>
            <a:pathLst>
              <a:path w="103" h="139">
                <a:moveTo>
                  <a:pt x="0" y="113"/>
                </a:moveTo>
                <a:cubicBezTo>
                  <a:pt x="12" y="124"/>
                  <a:pt x="26" y="132"/>
                  <a:pt x="40" y="139"/>
                </a:cubicBezTo>
                <a:lnTo>
                  <a:pt x="103" y="0"/>
                </a:lnTo>
                <a:lnTo>
                  <a:pt x="0" y="113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76520" y="3384720"/>
            <a:ext cx="1116000" cy="1074600"/>
          </a:xfrm>
          <a:custGeom>
            <a:avLst/>
            <a:gdLst/>
            <a:ahLst/>
            <a:rect l="l" t="t" r="r" b="b"/>
            <a:pathLst>
              <a:path w="127" h="113">
                <a:moveTo>
                  <a:pt x="0" y="85"/>
                </a:moveTo>
                <a:cubicBezTo>
                  <a:pt x="7" y="95"/>
                  <a:pt x="15" y="104"/>
                  <a:pt x="24" y="113"/>
                </a:cubicBezTo>
                <a:lnTo>
                  <a:pt x="127" y="0"/>
                </a:lnTo>
                <a:lnTo>
                  <a:pt x="0" y="8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44760" y="3384720"/>
            <a:ext cx="1247760" cy="807840"/>
          </a:xfrm>
          <a:custGeom>
            <a:avLst/>
            <a:gdLst/>
            <a:ahLst/>
            <a:rect l="l" t="t" r="r" b="b"/>
            <a:pathLst>
              <a:path w="142" h="85">
                <a:moveTo>
                  <a:pt x="0" y="57"/>
                </a:moveTo>
                <a:cubicBezTo>
                  <a:pt x="4" y="66"/>
                  <a:pt x="9" y="76"/>
                  <a:pt x="15" y="85"/>
                </a:cubicBezTo>
                <a:lnTo>
                  <a:pt x="142" y="0"/>
                </a:lnTo>
                <a:lnTo>
                  <a:pt x="0" y="57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4920" y="3384720"/>
            <a:ext cx="1317600" cy="542880"/>
          </a:xfrm>
          <a:custGeom>
            <a:avLst/>
            <a:gdLst/>
            <a:ahLst/>
            <a:rect l="l" t="t" r="r" b="b"/>
            <a:pathLst>
              <a:path w="150" h="57">
                <a:moveTo>
                  <a:pt x="0" y="29"/>
                </a:moveTo>
                <a:cubicBezTo>
                  <a:pt x="2" y="38"/>
                  <a:pt x="5" y="48"/>
                  <a:pt x="8" y="57"/>
                </a:cubicBezTo>
                <a:lnTo>
                  <a:pt x="150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7920" y="3355920"/>
            <a:ext cx="1344600" cy="304920"/>
          </a:xfrm>
          <a:custGeom>
            <a:avLst/>
            <a:gdLst/>
            <a:ahLst/>
            <a:rect l="l" t="t" r="r" b="b"/>
            <a:pathLst>
              <a:path w="153" h="32">
                <a:moveTo>
                  <a:pt x="1" y="0"/>
                </a:moveTo>
                <a:cubicBezTo>
                  <a:pt x="1" y="1"/>
                  <a:pt x="1" y="2"/>
                  <a:pt x="1" y="3"/>
                </a:cubicBezTo>
                <a:cubicBezTo>
                  <a:pt x="0" y="13"/>
                  <a:pt x="1" y="22"/>
                  <a:pt x="3" y="32"/>
                </a:cubicBezTo>
                <a:lnTo>
                  <a:pt x="153" y="3"/>
                </a:lnTo>
                <a:lnTo>
                  <a:pt x="1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57640" y="3098880"/>
            <a:ext cx="1334880" cy="285840"/>
          </a:xfrm>
          <a:custGeom>
            <a:avLst/>
            <a:gdLst/>
            <a:ahLst/>
            <a:rect l="l" t="t" r="r" b="b"/>
            <a:pathLst>
              <a:path w="152" h="30">
                <a:moveTo>
                  <a:pt x="2" y="0"/>
                </a:moveTo>
                <a:cubicBezTo>
                  <a:pt x="1" y="9"/>
                  <a:pt x="0" y="18"/>
                  <a:pt x="0" y="27"/>
                </a:cubicBezTo>
                <a:lnTo>
                  <a:pt x="152" y="30"/>
                </a:lnTo>
                <a:lnTo>
                  <a:pt x="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4920" y="2870280"/>
            <a:ext cx="1317600" cy="514440"/>
          </a:xfrm>
          <a:custGeom>
            <a:avLst/>
            <a:gdLst/>
            <a:ahLst/>
            <a:rect l="l" t="t" r="r" b="b"/>
            <a:pathLst>
              <a:path w="150" h="54">
                <a:moveTo>
                  <a:pt x="8" y="0"/>
                </a:moveTo>
                <a:cubicBezTo>
                  <a:pt x="4" y="8"/>
                  <a:pt x="2" y="16"/>
                  <a:pt x="0" y="24"/>
                </a:cubicBezTo>
                <a:lnTo>
                  <a:pt x="150" y="54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4760" y="2660760"/>
            <a:ext cx="1247760" cy="723960"/>
          </a:xfrm>
          <a:custGeom>
            <a:avLst/>
            <a:gdLst/>
            <a:ahLst/>
            <a:rect l="l" t="t" r="r" b="b"/>
            <a:pathLst>
              <a:path w="142" h="76">
                <a:moveTo>
                  <a:pt x="10" y="0"/>
                </a:moveTo>
                <a:cubicBezTo>
                  <a:pt x="6" y="7"/>
                  <a:pt x="2" y="14"/>
                  <a:pt x="0" y="22"/>
                </a:cubicBezTo>
                <a:lnTo>
                  <a:pt x="142" y="76"/>
                </a:lnTo>
                <a:lnTo>
                  <a:pt x="1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3680" y="2489040"/>
            <a:ext cx="1158840" cy="895680"/>
          </a:xfrm>
          <a:custGeom>
            <a:avLst/>
            <a:gdLst/>
            <a:ahLst/>
            <a:rect l="l" t="t" r="r" b="b"/>
            <a:pathLst>
              <a:path w="132" h="94">
                <a:moveTo>
                  <a:pt x="12" y="0"/>
                </a:moveTo>
                <a:cubicBezTo>
                  <a:pt x="8" y="6"/>
                  <a:pt x="4" y="12"/>
                  <a:pt x="0" y="18"/>
                </a:cubicBezTo>
                <a:lnTo>
                  <a:pt x="132" y="94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38440" y="2127240"/>
            <a:ext cx="1054080" cy="1257480"/>
          </a:xfrm>
          <a:custGeom>
            <a:avLst/>
            <a:gdLst/>
            <a:ahLst/>
            <a:rect l="l" t="t" r="r" b="b"/>
            <a:pathLst>
              <a:path w="120" h="132">
                <a:moveTo>
                  <a:pt x="44" y="0"/>
                </a:moveTo>
                <a:cubicBezTo>
                  <a:pt x="27" y="10"/>
                  <a:pt x="12" y="23"/>
                  <a:pt x="0" y="38"/>
                </a:cubicBezTo>
                <a:lnTo>
                  <a:pt x="120" y="132"/>
                </a:lnTo>
                <a:lnTo>
                  <a:pt x="4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143000"/>
            <a:ext cx="201276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0200" y="1252440"/>
            <a:ext cx="106200" cy="11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80200" y="1538280"/>
            <a:ext cx="106200" cy="114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80200" y="1824120"/>
            <a:ext cx="106200" cy="114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80200" y="2100240"/>
            <a:ext cx="106200" cy="1126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80200" y="2384280"/>
            <a:ext cx="106200" cy="114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80200" y="2670120"/>
            <a:ext cx="106200" cy="11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2955960"/>
            <a:ext cx="106200" cy="11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0200" y="3232080"/>
            <a:ext cx="106200" cy="114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517920"/>
            <a:ext cx="106200" cy="11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80200" y="3803760"/>
            <a:ext cx="106200" cy="11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80200" y="4089240"/>
            <a:ext cx="106200" cy="11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80200" y="4373640"/>
            <a:ext cx="106200" cy="114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0200" y="4649760"/>
            <a:ext cx="106200" cy="11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0200" y="4935600"/>
            <a:ext cx="106200" cy="11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NFEZIONE HPV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Infezione persistente HPV alto rischio / progress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Epitelio normale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ttivazione protooncoge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erdita dei geni soppressor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ttività telomeras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scre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lesioni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1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2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IN 3     Carcinoma invas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20%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13 an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learance H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a  scomparsa dell’HPV e la regressione del CIN dipendono 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grado C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stato immunit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-caratteristiche HPV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Non lesioni (&gt;8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Infezione da HPV e patogenesi del carcinoma cervicale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( mod. da Meijer C.J.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1337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1828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13372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2438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74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905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3434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4495680"/>
            <a:ext cx="2590560" cy="381240"/>
          </a:xfrm>
          <a:prstGeom prst="rtTriangle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219320" cy="118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123720" y="44197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8600" y="21337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8195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666880"/>
            <a:ext cx="2286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9092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819520"/>
            <a:ext cx="609480" cy="53316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Prevalenza di HPV*, LSIL**, HSIL** in relazione all’età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da  Myers, 2000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it-IT" sz="2000" spc="-1" strike="noStrike">
                <a:solidFill>
                  <a:srgbClr val="ffff00"/>
                </a:solidFill>
                <a:latin typeface="Times New Roman"/>
              </a:rPr>
              <a:t>*DNAHPV+ con citologia normale  ** diagnosi istologica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3080" y="228600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28600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flipH="1">
            <a:off x="1752480" y="2286000"/>
            <a:ext cx="1526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5200" y="1793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ccin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361960" y="342900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895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1828800"/>
            <a:ext cx="17528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89548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2209680" y="228600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4382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42900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362320"/>
            <a:ext cx="1522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5029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5029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0" y="22860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Principali eventi della carcinogenesi cervi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9% della popolazione sottoposta a screening è positiva per HPV DNA alto rischio (9000/10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IN 3 =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 della popolazione sottoposta a screening (100/10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arcinoma cervicale: 8/100.000 donne/an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1752480"/>
          <a:ext cx="39988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52480"/>
                    <a:ext cx="39988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3160" y="533520"/>
            <a:ext cx="89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PREVENZIONE SECONDARIA CARCINOMA COLLO UT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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Screening citologico 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24382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pidemio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7680" y="3429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tologo e cito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9120" y="42670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Gineco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stetr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057400"/>
            <a:ext cx="32004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124080"/>
            <a:ext cx="373356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886200"/>
            <a:ext cx="312408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411480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Prelie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Gestione pap anor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T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Follow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0760" y="609588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Times New Roman"/>
              </a:rPr>
              <a:t>-Couns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134000">
            <a:off x="4495680" y="4723920"/>
            <a:ext cx="1371600" cy="1295640"/>
          </a:xfrm>
          <a:custGeom>
            <a:avLst/>
            <a:gdLst>
              <a:gd name="textAreaLeft" fmla="*/ 357840 w 1371600"/>
              <a:gd name="textAreaRight" fmla="*/ 1110960 w 1371600"/>
              <a:gd name="textAreaTop" fmla="*/ 1006200 h 1295640"/>
              <a:gd name="textAreaBottom" fmla="*/ 10494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7134"/>
                </a:moveTo>
                <a:lnTo>
                  <a:pt x="5638" y="12668"/>
                </a:lnTo>
                <a:lnTo>
                  <a:pt x="5638" y="16775"/>
                </a:lnTo>
                <a:lnTo>
                  <a:pt x="16775" y="16775"/>
                </a:lnTo>
                <a:lnTo>
                  <a:pt x="16775" y="5638"/>
                </a:lnTo>
                <a:lnTo>
                  <a:pt x="12668" y="5638"/>
                </a:lnTo>
                <a:lnTo>
                  <a:pt x="17134" y="0"/>
                </a:lnTo>
                <a:lnTo>
                  <a:pt x="21600" y="5638"/>
                </a:lnTo>
                <a:lnTo>
                  <a:pt x="17493" y="5638"/>
                </a:lnTo>
                <a:lnTo>
                  <a:pt x="17493" y="17493"/>
                </a:lnTo>
                <a:lnTo>
                  <a:pt x="5638" y="17493"/>
                </a:lnTo>
                <a:lnTo>
                  <a:pt x="563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320" y="148896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Times New Roman"/>
              </a:rPr>
              <a:t>Programmi pubbl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2160" y="243828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ff33"/>
                </a:solidFill>
                <a:latin typeface="Times New Roman"/>
              </a:rPr>
              <a:t>Pap test fuori de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ff33"/>
                </a:solidFill>
                <a:latin typeface="Times New Roman"/>
              </a:rPr>
              <a:t>programmi pubbl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3429000"/>
            <a:ext cx="1067040" cy="914400"/>
          </a:xfrm>
          <a:prstGeom prst="line">
            <a:avLst/>
          </a:prstGeom>
          <a:ln w="38160">
            <a:solidFill>
              <a:srgbClr val="33cc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Impatto HPV in Italia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 (dati screening 2004)</a:t>
            </a:r>
            <a:br>
              <a:rPr sz="3600"/>
            </a:b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Franceschi S. GISCI 2006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1700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Decessi/an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3500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Nuovi casi ca cervice/an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14700 (0,26%)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 H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47000 (0,83%)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L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92000 (1,26%)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AS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5-6 milioni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  Citologie/an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51920" y="2362320"/>
            <a:ext cx="2590920" cy="37335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362320"/>
            <a:ext cx="2590920" cy="37335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095880"/>
            <a:ext cx="51818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3505320"/>
            <a:ext cx="152424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962520"/>
            <a:ext cx="220968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495680"/>
            <a:ext cx="289584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952880"/>
            <a:ext cx="350496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486400"/>
            <a:ext cx="426744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501" t="9703" r="74564" b="7515"/>
          <a:stretch/>
        </p:blipFill>
        <p:spPr>
          <a:xfrm>
            <a:off x="0" y="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xxxx</cp:lastModifiedBy>
  <dcterms:modified xsi:type="dcterms:W3CDTF">2007-11-08T22:46:39Z</dcterms:modified>
  <cp:revision>12</cp:revision>
  <dc:subject/>
  <dc:title>PowerPoint Presentation</dc:title>
</cp:coreProperties>
</file>