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7C1-EBD1-4537-B2F1-6763F843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D7F-869A-4BF6-8DDA-C51CB8E5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7C4-DE98-450C-9EA6-A835D3D5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6B2-0FF7-4B6A-AE2B-B5A7446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8EE-4AE9-4344-8252-AA18C5F9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AEF7-AED7-497C-B50D-5DB30AB0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434-ED46-4A39-9BAA-D3896814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FD3-658F-474C-AC08-4017E73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F7D8-C773-40BD-AA55-6D07F15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4636-F92F-486B-AD9F-B2E4FD9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EE9F-75E2-4DCC-835D-FDEF17B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417-C2FA-4939-A58C-F9209F2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11D9-8564-429A-AA77-9ECB5B0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3BD-338A-421A-AC44-DEDFECA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352-5EA8-44E0-BD20-CB0AD96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2C61-F612-4C2B-8914-1AC737F5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4B46-EB80-4ACE-B39D-DAF5A137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9BC-CB39-491B-8B98-5F17586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5A7-5144-4C14-AD53-2252881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829-71E4-467A-B957-D6B6B52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771-1486-4825-8793-90C1EDA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590-4DB5-4C32-AC9D-C6530B1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ACD-2B59-4815-B0D7-1ACD297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BA3-12E1-4F51-BEC6-3CAC0D1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24E-2A80-4295-97D5-51D4E4938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8947-C32D-4F29-9CD4-6E8CD0064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Donne e Salute: Donne Disabili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rancesca Ort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ssociazione Italiana Amici di Raoul Follereau (AI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ww.aifo.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logo%20AIFO%20con%20payoff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46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spetti Dimenticati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riflessione sul diritto alla salute per le donne disabili è importante perché spesso queste questioni sono diment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FO opera con le donne disabili nei paesi in via di sviluppo tramite i programmi di riabilitazione su base comunitaria da circa 20 an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Donne affrontano più ostacoli per raggiungere i servizi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185920"/>
          <a:ext cx="91440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85920"/>
                    <a:ext cx="91440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Diritto alla sessualità e alla famiglia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ualità delle donne disabili è spesso negata e soppressa – qualche volta è vista come una “patologia” da controllare e curare. Le donne con disabilità hanno bisogno di servizi e consulenze relativi alla sessualità, gravidanza, reproduzio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Disabilità Ginecologich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cune disabilità sono circondate da tabù e pregiudizi più delle altre. Quando si parla delle disabilità si dimentica che anche alcune condizioni ginecologiche sono disabilitanti come il prolasso dell’utero e la fistula, anche esse circondate da forti tabù sociali e pregiudi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8:46:13Z</dcterms:created>
  <dc:creator>Sunil Deepak</dc:creator>
  <dc:description/>
  <dc:language>en-US</dc:language>
  <cp:lastModifiedBy>francesca</cp:lastModifiedBy>
  <dcterms:modified xsi:type="dcterms:W3CDTF">2007-11-08T13:55:26Z</dcterms:modified>
  <cp:revision>5</cp:revision>
  <dc:subject/>
  <dc:title>Donne e Salute: Donne Disabi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6425549</vt:r8>
  </property>
  <property fmtid="{D5CDD505-2E9C-101B-9397-08002B2CF9AE}" pid="3" name="_AuthorEmail">
    <vt:lpwstr>sunil.deepak@aifo.it</vt:lpwstr>
  </property>
  <property fmtid="{D5CDD505-2E9C-101B-9397-08002B2CF9AE}" pid="4" name="_AuthorEmailDisplayName">
    <vt:lpwstr>Sunil Deepak</vt:lpwstr>
  </property>
  <property fmtid="{D5CDD505-2E9C-101B-9397-08002B2CF9AE}" pid="5" name="_EmailSubject">
    <vt:lpwstr>Donne Disabili e Salute.ppt</vt:lpwstr>
  </property>
</Properties>
</file>