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5F8-0470-428C-8FF8-02CCA94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1FB-10F6-4924-ABA6-AB4F97BB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D8F-664D-4B06-81A6-810B2FD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A48-A602-4541-BECD-16621ACE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5DA-B089-4FDE-AFF7-7E664B2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BF6-94BA-408B-A16E-791AAC9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524-CC09-4CA3-B782-BDF98A4D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94C-148C-4D07-8D82-93369662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D9F-980D-46FC-A708-867E37F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FB2-EB2C-446A-9764-46CE39E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AB6-B3B4-4364-9E14-8C543B6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CB8-EACC-41B5-A084-C5172D4F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6FA5-DFAC-4709-BF69-B84B37D667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6545160"/>
          <a:ext cx="914400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45160"/>
                    <a:ext cx="9144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245440" y="6093000"/>
            <a:ext cx="863640" cy="73008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nmr.iss.it/MR_0_mappa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44280"/>
            <a:ext cx="86868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Dr.ssa Domenica Tarus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</a:rPr>
              <a:t>Centro Nazionale Malattie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stituto Superiore di Sanità –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Verdana"/>
              </a:rPr>
              <a:t>http://www.iss.it/cn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1125360"/>
            <a:ext cx="6480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ATTIE RARE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4360" y="189000"/>
          <a:ext cx="7931160" cy="58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9000"/>
                    <a:ext cx="79311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124000" y="4869000"/>
            <a:ext cx="38880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4804920"/>
            <a:ext cx="38163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http://www.iss.it/cn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8000" y="2984400"/>
            <a:ext cx="51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LUSION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3162240"/>
            <a:ext cx="3240360" cy="1584360"/>
          </a:xfrm>
          <a:prstGeom prst="ellipse">
            <a:avLst/>
          </a:prstGeom>
          <a:solidFill>
            <a:srgbClr val="c8d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TTIE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730600"/>
            <a:ext cx="1224000" cy="592200"/>
          </a:xfrm>
          <a:custGeom>
            <a:avLst/>
            <a:gdLst/>
            <a:ahLst/>
            <a:rect l="l" t="t" r="r" b="b"/>
            <a:pathLst>
              <a:path w="771" h="419">
                <a:moveTo>
                  <a:pt x="771" y="0"/>
                </a:moveTo>
                <a:cubicBezTo>
                  <a:pt x="692" y="28"/>
                  <a:pt x="473" y="64"/>
                  <a:pt x="294" y="166"/>
                </a:cubicBezTo>
                <a:cubicBezTo>
                  <a:pt x="115" y="268"/>
                  <a:pt x="61" y="366"/>
                  <a:pt x="0" y="419"/>
                </a:cubicBezTo>
              </a:path>
            </a:pathLst>
          </a:custGeom>
          <a:noFill/>
          <a:ln w="28440">
            <a:solidFill>
              <a:srgbClr val="b5caef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3084000">
            <a:off x="5623920" y="2757600"/>
            <a:ext cx="1224000" cy="592200"/>
          </a:xfrm>
          <a:custGeom>
            <a:avLst/>
            <a:gdLst/>
            <a:ahLst/>
            <a:rect l="l" t="t" r="r" b="b"/>
            <a:pathLst>
              <a:path w="771" h="419">
                <a:moveTo>
                  <a:pt x="771" y="0"/>
                </a:moveTo>
                <a:cubicBezTo>
                  <a:pt x="692" y="28"/>
                  <a:pt x="473" y="64"/>
                  <a:pt x="294" y="166"/>
                </a:cubicBezTo>
                <a:cubicBezTo>
                  <a:pt x="115" y="268"/>
                  <a:pt x="61" y="366"/>
                  <a:pt x="0" y="419"/>
                </a:cubicBezTo>
              </a:path>
            </a:pathLst>
          </a:custGeom>
          <a:noFill/>
          <a:ln w="28440">
            <a:solidFill>
              <a:srgbClr val="b5caef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720" y="361800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PREVEN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360" y="19382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07720" y="361800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QUALITÀ DELLA 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395604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zi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2225520"/>
            <a:ext cx="180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demi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o-sa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818240"/>
            <a:ext cx="4670640" cy="915840"/>
          </a:xfrm>
          <a:custGeom>
            <a:avLst/>
            <a:gdLst/>
            <a:ahLst/>
            <a:rect l="l" t="t" r="r" b="b"/>
            <a:pathLst>
              <a:path w="2976" h="616">
                <a:moveTo>
                  <a:pt x="0" y="0"/>
                </a:moveTo>
                <a:cubicBezTo>
                  <a:pt x="32" y="56"/>
                  <a:pt x="224" y="248"/>
                  <a:pt x="456" y="360"/>
                </a:cubicBezTo>
                <a:cubicBezTo>
                  <a:pt x="688" y="472"/>
                  <a:pt x="1071" y="616"/>
                  <a:pt x="1484" y="602"/>
                </a:cubicBezTo>
                <a:cubicBezTo>
                  <a:pt x="2229" y="613"/>
                  <a:pt x="2666" y="323"/>
                  <a:pt x="2821" y="201"/>
                </a:cubicBezTo>
                <a:cubicBezTo>
                  <a:pt x="2976" y="79"/>
                  <a:pt x="2871" y="159"/>
                  <a:pt x="2885" y="149"/>
                </a:cubicBezTo>
              </a:path>
            </a:pathLst>
          </a:custGeom>
          <a:noFill/>
          <a:ln w="28440">
            <a:solidFill>
              <a:srgbClr val="b5caef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9600" y="4313160"/>
            <a:ext cx="20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 DE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04640"/>
            <a:ext cx="8243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8d6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 di interve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attie R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5810400"/>
            <a:ext cx="734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CCIO INTERSETTORIA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89000"/>
            <a:ext cx="82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8d6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 sono gli attor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1378080"/>
            <a:ext cx="7431120" cy="4859280"/>
          </a:xfrm>
          <a:prstGeom prst="ellipse">
            <a:avLst/>
          </a:prstGeom>
          <a:noFill/>
          <a:ln cap="rnd" w="28440">
            <a:solidFill>
              <a:srgbClr val="00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979640"/>
            <a:ext cx="6645240" cy="3825720"/>
          </a:xfrm>
          <a:prstGeom prst="ellipse">
            <a:avLst/>
          </a:prstGeom>
          <a:noFill/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19480" y="2448000"/>
            <a:ext cx="5462280" cy="2997000"/>
          </a:xfrm>
          <a:prstGeom prst="ellipse">
            <a:avLst/>
          </a:prstGeom>
          <a:gradFill rotWithShape="0">
            <a:gsLst>
              <a:gs pos="0">
                <a:srgbClr val="90a2ec"/>
              </a:gs>
              <a:gs pos="100000">
                <a:srgbClr val="ffffff"/>
              </a:gs>
            </a:gsLst>
            <a:lin ang="8100000"/>
          </a:gradFill>
          <a:ln cap="rnd" w="28440">
            <a:solidFill>
              <a:srgbClr val="99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67280" y="4076640"/>
            <a:ext cx="2268360" cy="1132560"/>
            <a:chOff x="4067280" y="4076640"/>
            <a:chExt cx="2268360" cy="1132560"/>
          </a:xfrm>
        </p:grpSpPr>
        <p:sp>
          <p:nvSpPr>
            <p:cNvPr id="133" name=""/>
            <p:cNvSpPr/>
            <p:nvPr/>
          </p:nvSpPr>
          <p:spPr>
            <a:xfrm>
              <a:off x="4861080" y="4076640"/>
              <a:ext cx="720720" cy="650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280" y="4724280"/>
              <a:ext cx="2268360" cy="484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ondo della ricerca scientif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Università, Istituti di ricerca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515640" y="3141720"/>
            <a:ext cx="1029600" cy="1087560"/>
            <a:chOff x="6515640" y="3141720"/>
            <a:chExt cx="1029600" cy="1087560"/>
          </a:xfrm>
        </p:grpSpPr>
        <p:sp>
          <p:nvSpPr>
            <p:cNvPr id="136" name=""/>
            <p:cNvSpPr/>
            <p:nvPr/>
          </p:nvSpPr>
          <p:spPr>
            <a:xfrm>
              <a:off x="6796080" y="314172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6699"/>
                  </a:solidFill>
                  <a:latin typeface="Webdings"/>
                  <a:ea typeface="Webdings"/>
                </a:rPr>
                <a:t>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5640" y="3952800"/>
              <a:ext cx="1029600" cy="276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ssociazi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32000" y="3429000"/>
            <a:ext cx="934920" cy="852840"/>
            <a:chOff x="3132000" y="3429000"/>
            <a:chExt cx="934920" cy="852840"/>
          </a:xfrm>
        </p:grpSpPr>
        <p:sp>
          <p:nvSpPr>
            <p:cNvPr id="139" name=""/>
            <p:cNvSpPr/>
            <p:nvPr/>
          </p:nvSpPr>
          <p:spPr>
            <a:xfrm>
              <a:off x="3398400" y="3429000"/>
              <a:ext cx="40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6699"/>
                  </a:solidFill>
                  <a:latin typeface="Webdings"/>
                  <a:ea typeface="Webdings"/>
                </a:rPr>
                <a:t>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32000" y="4005360"/>
              <a:ext cx="934920" cy="276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00720" y="2349360"/>
            <a:ext cx="1512720" cy="1106640"/>
            <a:chOff x="4500720" y="2349360"/>
            <a:chExt cx="1512720" cy="1106640"/>
          </a:xfrm>
        </p:grpSpPr>
        <p:sp>
          <p:nvSpPr>
            <p:cNvPr id="142" name=""/>
            <p:cNvSpPr/>
            <p:nvPr/>
          </p:nvSpPr>
          <p:spPr>
            <a:xfrm>
              <a:off x="4500720" y="2997000"/>
              <a:ext cx="1512720" cy="459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stituzioni Centra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gion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6400" y="2349360"/>
              <a:ext cx="65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6699"/>
                  </a:solidFill>
                  <a:latin typeface="Webdings"/>
                  <a:ea typeface="Webdings"/>
                </a:rPr>
                <a:t>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583920" cy="3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4932360" y="4149720"/>
          <a:ext cx="517680" cy="56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4149720"/>
                    <a:ext cx="5176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3738600"/>
            <a:ext cx="511200" cy="338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2349360"/>
            <a:ext cx="64908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Webdings"/>
                <a:ea typeface="Web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42560" y="3881520"/>
            <a:ext cx="1297080" cy="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71280" y="3357720"/>
            <a:ext cx="865080" cy="0"/>
          </a:xfrm>
          <a:prstGeom prst="line">
            <a:avLst/>
          </a:prstGeom>
          <a:ln w="28440">
            <a:solidFill>
              <a:srgbClr val="66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971280" y="2708280"/>
            <a:ext cx="865080" cy="0"/>
          </a:xfrm>
          <a:prstGeom prst="line">
            <a:avLst/>
          </a:prstGeom>
          <a:ln w="28440">
            <a:solidFill>
              <a:srgbClr val="00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640" y="5877000"/>
            <a:ext cx="734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CCIO INTERSETTORIA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84720" y="604044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ttp://www.iss.it/cn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43280" y="2401920"/>
            <a:ext cx="4249800" cy="4051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5364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.in conclusione:  un </a:t>
            </a: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invito a tutti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llabo</a:t>
            </a:r>
            <a:r>
              <a:rPr b="1" lang="it-IT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1" i="1" lang="it-IT" sz="3600" spc="-1" strike="noStrike">
                <a:solidFill>
                  <a:srgbClr val="cc3300"/>
                </a:solidFill>
                <a:latin typeface="Arial"/>
              </a:rPr>
              <a:t>rare </a:t>
            </a: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!!</a:t>
            </a: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MALATTIE R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zione dei proble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niziative internazionali e 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1662120"/>
            <a:ext cx="741672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NUMEROSE (5.000-7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TUTTE LE FASCE DI E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</a:rPr>
              <a:t>SPESSO GRAVI, CRON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T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ABILI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OSTEGNO SOCIO – SA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Helvetic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INIZIATIVE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B) INIZITIVE 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4056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437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960720" cy="424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2997360"/>
            <a:ext cx="144360" cy="24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557440" cy="252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0200" y="2292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16200" y="272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1480" y="164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116080"/>
            <a:ext cx="439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B) INIZIATIVE IN EURO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ROGRAMMA DI AZION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UNITARIO SU MALATTIE 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DG-SANC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1999 – 200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DG-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000 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ULATION (EC) No 141/2000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f the European Parliament and Council on Orphan Medicinal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084640"/>
            <a:ext cx="5111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UROPEAN RARE DISEASE TASK FORCE (DG SANCO) –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DG RESEARCH – 7 PROGRAMMA QU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11840" y="589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97956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0"/>
            <a:ext cx="532908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A) INIZIATIVE INTERNAZI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983 – USA (Orphan Drug 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993 – Giapp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997 – Singa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1998 – Austr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1440" y="757080"/>
            <a:ext cx="846612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IZIATIVE 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ani Sanitari Nazionali:  1998-2000, 2003-2005, 2006-’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golamento di istituzione della Rete 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lle Malattie Rare (D.M. 279 /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cordo Conferenza Stato Regioni (11 Luglio 2002): Tavolo interregionale di monitoraggio sulle malattie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ani Sanitari Reg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4280"/>
            <a:ext cx="914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GO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TE NAZIONALE DELLE MALATTIE R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D.M. 279/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5920" y="198108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6640" y="38098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itui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9440" y="4648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ola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33880" y="1981080"/>
            <a:ext cx="306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Rete Nazionale per :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sorvegl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diagno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0600" y="3809880"/>
            <a:ext cx="53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l Registro Nazionale delle MR presso l'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2760" y="4708440"/>
            <a:ext cx="54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esenzione dalla partecipazione al costo di circa 500 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i importanti dal 2001 ad oggi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.M. 271/2001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cordi Stato-Regioni (2002, 2007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e Nazionale Malattie R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.M. 279/200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Rete completata: tutte le Regioni hanno delibe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Aggiornamento dell’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Registro Nazionale Malattie Rare: potenz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30387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1440" y="189000"/>
            <a:ext cx="8693280" cy="82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ICERCA SCIENTI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niziative 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MINISTERO DELLA SALUTE: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 2004 : FINANZIATI 5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I DI RICERC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07 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ZIATI 8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OGETTI DI RICE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AIFA: RICERCA INDIPEN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 2006: FINANZIATI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GET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 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 2007: IN CORSO DI VALU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TTIVITA’ DEL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ENTRO NAZIONALE MALATTIER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92280" y="2060640"/>
            <a:ext cx="5572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lla prevenzion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la ricerca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la accuratezza diagnostic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la sorveglianza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l'epidemiologia dei bisogni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589720"/>
            <a:ext cx="8209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 LIVELLO NAZIONALE ED INTER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0920" y="260280"/>
            <a:ext cx="1819440" cy="1201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4680" y="620640"/>
            <a:ext cx="12193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ICE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115920"/>
            <a:ext cx="2233440" cy="1368360"/>
          </a:xfrm>
          <a:prstGeom prst="ellipse">
            <a:avLst/>
          </a:prstGeom>
          <a:solidFill>
            <a:srgbClr val="d886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04640"/>
            <a:ext cx="18288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REGISTRI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 NAZIONALI</a:t>
            </a:r>
            <a:br>
              <a:rPr sz="1200"/>
            </a:b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MALATTIE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FARMACI ORF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24560" y="5029200"/>
            <a:ext cx="1818720" cy="1201680"/>
            <a:chOff x="4624560" y="5029200"/>
            <a:chExt cx="1818720" cy="1201680"/>
          </a:xfrm>
        </p:grpSpPr>
        <p:sp>
          <p:nvSpPr>
            <p:cNvPr id="83" name=""/>
            <p:cNvSpPr/>
            <p:nvPr/>
          </p:nvSpPr>
          <p:spPr>
            <a:xfrm>
              <a:off x="4624560" y="5029200"/>
              <a:ext cx="1818720" cy="1201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5440" y="5410080"/>
              <a:ext cx="1143720" cy="33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NEPHI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257960" y="1940040"/>
            <a:ext cx="1817640" cy="1201680"/>
            <a:chOff x="7257960" y="1940040"/>
            <a:chExt cx="1817640" cy="1201680"/>
          </a:xfrm>
        </p:grpSpPr>
        <p:sp>
          <p:nvSpPr>
            <p:cNvPr id="86" name=""/>
            <p:cNvSpPr/>
            <p:nvPr/>
          </p:nvSpPr>
          <p:spPr>
            <a:xfrm>
              <a:off x="7257960" y="1940040"/>
              <a:ext cx="1817640" cy="1201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8840" y="2320920"/>
              <a:ext cx="114300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TEST GENETI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692360" y="4952880"/>
            <a:ext cx="2119320" cy="12016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2600" y="5423040"/>
            <a:ext cx="869760" cy="304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2520"/>
            <a:ext cx="1981080" cy="1201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05360"/>
            <a:ext cx="1660680" cy="631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00" y="1922400"/>
            <a:ext cx="1817640" cy="1201680"/>
            <a:chOff x="68400" y="1922400"/>
            <a:chExt cx="1817640" cy="1201680"/>
          </a:xfrm>
        </p:grpSpPr>
        <p:sp>
          <p:nvSpPr>
            <p:cNvPr id="93" name=""/>
            <p:cNvSpPr/>
            <p:nvPr/>
          </p:nvSpPr>
          <p:spPr>
            <a:xfrm>
              <a:off x="68400" y="1922400"/>
              <a:ext cx="1817640" cy="1201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1040" y="239220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SSOCIAZIO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38880" y="4038480"/>
            <a:ext cx="1819080" cy="1201680"/>
            <a:chOff x="7238880" y="4038480"/>
            <a:chExt cx="1819080" cy="1201680"/>
          </a:xfrm>
        </p:grpSpPr>
        <p:sp>
          <p:nvSpPr>
            <p:cNvPr id="96" name=""/>
            <p:cNvSpPr/>
            <p:nvPr/>
          </p:nvSpPr>
          <p:spPr>
            <a:xfrm>
              <a:off x="7238880" y="4038480"/>
              <a:ext cx="1819080" cy="120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96440" y="4402080"/>
              <a:ext cx="106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FARMACI ORF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00200" y="1828800"/>
            <a:ext cx="6172200" cy="2971800"/>
          </a:xfrm>
          <a:prstGeom prst="ellipse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362320"/>
            <a:ext cx="4876920" cy="21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ENTRO NAZIONALE MALATTIE RARE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http://www.iss.it/cn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ISTITUTO SUPERIORE DI SAN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ingresso al sito delle Malattie R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200400"/>
            <a:ext cx="1066680" cy="9907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6570720" y="474840"/>
            <a:ext cx="1817640" cy="1201680"/>
            <a:chOff x="6570720" y="474840"/>
            <a:chExt cx="1817640" cy="1201680"/>
          </a:xfrm>
        </p:grpSpPr>
        <p:sp>
          <p:nvSpPr>
            <p:cNvPr id="102" name=""/>
            <p:cNvSpPr/>
            <p:nvPr/>
          </p:nvSpPr>
          <p:spPr>
            <a:xfrm>
              <a:off x="6570720" y="474840"/>
              <a:ext cx="1817640" cy="1201680"/>
            </a:xfrm>
            <a:prstGeom prst="ellipse">
              <a:avLst/>
            </a:prstGeom>
            <a:solidFill>
              <a:srgbClr val="ff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51600" y="855720"/>
              <a:ext cx="1143000" cy="274680"/>
            </a:xfrm>
            <a:prstGeom prst="rect">
              <a:avLst/>
            </a:prstGeom>
            <a:solidFill>
              <a:srgbClr val="ff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746760" y="620640"/>
            <a:ext cx="1354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ITAL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Arial"/>
              </a:rPr>
              <a:t>Acido Fo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21920" y="542916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LINEE GU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48360" y="5832360"/>
            <a:ext cx="934920" cy="54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907920"/>
            <a:ext cx="2550960" cy="12020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1197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dicina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rrativa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5:54:24Z</dcterms:created>
  <dc:creator>malattie_rare</dc:creator>
  <dc:description/>
  <dc:language>en-US</dc:language>
  <cp:lastModifiedBy>Taruscio Domenica</cp:lastModifiedBy>
  <dcterms:modified xsi:type="dcterms:W3CDTF">2007-11-09T05:48:37Z</dcterms:modified>
  <cp:revision>394</cp:revision>
  <dc:subject/>
  <dc:title>Diapositiva 1</dc:title>
</cp:coreProperties>
</file>