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447-E19A-40F8-8B9D-EDDCAB56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793-31B5-4402-86A6-5F8F99BA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41B-5E1C-457C-953F-2714ADAB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DA6-E62B-4F0E-8145-CF9AC1C3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B21-7050-4E46-9AB1-F64E6AF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4D3-5FF4-4F4E-B8FB-7E54FE9F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356-E8E0-49DB-A6D1-D0D3BCD0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59A-FCAD-42E1-8CAE-51DFD4AC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15C-36B8-45EE-B9CB-DF3BD66B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904-38E1-472A-B101-34B92543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ABE-BA57-41AA-821D-A36E0BBD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0441-66FB-4652-B3F9-C145F92C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AAA8-C4BE-485F-A4CD-6B6A7714D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9325080" cy="699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25080" cy="69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8440" y="-120600"/>
            <a:ext cx="9353520" cy="69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39636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19160"/>
            <a:ext cx="9325080" cy="69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81080" y="-27000"/>
            <a:ext cx="93614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7:28:18Z</dcterms:created>
  <dc:creator>Utente</dc:creator>
  <dc:description/>
  <dc:language>en-US</dc:language>
  <cp:lastModifiedBy>Utente</cp:lastModifiedBy>
  <dcterms:modified xsi:type="dcterms:W3CDTF">2007-11-09T07:47:58Z</dcterms:modified>
  <cp:revision>3</cp:revision>
  <dc:subject/>
  <dc:title>Diapositiva 1</dc:title>
</cp:coreProperties>
</file>