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4BF863C-4829-4A4C-9E69-2373E906B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9662DE0-29B4-4F49-BD38-608E63B70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3CEE606-45A1-4388-AB85-04A202E2A5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FA6E682-F810-497C-A10B-24A12B3128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41F6A-5B46-4388-A127-9998C9233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CBEDF-C1EF-4F42-8CE4-E4916AADE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34A71-C8A7-425C-87C8-9D3AF7D6E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E8C06-92E5-4580-8268-26DD18500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C4F7F-7A16-4734-BDA4-52A1B6099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7ADDC-4064-4DD1-AF97-AE43D07AA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E6B77-FDD8-4D09-ABC8-8767BF089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945E196-78A9-4BE0-B49B-0978F6415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91D19-6022-4CFA-9799-ED7B86F4C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134D4-81E9-4979-BAAF-19DA85F3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304EA-987C-4D93-A5A2-322BAC47E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40514-E9FF-495D-9E64-44EA908BB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5017E-D442-41EB-8B79-495AF91BC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D09F634-1917-4CE5-9D43-38EC52E81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A679FD4-352D-4693-811E-3E290CDE4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D6EFAE5-59CA-4352-9CED-3E3A0FFE0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727BF9F-5657-4C0A-A218-47864C2A1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2F751FB-72B5-4629-87BA-2F2271E81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7C98FAB-7A20-448C-BB1C-13504A7FB4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BC9D9A2-D0F0-4C99-A65D-C18DCC977DC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E054-9107-4AA7-A86A-69EE400A84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6B4F-2325-466D-9E4B-D4A836A1DF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60280"/>
            <a:ext cx="7772400" cy="244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ONGRESSO NAZIONALE A.G.E.O.</a:t>
            </a:r>
            <a:br>
              <a:rPr sz="3200"/>
            </a:br>
            <a:r>
              <a:rPr b="0" lang="en-US" sz="3200" spc="-1" strike="noStrike">
                <a:solidFill>
                  <a:srgbClr val="cc3300"/>
                </a:solidFill>
                <a:latin typeface="Arial"/>
              </a:rPr>
              <a:t>PROGETTO SALUTE DONNA: </a:t>
            </a:r>
            <a:br>
              <a:rPr sz="3200"/>
            </a:br>
            <a:r>
              <a:rPr b="0" lang="en-US" sz="3200" spc="-1" strike="noStrike">
                <a:solidFill>
                  <a:srgbClr val="cc3300"/>
                </a:solidFill>
                <a:latin typeface="Arial"/>
              </a:rPr>
              <a:t>“Dalla scienza alle proposte normative”</a:t>
            </a:r>
            <a:br>
              <a:rPr sz="3200"/>
            </a:br>
            <a:r>
              <a:rPr b="0" lang="en-US" sz="2400" spc="-1" strike="noStrike">
                <a:solidFill>
                  <a:srgbClr val="cc3300"/>
                </a:solidFill>
                <a:latin typeface="Arial"/>
              </a:rPr>
              <a:t>Roma, 9 Novembre 2007</a:t>
            </a:r>
            <a:endParaRPr b="0" lang="en-US" sz="2400" spc="-1" strike="noStrike">
              <a:solidFill>
                <a:srgbClr val="dfdef6"/>
              </a:solidFill>
              <a:latin typeface="Arial"/>
            </a:endParaRPr>
          </a:p>
        </p:txBody>
      </p:sp>
      <p:sp>
        <p:nvSpPr>
          <p:cNvPr id="515" name="PlaceHolder 2"/>
          <p:cNvSpPr>
            <a:spLocks noGrp="1"/>
          </p:cNvSpPr>
          <p:nvPr>
            <p:ph type="subTitle"/>
          </p:nvPr>
        </p:nvSpPr>
        <p:spPr>
          <a:xfrm>
            <a:off x="684360" y="3886200"/>
            <a:ext cx="7704000" cy="2206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flessioni e suggerimenti per migliorare la 194</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Sandro Viglino</a:t>
            </a:r>
            <a:endParaRPr b="0" lang="en-US" sz="24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680"/>
            <a:ext cx="8229600" cy="509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Le strutture e i medici</a:t>
            </a:r>
            <a:endParaRPr b="0" lang="en-US" sz="4800" spc="-1" strike="noStrike">
              <a:solidFill>
                <a:srgbClr val="dfdef6"/>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Il ruolo del Consultorio</a:t>
            </a:r>
            <a:endParaRPr b="0" lang="en-US" sz="4800" spc="-1" strike="noStrike">
              <a:solidFill>
                <a:srgbClr val="dfdef6"/>
              </a:solidFill>
              <a:latin typeface="Arial"/>
            </a:endParaRPr>
          </a:p>
        </p:txBody>
      </p:sp>
      <p:sp>
        <p:nvSpPr>
          <p:cNvPr id="532" name="PlaceHolder 2"/>
          <p:cNvSpPr>
            <a:spLocks noGrp="1"/>
          </p:cNvSpPr>
          <p:nvPr>
            <p:ph type="subTitle"/>
          </p:nvPr>
        </p:nvSpPr>
        <p:spPr>
          <a:xfrm>
            <a:off x="323640" y="1557000"/>
            <a:ext cx="8280360" cy="5040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mane uno dei presidi primari del territorio e della prevenzione. Ci si ricorda della sua esistenza ogniqualvolta si mette in discussione la 194 per marchiarlo quale “abortificio”. In realtà, da anni non si dedicano più attenzioni a questo importante presidio, né politiche né economiche. Nonostante le molte promesse, nulla è stato fatto per rifinanziarlo, riqualificarlo, ridefinirlo nel suo ruolo non solo clinico-assistenziale ma anche preventivo, educativo, informativo-formativo </a:t>
            </a:r>
            <a:endParaRPr b="0" lang="en-US" sz="2800" spc="-1" strike="noStrike">
              <a:solidFill>
                <a:srgbClr val="ffffff"/>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74760" y="990720"/>
            <a:ext cx="8394480" cy="4878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Il Consultorio deve impegnarsi a:</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telare la scelta autonoma della donna, sottolineando come l’IVG </a:t>
            </a:r>
            <a:r>
              <a:rPr b="0" lang="en-US" sz="3200" spc="-1" strike="noStrike" u="sng">
                <a:solidFill>
                  <a:srgbClr val="ffffff"/>
                </a:solidFill>
                <a:uFillTx/>
                <a:latin typeface="Arial"/>
              </a:rPr>
              <a:t>non</a:t>
            </a:r>
            <a:r>
              <a:rPr b="0" lang="en-US" sz="3200" spc="-1" strike="noStrike">
                <a:solidFill>
                  <a:srgbClr val="ffffff"/>
                </a:solidFill>
                <a:latin typeface="Arial"/>
              </a:rPr>
              <a:t> sia un metodo contraccettivo</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re sulla domanda ma farsi nel contempo parte attiva in progetti di informazione, educazione alla salute e contraccezione specie su gruppi “a rischio”</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re la funzione di certificazione come primo passo di un iter preventivo </a:t>
            </a:r>
            <a:endParaRPr b="0" lang="en-US" sz="3200" spc="-1" strike="noStrike">
              <a:solidFill>
                <a:srgbClr val="ffffff"/>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Il Consultorio deve impegnarsi a:</a:t>
            </a:r>
            <a:endParaRPr b="0" lang="en-US" sz="4000" spc="-1" strike="noStrike">
              <a:solidFill>
                <a:srgbClr val="dfdef6"/>
              </a:solidFill>
              <a:latin typeface="Arial"/>
            </a:endParaRPr>
          </a:p>
        </p:txBody>
      </p:sp>
      <p:sp>
        <p:nvSpPr>
          <p:cNvPr id="537" name="PlaceHolder 2"/>
          <p:cNvSpPr>
            <a:spLocks noGrp="1"/>
          </p:cNvSpPr>
          <p:nvPr>
            <p:ph/>
          </p:nvPr>
        </p:nvSpPr>
        <p:spPr>
          <a:xfrm>
            <a:off x="179280" y="1600200"/>
            <a:ext cx="89647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vorire lo snellimento delle procedure: certificazione, analisi, liste d’attesa, tempi di esecuzione dell’intervento, ritorno in ambulatorio a  scopo di controllo e, soprattutto, contraccettivo</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tare particolare attenzione all’ascolto e alla comunicazione (dal lavoro di equipe al nulla)</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ire all’umanizzazione dell’intervento in tutte le sue fasi, evitando ghettizzazioni e atteggiamenti “punitivi”, tipici di certe realtà ospedaliere  </a:t>
            </a:r>
            <a:endParaRPr b="0" lang="en-US" sz="2800" spc="-1" strike="noStrike">
              <a:solidFill>
                <a:srgbClr val="ffffff"/>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 medici (ginecologi) devono impegnarsi a:</a:t>
            </a:r>
            <a:endParaRPr b="0" lang="en-US" sz="32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nire un’informazione esauriente e professionalmente corretta</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pettare la dignità e la riservatezza della donna (e della coppia), cercando di  valutare le motivazioni che l’hanno indotta alla IVG</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re la donna sui “diritti a lei spettanti e sugli interventi di carattere sociale cui può fare ricorso” (art.5)</a:t>
            </a: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eguire sempre l’accertamento medico (anche ecografico se occorre) prima di procedere alla certificazione </a:t>
            </a:r>
            <a:endParaRPr b="0" lang="en-US" sz="2800" spc="-1" strike="noStrike">
              <a:solidFill>
                <a:srgbClr val="ffffff"/>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Esistono due “aree critiche” che esigono particolare attenzione:</a:t>
            </a:r>
            <a:endParaRPr b="0" lang="en-US" sz="4000" spc="-1" strike="noStrike">
              <a:solidFill>
                <a:srgbClr val="dfdef6"/>
              </a:solidFill>
              <a:latin typeface="Arial"/>
            </a:endParaRPr>
          </a:p>
        </p:txBody>
      </p:sp>
      <p:sp>
        <p:nvSpPr>
          <p:cNvPr id="541" name="PlaceHolder 2"/>
          <p:cNvSpPr>
            <a:spLocks noGrp="1"/>
          </p:cNvSpPr>
          <p:nvPr>
            <p:ph/>
          </p:nvPr>
        </p:nvSpPr>
        <p:spPr>
          <a:xfrm>
            <a:off x="457200" y="3068280"/>
            <a:ext cx="8229600" cy="3065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donne immigrat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minori</a:t>
            </a:r>
            <a:endParaRPr b="0" lang="en-US" sz="3200" spc="-1" strike="noStrike">
              <a:solidFill>
                <a:srgbClr val="ffffff"/>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598320" y="1874880"/>
            <a:ext cx="10342440" cy="310824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Le donne immigrate</a:t>
            </a:r>
            <a:endParaRPr b="0" lang="en-US" sz="4800" spc="-1" strike="noStrike">
              <a:solidFill>
                <a:srgbClr val="dfdef6"/>
              </a:solidFill>
              <a:latin typeface="Arial"/>
            </a:endParaRPr>
          </a:p>
        </p:txBody>
      </p:sp>
      <p:sp>
        <p:nvSpPr>
          <p:cNvPr id="544" name="PlaceHolder 2"/>
          <p:cNvSpPr>
            <a:spLocks noGrp="1"/>
          </p:cNvSpPr>
          <p:nvPr>
            <p:ph type="subTitle"/>
          </p:nvPr>
        </p:nvSpPr>
        <p:spPr>
          <a:xfrm>
            <a:off x="684360" y="1628280"/>
            <a:ext cx="7912080" cy="496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fossero state considerate solo le donne italiane, gli aborti volontari nel 2003 sarebbero diminuiti di un ulteriore 6% rispetto al 2002. Ma nel 2004 il numero complessivo era già salito del 3.4% e ciò va imputato al notevole incremento del ricorso alla IVG da parte delle donne immigrate. Si calcola che il 30% degli aborti volontari in Italia sia oggi praticato da queste donne (tasso di abortività è di 9.6 per 1000 donne di età fra i 15 e i 49 anni - OMS) </a:t>
            </a:r>
            <a:endParaRPr b="0" lang="en-US" sz="2800" spc="-1" strike="noStrike">
              <a:solidFill>
                <a:srgbClr val="ffffff"/>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Le donne immigrate</a:t>
            </a:r>
            <a:endParaRPr b="0" lang="en-US" sz="4800" spc="-1" strike="noStrike">
              <a:solidFill>
                <a:srgbClr val="dfdef6"/>
              </a:solidFill>
              <a:latin typeface="Arial"/>
            </a:endParaRPr>
          </a:p>
        </p:txBody>
      </p:sp>
      <p:sp>
        <p:nvSpPr>
          <p:cNvPr id="546" name="PlaceHolder 2"/>
          <p:cNvSpPr>
            <a:spLocks noGrp="1"/>
          </p:cNvSpPr>
          <p:nvPr>
            <p:ph type="subTitle"/>
          </p:nvPr>
        </p:nvSpPr>
        <p:spPr>
          <a:xfrm>
            <a:off x="684360" y="2276280"/>
            <a:ext cx="7632720" cy="4105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ndi le immigrate ricorrono alla IVG in misura 3 volte maggiore rispetto alle italiane (addirittura 4 volte se ci riferiamo alle giovanissime)</a:t>
            </a:r>
            <a:endParaRPr b="0" lang="en-US" sz="32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Legge 194/1978</a:t>
            </a:r>
            <a:endParaRPr b="0" lang="en-US" sz="4000" spc="-1" strike="noStrike">
              <a:solidFill>
                <a:srgbClr val="dfdef6"/>
              </a:solidFill>
              <a:latin typeface="Arial"/>
            </a:endParaRPr>
          </a:p>
        </p:txBody>
      </p:sp>
      <p:sp>
        <p:nvSpPr>
          <p:cNvPr id="517"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ge degna di un Paese civile che ha sanato secoli di anarchia medica, sociale e morale</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 reso la donna detentrice del diritto all’autodeterminazione, all’informazione, alla prevenzione</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 sottratto alla clandestinità una questione sociale delicata e impegnativa, fino ad allora gestita secondo la logica ipocrita del “occhio non vede, cuore non duole”</a:t>
            </a: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 consentito il sostanziale dimezzamento del numero di aborti praticati dal suo esordio ad oggi, secondo un aforisma (di allora e che oggi può sembrare cinico e paradossale ma non lo è) che recitava “la migliore prevenzione dell’aborto e l’aborto” </a:t>
            </a:r>
            <a:endParaRPr b="0" lang="en-US" sz="2800" spc="-1" strike="noStrike">
              <a:solidFill>
                <a:srgbClr val="ffffff"/>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567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Ne consegue la necessità di potenziare il ruolo della rete consultoriale (pubblica e privata, laica e cattolica) nell’opera di informazione, educazione e sensibilizzazione che costituisce l’obiettivo primario della sua missione</a:t>
            </a:r>
            <a:endParaRPr b="0" lang="en-US" sz="4000" spc="-1" strike="noStrike">
              <a:solidFill>
                <a:srgbClr val="dfdef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e minorenni e l’IVG</a:t>
            </a:r>
            <a:endParaRPr b="0" lang="en-US" sz="4400" spc="-1" strike="noStrike">
              <a:solidFill>
                <a:srgbClr val="dfdef6"/>
              </a:solidFill>
              <a:latin typeface="Arial"/>
            </a:endParaRPr>
          </a:p>
        </p:txBody>
      </p:sp>
      <p:sp>
        <p:nvSpPr>
          <p:cNvPr id="549" name="PlaceHolder 2"/>
          <p:cNvSpPr>
            <a:spLocks noGrp="1"/>
          </p:cNvSpPr>
          <p:nvPr>
            <p:ph type="subTitle"/>
          </p:nvPr>
        </p:nvSpPr>
        <p:spPr>
          <a:xfrm>
            <a:off x="610920" y="1628640"/>
            <a:ext cx="7993080" cy="4608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presentano un problema non ancora vicino alla soluzione. Dopo un marcato calo delle IVG negli anni ’90, a partire dal 2002 si è assistito ad una ripresa del fenomeno. Questo testimonia il sostanziale fallimento delle politiche sanitarie rivolte a questa importante fascia della popolazione femminile; la questione deve essere affrontata rapidamente, con serietà e non con la solita ipocrisia</a:t>
            </a:r>
            <a:endParaRPr b="0" lang="en-US" sz="3200" spc="-1" strike="noStrike">
              <a:solidFill>
                <a:srgbClr val="ffffff"/>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e minorenni e l’IVG</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izzare i contatti col mondo della scuola che finora ha mostrato disponibilità più a parole che con i fatti</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uovere programmi di educazione alla sessualità nelle scuole medie inferiori e superiori (anche attraverso i mass media)</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vitalizzare e potenziare i Centri Giovani presso i Consultori, oggi presenti ed efficienti solo in alcune aree del Paese  </a:t>
            </a:r>
            <a:endParaRPr b="0" lang="en-US" sz="3200" spc="-1" strike="noStrike">
              <a:solidFill>
                <a:srgbClr val="ffffff"/>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755640" y="549360"/>
            <a:ext cx="7704000" cy="575928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Legge 194</a:t>
            </a:r>
            <a:endParaRPr b="0" lang="en-US" sz="4000" spc="-1" strike="noStrike">
              <a:solidFill>
                <a:srgbClr val="dfdef6"/>
              </a:solidFill>
              <a:latin typeface="Arial"/>
            </a:endParaRPr>
          </a:p>
        </p:txBody>
      </p:sp>
      <p:sp>
        <p:nvSpPr>
          <p:cNvPr id="519"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è una legge laica (non atea ma neppure confessionale) di uno Stato laico che rispetta tutte le convinzioni,compresa quella cattolica</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ita il rischio di una “balcanizzazione” delle opinioni e delle interpretazioni, costantemente dietro l’angolo, senza smarrirsi in dissertazioni di indole bioetica</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 raggiunto pienamente l’obiettivo prefissato, riducendo drasticamente l’entità del fenomeno “aborto” in Italia</a:t>
            </a:r>
            <a:endParaRPr b="0" lang="en-US" sz="32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Legge 194</a:t>
            </a:r>
            <a:endParaRPr b="0" lang="en-US" sz="4000" spc="-1" strike="noStrike">
              <a:solidFill>
                <a:srgbClr val="dfdef6"/>
              </a:solidFill>
              <a:latin typeface="Arial"/>
            </a:endParaRPr>
          </a:p>
        </p:txBody>
      </p:sp>
      <p:sp>
        <p:nvSpPr>
          <p:cNvPr id="521"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 indotto nella popolazione una coscienza contraccettiv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 permesso di affrontare un problema sempre presente e addirittura in crescita (in questi ultimi anni) quale l’IVG nelle minorenni che sarebbero - e sono – la vittima di elezione dell’aborto clandestino (stimato ancora tra i 10 e i 14 mila l’anno)</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 garantito il massimo rispetto del diritto all’obiezione di coscienza  </a:t>
            </a:r>
            <a:endParaRPr b="0" lang="en-US" sz="3200" spc="-1" strike="noStrike">
              <a:solidFill>
                <a:srgbClr val="ffffff"/>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545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uttavia, come tutte le norme, può essere modificata e perfezionata ma </a:t>
            </a:r>
            <a:r>
              <a:rPr b="0" lang="en-US" sz="4400" spc="-1" strike="noStrike" u="sng">
                <a:solidFill>
                  <a:srgbClr val="cc3300"/>
                </a:solidFill>
                <a:uFillTx/>
                <a:latin typeface="Arial"/>
              </a:rPr>
              <a:t>non</a:t>
            </a:r>
            <a:r>
              <a:rPr b="0" lang="en-US" sz="4400" spc="-1" strike="noStrike">
                <a:solidFill>
                  <a:srgbClr val="cc3300"/>
                </a:solidFill>
                <a:latin typeface="Arial"/>
              </a:rPr>
              <a:t> stravolta </a:t>
            </a:r>
            <a:endParaRPr b="0" lang="en-US" sz="4400" spc="-1" strike="noStrike">
              <a:solidFill>
                <a:srgbClr val="dfdef6"/>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517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iflessioni e …suggerimenti</a:t>
            </a:r>
            <a:endParaRPr b="0" lang="en-US" sz="4400" spc="-1" strike="noStrike">
              <a:solidFill>
                <a:srgbClr val="dfdef6"/>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Diritto all’obiezione di coscienza</a:t>
            </a:r>
            <a:endParaRPr b="0" lang="en-US" sz="4000" spc="-1" strike="noStrike">
              <a:solidFill>
                <a:srgbClr val="dfdef6"/>
              </a:solidFill>
              <a:latin typeface="Arial"/>
            </a:endParaRPr>
          </a:p>
        </p:txBody>
      </p:sp>
      <p:sp>
        <p:nvSpPr>
          <p:cNvPr id="525" name="PlaceHolder 2"/>
          <p:cNvSpPr>
            <a:spLocks noGrp="1"/>
          </p:cNvSpPr>
          <p:nvPr>
            <p:ph type="subTitle"/>
          </p:nvPr>
        </p:nvSpPr>
        <p:spPr>
          <a:xfrm>
            <a:off x="539280" y="1915920"/>
            <a:ext cx="7993080" cy="4392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previsto dall’art.9.  Nessuno può essere costretto a compiere un atto medico che, anche se motivabile, consiste nella soppressione strumentale o farmacologica di un ciclo biologico vitale ed evolutivo. Ma l’obiezione di comodo per motivi di carriera, per rifiuto di maggior impegno, per compiacenza con gli organismi dirigenti, ecc. ha fatto sì che la % di obiettori ginecologi abbia raggiunto quasi il 70%, quella degli anestesisti sfiori il 55% e quella del personale non medico il 54</a:t>
            </a:r>
            <a:endParaRPr b="0" lang="en-US" sz="2800" spc="-1" strike="noStrike">
              <a:solidFill>
                <a:srgbClr val="ffffff"/>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Diritto all’obiezione di coscienza</a:t>
            </a:r>
            <a:endParaRPr b="0" lang="en-US" sz="4000" spc="-1" strike="noStrike">
              <a:solidFill>
                <a:srgbClr val="dfdef6"/>
              </a:solidFill>
              <a:latin typeface="Arial"/>
            </a:endParaRPr>
          </a:p>
        </p:txBody>
      </p:sp>
      <p:sp>
        <p:nvSpPr>
          <p:cNvPr id="527" name="PlaceHolder 2"/>
          <p:cNvSpPr>
            <a:spLocks noGrp="1"/>
          </p:cNvSpPr>
          <p:nvPr>
            <p:ph type="subTitle"/>
          </p:nvPr>
        </p:nvSpPr>
        <p:spPr>
          <a:xfrm>
            <a:off x="684360" y="1916280"/>
            <a:ext cx="7775280" cy="4465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tremizzazione del concetto di obiezione fa sì che una parte dei ginecologi obiettori rifiuti di effettuare persino la certificazione ma non la visita (a pagamento). D’altro canto, non bisogna sottovalutare il fenomeno della “ghettizzazione” che, specie in questi ultimi anni,  ha riguardato tanti ginecologi relegati all’effettuazione di IVG ed esclusi da altre attività ospedaliere, spingendoli così forzatamente a scegliere l’obiezione per uscire “dall’angolo”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borto terapeutico (art. 6)</a:t>
            </a:r>
            <a:endParaRPr b="0" lang="en-US" sz="4000" spc="-1" strike="noStrike">
              <a:solidFill>
                <a:srgbClr val="dfdef6"/>
              </a:solidFill>
              <a:latin typeface="Arial"/>
            </a:endParaRPr>
          </a:p>
        </p:txBody>
      </p:sp>
      <p:sp>
        <p:nvSpPr>
          <p:cNvPr id="529" name="PlaceHolder 2"/>
          <p:cNvSpPr>
            <a:spLocks noGrp="1"/>
          </p:cNvSpPr>
          <p:nvPr>
            <p:ph type="subTitle"/>
          </p:nvPr>
        </p:nvSpPr>
        <p:spPr>
          <a:xfrm>
            <a:off x="684360" y="1628640"/>
            <a:ext cx="7775280" cy="4824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nte l’intervento solo se sussiste pericolo di vita o di gravi sequele psico-fisiche ma </a:t>
            </a:r>
            <a:r>
              <a:rPr b="0" lang="en-US" sz="3200" spc="-1" strike="noStrike" u="sng">
                <a:solidFill>
                  <a:srgbClr val="ffffff"/>
                </a:solidFill>
                <a:uFillTx/>
                <a:latin typeface="Arial"/>
              </a:rPr>
              <a:t>soltanto a carico della donna</a:t>
            </a:r>
            <a:r>
              <a:rPr b="0" lang="en-US" sz="3200" spc="-1" strike="noStrike">
                <a:solidFill>
                  <a:srgbClr val="ffffff"/>
                </a:solidFill>
                <a:latin typeface="Arial"/>
              </a:rPr>
              <a:t>. Il diritto del feto a nascere e vivere sano è del tutto ignorato. Ci chiediamo  -sommessamente - se esista il diritto di dar vita ad un individuo con gravi anomalie e malformazioni, con scarse possibilità di sopravvivenza  o condannato alla sofferenza per l’intera sua esistenza </a:t>
            </a:r>
            <a:endParaRPr b="0" lang="en-US" sz="32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21:26:32Z</dcterms:created>
  <dc:creator>Ginecologi Liguri</dc:creator>
  <dc:description/>
  <dc:language>en-US</dc:language>
  <cp:lastModifiedBy>Ginecologi Liguri</cp:lastModifiedBy>
  <dcterms:modified xsi:type="dcterms:W3CDTF">2007-11-04T16:25:25Z</dcterms:modified>
  <cp:revision>12</cp:revision>
  <dc:subject/>
  <dc:title>CONGRESSO NAZIONALE A.G.E.O. PROGETTO SALUTE DONNA:  “Dalla scienza alle proposte normative” Roma, 9 Novembre 2007</dc:title>
</cp:coreProperties>
</file>