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CF8CB-E731-483E-87DA-B43E421BF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237B-0BAD-4998-8872-BE3748B5F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B37E6-6D38-4DF4-8016-9C93EBCF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392D5-9EB7-4BA1-878D-AC668899C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66B04-B37C-4183-9953-867BEAF79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B8CAD-7709-44A8-9F6B-F8ADEE23E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B89A0-BC2A-4DD1-A160-D9E0A9D65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402E0-EED3-490B-AD28-4C6E60BE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2A15F-23D7-45E5-A7AE-32B6398B1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F75F-888E-41A6-9117-E6336CC3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AB08-5C3A-456A-BF92-BF2AF3A7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E354-7F3B-4C42-AB04-FFCCFB6B0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4DC5-60E9-4566-9322-E0272C770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hyperlink" Target="http://www.thegordonhighlanders.co.uk/index2.htm" TargetMode="External"/><Relationship Id="rId11" Type="http://schemas.openxmlformats.org/officeDocument/2006/relationships/hyperlink" Target="http://www.thegordonhighlanders.co.uk/index2.htm" TargetMode="External"/><Relationship Id="rId12" Type="http://schemas.openxmlformats.org/officeDocument/2006/relationships/hyperlink" Target="http://www.thegordonhighlanders.co.uk/index2.htm" TargetMode="External"/><Relationship Id="rId13" Type="http://schemas.openxmlformats.org/officeDocument/2006/relationships/hyperlink" Target="http://www.thegordonhighlanders.co.uk/index2.htm" TargetMode="External"/><Relationship Id="rId14" Type="http://schemas.openxmlformats.org/officeDocument/2006/relationships/image" Target="../media/image2.png"/><Relationship Id="rId15" Type="http://schemas.openxmlformats.org/officeDocument/2006/relationships/oleObject" Target="../embeddings/oleObject1.bin"/><Relationship Id="rId16" Type="http://schemas.openxmlformats.org/officeDocument/2006/relationships/image" Target="../media/image1.png"/><Relationship Id="rId17" Type="http://schemas.openxmlformats.org/officeDocument/2006/relationships/oleObject" Target="../embeddings/oleObject2.bin"/><Relationship Id="rId18" Type="http://schemas.openxmlformats.org/officeDocument/2006/relationships/image" Target="../media/image4.png"/><Relationship Id="rId19" Type="http://schemas.openxmlformats.org/officeDocument/2006/relationships/oleObject" Target="../embeddings/oleObject3.bin"/><Relationship Id="rId20" Type="http://schemas.openxmlformats.org/officeDocument/2006/relationships/image" Target="../media/image4.png"/><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71640" y="3317760"/>
            <a:ext cx="7272360" cy="31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fessor Alberto Bacchi Modena</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partimento di Scienze Ginecologiche Ostetriche e di Neonatologia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versità di Parm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logna, 6 giugno 2009</a:t>
            </a:r>
            <a:endParaRPr b="0" lang="en-US" sz="2400" spc="-1" strike="noStrike">
              <a:solidFill>
                <a:srgbClr val="000000"/>
              </a:solidFill>
              <a:latin typeface="Arial"/>
            </a:endParaRPr>
          </a:p>
        </p:txBody>
      </p:sp>
      <p:sp>
        <p:nvSpPr>
          <p:cNvPr id="42" name=""/>
          <p:cNvSpPr/>
          <p:nvPr/>
        </p:nvSpPr>
        <p:spPr>
          <a:xfrm>
            <a:off x="1042920" y="620640"/>
            <a:ext cx="7058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OBESITÀ  E GRAVIDANZA</a:t>
            </a:r>
            <a:endParaRPr b="0" lang="en-US" sz="6000" spc="-1" strike="noStrike">
              <a:solidFill>
                <a:srgbClr val="000000"/>
              </a:solidFill>
              <a:latin typeface="Arial"/>
            </a:endParaRPr>
          </a:p>
        </p:txBody>
      </p:sp>
      <p:sp>
        <p:nvSpPr>
          <p:cNvPr id="43" name=""/>
          <p:cNvSpPr/>
          <p:nvPr/>
        </p:nvSpPr>
        <p:spPr>
          <a:xfrm>
            <a:off x="1042920" y="2565360"/>
            <a:ext cx="70581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a GRAVIDANZA INIZIALE</a:t>
            </a:r>
            <a:endParaRPr b="0" lang="en-US" sz="2400" spc="-1" strike="noStrike">
              <a:solidFill>
                <a:srgbClr val="000000"/>
              </a:solidFill>
              <a:latin typeface="Arial"/>
            </a:endParaRPr>
          </a:p>
        </p:txBody>
      </p:sp>
      <p:sp>
        <p:nvSpPr>
          <p:cNvPr id="94"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5640" y="1773360"/>
            <a:ext cx="7488360" cy="463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OMALIE CONGENITE</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TN </a:t>
            </a:r>
            <a:r>
              <a:rPr b="1" i="1" lang="it-IT" sz="1800" spc="-1" strike="noStrike">
                <a:solidFill>
                  <a:srgbClr val="000000"/>
                </a:solidFill>
                <a:latin typeface="Arial"/>
              </a:rPr>
              <a:t>OR 1.87; IC 1.62-2.1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pina Bifida </a:t>
            </a:r>
            <a:r>
              <a:rPr b="1" i="1" lang="it-IT" sz="1800" spc="-1" strike="noStrike">
                <a:solidFill>
                  <a:srgbClr val="000000"/>
                </a:solidFill>
                <a:latin typeface="Arial"/>
              </a:rPr>
              <a:t>OR 2.24; IC 1.86-2.69</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nomalie cardiovascolari </a:t>
            </a:r>
            <a:r>
              <a:rPr b="1" i="1" lang="it-IT" sz="1800" spc="-1" strike="noStrike">
                <a:solidFill>
                  <a:srgbClr val="000000"/>
                </a:solidFill>
                <a:latin typeface="Arial"/>
              </a:rPr>
              <a:t>OR 1.30 IC 1.12-1.5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nomalie del Setto </a:t>
            </a:r>
            <a:r>
              <a:rPr b="1" i="1" lang="it-IT" sz="1800" spc="-1" strike="noStrike">
                <a:solidFill>
                  <a:srgbClr val="000000"/>
                </a:solidFill>
                <a:latin typeface="Arial"/>
              </a:rPr>
              <a:t>OR 1.20; IC 1.09-1.3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Palatoschisi </a:t>
            </a:r>
            <a:r>
              <a:rPr b="1" i="1" lang="it-IT" sz="1800" spc="-1" strike="noStrike">
                <a:solidFill>
                  <a:srgbClr val="000000"/>
                </a:solidFill>
                <a:latin typeface="Arial"/>
              </a:rPr>
              <a:t>OR 1.23; IC 1.03-1.4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Labiopalatoschisi </a:t>
            </a:r>
            <a:r>
              <a:rPr b="1" i="1" lang="it-IT" sz="1800" spc="-1" strike="noStrike">
                <a:solidFill>
                  <a:srgbClr val="000000"/>
                </a:solidFill>
                <a:latin typeface="Arial"/>
              </a:rPr>
              <a:t>OR 1.20; IC 1.03-1.4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tresia anorettale </a:t>
            </a:r>
            <a:r>
              <a:rPr b="1" i="1" lang="it-IT" sz="1800" spc="-1" strike="noStrike">
                <a:solidFill>
                  <a:srgbClr val="000000"/>
                </a:solidFill>
                <a:latin typeface="Arial"/>
              </a:rPr>
              <a:t>OR 1.48; IC 1.12-1.9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Idrocefalia </a:t>
            </a:r>
            <a:r>
              <a:rPr b="1" i="1" lang="it-IT" sz="1800" spc="-1" strike="noStrike">
                <a:solidFill>
                  <a:srgbClr val="000000"/>
                </a:solidFill>
                <a:latin typeface="Arial"/>
              </a:rPr>
              <a:t>OR 1.68; IC 1.19-2.3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nomalie degli arti (amielie, emimielie) </a:t>
            </a:r>
            <a:r>
              <a:rPr b="1" i="1" lang="it-IT" sz="1800" spc="-1" strike="noStrike">
                <a:solidFill>
                  <a:srgbClr val="000000"/>
                </a:solidFill>
                <a:latin typeface="Arial"/>
              </a:rPr>
              <a:t>OR 1.34; IC 1.03-1.7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Gastroschisi </a:t>
            </a:r>
            <a:r>
              <a:rPr b="1" i="1" lang="it-IT" sz="1800" spc="-1" strike="noStrike">
                <a:solidFill>
                  <a:srgbClr val="000000"/>
                </a:solidFill>
                <a:latin typeface="Arial"/>
              </a:rPr>
              <a:t>OR 0.17; IC 0.10-0.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a GRAVIDANZA INIZIALE</a:t>
            </a:r>
            <a:endParaRPr b="0" lang="en-US" sz="2400" spc="-1" strike="noStrike">
              <a:solidFill>
                <a:srgbClr val="000000"/>
              </a:solidFill>
              <a:latin typeface="Arial"/>
            </a:endParaRPr>
          </a:p>
        </p:txBody>
      </p:sp>
      <p:sp>
        <p:nvSpPr>
          <p:cNvPr id="97"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95280" y="1773360"/>
            <a:ext cx="8280360" cy="3521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MALIE CONGENITE</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 anomalie metaboliche legate all’obesità sono molto simili a quelle legate al diabete come la resistenza all’insulina e l’iperglicemia ed inoltre l’obesità è un fattore di rischio molto importante per lo sviluppo del diabete di tipo II.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diabete materno è un fattore di rischio molto importante per le anomalie congenite specialmente quelle riguardanti il SNC e le anomalie cardiovascolari. Quindi un diabete misconosciuto e l’iperglicemia nella gravida obesa potrebbero spiegare l’aumentato rischio di anomalie congen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a GRAVIDANZA INIZIALE</a:t>
            </a:r>
            <a:endParaRPr b="0" lang="en-US" sz="2400" spc="-1" strike="noStrike">
              <a:solidFill>
                <a:srgbClr val="000000"/>
              </a:solidFill>
              <a:latin typeface="Arial"/>
            </a:endParaRPr>
          </a:p>
        </p:txBody>
      </p:sp>
      <p:sp>
        <p:nvSpPr>
          <p:cNvPr id="100"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95280" y="2992320"/>
            <a:ext cx="8280360" cy="1379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obesità materna è stata associata a ridotti livelli circolanti di folati e l’effetto protettivo dell’acido folico nel ridurre il rischio di DTN potrebbe non funzionare nelle gravidanze delle obese.</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JAMA 1996; 275: 108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a GRAVIDANZA INIZIALE</a:t>
            </a:r>
            <a:endParaRPr b="0" lang="en-US" sz="2400" spc="-1" strike="noStrike">
              <a:solidFill>
                <a:srgbClr val="000000"/>
              </a:solidFill>
              <a:latin typeface="Arial"/>
            </a:endParaRPr>
          </a:p>
        </p:txBody>
      </p:sp>
      <p:sp>
        <p:nvSpPr>
          <p:cNvPr id="103"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95280" y="2133720"/>
            <a:ext cx="8280360" cy="336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indagini ecografiche sono sicuramente più difficoltose nelle pazienti obese con una conseguente ridotta capacità diagnostica di alcune anomalie nel primo trimestre che a sua volta potrebbe portare ad una riduzione del numero delle terminazioni della gravidanza. Ciò spiegherebbe l’aumentata prevalenza di anomalie alla nascit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riduzione del rischio di gastroschisi è probabilmente legata all’età materna dato che una bassa età materna è un fattore di rischio per tale anomalia e che il BMI è associato all’età.</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Int. J. Obstet. Relat.Metab.Disord.2004;28:1607-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a GRAVIDANZA INIZIALE</a:t>
            </a:r>
            <a:endParaRPr b="0" lang="en-US" sz="2400" spc="-1" strike="noStrike">
              <a:solidFill>
                <a:srgbClr val="000000"/>
              </a:solidFill>
              <a:latin typeface="Arial"/>
            </a:endParaRPr>
          </a:p>
        </p:txBody>
      </p:sp>
      <p:sp>
        <p:nvSpPr>
          <p:cNvPr id="106"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280" y="2133720"/>
            <a:ext cx="828036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rischio assoluto di anomalie congenite ( gravi malformazioni cardiache e del tubo neurale) è di 0.61 per 1000 nati nelle obese e di 0.41 per 1000 nati nelle normopes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numeri assoluti quindi differiscono per pochi casi tuttavia l’obesità è in continuo aumento in molti paesi, anche in quelli in via di svilup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09"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95280" y="2133720"/>
            <a:ext cx="8280360" cy="3579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el III trimestre la sensibilità all’insulina dei tessuti periferici si riduce di circa il 50-60% nelle donne con peso normale e questa riduzione è sensibilmente maggiore nelle donne obese. L’aumentata resistenza all’insulina serve a limitare l’utilizzo del glucosio da parte della madre al fine di renderlo maggiormente disponibile per il feto. L’iperinsulinemia materna induce un aumento della ossidazione dei grassi nel tessuto adiposo con un conseguente aumento degli acidi grassi in circolo che vengono usati come carburante da parte della madre.</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2007; 109: 419-33</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m J Obstet Gynecol 1983; 146: 417-2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12"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5280" y="2133720"/>
            <a:ext cx="8280360" cy="3432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 molto frequente che si verifichi uno stato di modesta infiammazione nelle pazienti obese con intolleranza al glucosio dato che le citochine proinfiammatorie ( Interleuchina-6 e TNF-alfa) vengono prodotte sia dalla placenta che dal tessuto adiposo. E’ stato recentemente dimostrato che queste citochine proinfiammatorie</a:t>
            </a:r>
            <a:r>
              <a:rPr b="0" lang="it-IT" sz="2000" spc="-1" strike="noStrike">
                <a:solidFill>
                  <a:srgbClr val="000000"/>
                </a:solidFill>
                <a:latin typeface="Arial"/>
              </a:rPr>
              <a:t> </a:t>
            </a:r>
            <a:r>
              <a:rPr b="1" lang="it-IT" sz="2000" spc="-1" strike="noStrike">
                <a:solidFill>
                  <a:srgbClr val="000000"/>
                </a:solidFill>
                <a:latin typeface="Arial"/>
              </a:rPr>
              <a:t>possono contribuire alla diminuzione della sensibilità all’insuli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King JC 2007; Boca Raton,FL: Taylor and Francis CRC Press 93-106</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Placenta 2006; 27:794-9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15"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2133720"/>
            <a:ext cx="8424720" cy="4080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 stato dimostrato che le gravide con elevato BMI hanno un aumento significativo del rischio di sviluppare una preeclampsia. Per le donne obese questo rischio aumenta di 1.6 volte mentre per quelle con 40 di BMI o superiore tale rischio aumenta di 3.3 volte. Tale situazione si verifica anche nelle donne obese con Diabete Gestazionale anche se ben controllato (10.8%) ed in quelle con diabete gestazionale con controllo non ottimale (14.9%).</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m J Obstet Gynecol 1997;177:1003-1010</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m J Obstet Gynecol 2004;190:1091-97</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m J Obstet Gynecol 2004;191:1655-60</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New Engl J Med 2005;352:2477-86</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18"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000" y="2133720"/>
            <a:ext cx="8424720" cy="3974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gravide obese hanno un significativo aumento del rischio di sviluppare un diabete gestazional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2.6 volte per le obese (CI 2.1-3.4 p&lt; 0.001)</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4.0 volte per le patologicamente obese ( CI 3.1-5.2 p&lt;0.01)</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questi casi è consigliato uno screening precoce con un carico di glucosio ben prima della 24° setti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m J Obstet Gynecol 2004; 190:1091-7</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50920" y="2511360"/>
            <a:ext cx="8677080" cy="2212920"/>
          </a:xfrm>
          <a:prstGeom prst="rect">
            <a:avLst/>
          </a:prstGeom>
          <a:ln w="0">
            <a:noFill/>
          </a:ln>
        </p:spPr>
      </p:pic>
      <p:sp>
        <p:nvSpPr>
          <p:cNvPr id="121"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22"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06800" y="-7947000"/>
            <a:ext cx="3609720" cy="2266920"/>
          </a:xfrm>
          <a:prstGeom prst="rect">
            <a:avLst/>
          </a:prstGeom>
          <a:ln w="0">
            <a:noFill/>
          </a:ln>
        </p:spPr>
      </p:pic>
      <p:pic>
        <p:nvPicPr>
          <p:cNvPr id="45" name="" descr=""/>
          <p:cNvPicPr/>
          <p:nvPr/>
        </p:nvPicPr>
        <p:blipFill>
          <a:blip r:embed="rId2"/>
          <a:stretch/>
        </p:blipFill>
        <p:spPr>
          <a:xfrm>
            <a:off x="2206800" y="-7947000"/>
            <a:ext cx="1523880" cy="1523880"/>
          </a:xfrm>
          <a:prstGeom prst="rect">
            <a:avLst/>
          </a:prstGeom>
          <a:ln w="0">
            <a:noFill/>
          </a:ln>
        </p:spPr>
      </p:pic>
      <p:graphicFrame>
        <p:nvGraphicFramePr>
          <p:cNvPr id="46" name=""/>
          <p:cNvGraphicFramePr/>
          <p:nvPr/>
        </p:nvGraphicFramePr>
        <p:xfrm>
          <a:off x="914400" y="1523880"/>
          <a:ext cx="7543800" cy="5213520"/>
        </p:xfrm>
        <a:graphic>
          <a:graphicData uri="http://schemas.openxmlformats.org/drawingml/2006/table">
            <a:tbl>
              <a:tblPr/>
              <a:tblGrid>
                <a:gridCol w="3548160"/>
                <a:gridCol w="241200"/>
                <a:gridCol w="3754440"/>
              </a:tblGrid>
              <a:tr h="59652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Battle Honours Of The Gordon Highland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 spc="-1" strike="noStrike">
                          <a:solidFill>
                            <a:srgbClr val="333300"/>
                          </a:solidFill>
                          <a:latin typeface="Arial"/>
                        </a:rPr>
                        <a:t> </a:t>
                      </a:r>
                      <a:endParaRPr b="0" lang="en-US" sz="500" spc="-1" strike="noStrike">
                        <a:solidFill>
                          <a:srgbClr val="000000"/>
                        </a:solidFill>
                        <a:latin typeface="Arial"/>
                      </a:endParaRPr>
                    </a:p>
                  </a:txBody>
                  <a:tcPr anchor="b" marL="90000" marR="90000">
                    <a:lnL>
                      <a:noFill/>
                    </a:lnL>
                    <a:lnR>
                      <a:noFill/>
                    </a:lnR>
                    <a:lnT>
                      <a:noFill/>
                    </a:lnT>
                    <a:lnB>
                      <a:noFill/>
                    </a:lnB>
                    <a:blipFill rotWithShape="0">
                      <a:blip r:embed="rId3"/>
                      <a:tile tx="0" ty="0" sx="100000" sy="100000" algn="ctr"/>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400">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blipFill rotWithShape="0">
                      <a:blip r:embed="rId4"/>
                      <a:tile tx="0" ty="0" sx="100000" sy="100000" algn="ctr"/>
                    </a:blip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blipFill rotWithShape="0">
                      <a:blip r:embed="rId5"/>
                      <a:tile tx="0" ty="0" sx="100000" sy="100000" algn="ctr"/>
                    </a:blip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blipFill rotWithShape="0">
                      <a:blip r:embed="rId6"/>
                      <a:tile tx="0" ty="0" sx="100000" sy="100000" algn="ctr"/>
                    </a:blipFill>
                  </a:tcPr>
                </a:tc>
              </a:tr>
              <a:tr h="443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maze"/>
                        </a:rPr>
                        <a:t>Mysore,</a:t>
                      </a:r>
                      <a:br>
                        <a:rPr sz="500"/>
                      </a:br>
                      <a:r>
                        <a:rPr b="1" lang="it-IT" sz="500" spc="-1" strike="noStrike">
                          <a:solidFill>
                            <a:srgbClr val="000000"/>
                          </a:solidFill>
                          <a:latin typeface="Amaze"/>
                        </a:rPr>
                        <a:t>Seringapatam,</a:t>
                      </a:r>
                      <a:br>
                        <a:rPr sz="500"/>
                      </a:br>
                      <a:r>
                        <a:rPr b="1" lang="it-IT" sz="500" spc="-1" strike="noStrike">
                          <a:solidFill>
                            <a:srgbClr val="000000"/>
                          </a:solidFill>
                          <a:latin typeface="Amaze"/>
                        </a:rPr>
                        <a:t>Egmont-op-Zee,</a:t>
                      </a:r>
                      <a:br>
                        <a:rPr sz="500"/>
                      </a:br>
                      <a:r>
                        <a:rPr b="1" lang="it-IT" sz="500" spc="-1" strike="noStrike">
                          <a:solidFill>
                            <a:srgbClr val="000000"/>
                          </a:solidFill>
                          <a:latin typeface="Amaze"/>
                        </a:rPr>
                        <a:t>Mandora,</a:t>
                      </a:r>
                      <a:br>
                        <a:rPr sz="500"/>
                      </a:br>
                      <a:r>
                        <a:rPr b="1" lang="it-IT" sz="500" spc="-1" strike="noStrike">
                          <a:solidFill>
                            <a:srgbClr val="000000"/>
                          </a:solidFill>
                          <a:latin typeface="Amaze"/>
                        </a:rPr>
                        <a:t>Corunna,</a:t>
                      </a:r>
                      <a:br>
                        <a:rPr sz="500"/>
                      </a:br>
                      <a:r>
                        <a:rPr b="1" lang="it-IT" sz="500" spc="-1" strike="noStrike">
                          <a:solidFill>
                            <a:srgbClr val="000000"/>
                          </a:solidFill>
                          <a:latin typeface="Amaze"/>
                        </a:rPr>
                        <a:t>Fuentes d'Onor,</a:t>
                      </a:r>
                      <a:br>
                        <a:rPr sz="500"/>
                      </a:br>
                      <a:r>
                        <a:rPr b="1" lang="it-IT" sz="500" spc="-1" strike="noStrike">
                          <a:solidFill>
                            <a:srgbClr val="000000"/>
                          </a:solidFill>
                          <a:latin typeface="Amaze"/>
                        </a:rPr>
                        <a:t>Almaraz,</a:t>
                      </a:r>
                      <a:br>
                        <a:rPr sz="500"/>
                      </a:br>
                      <a:r>
                        <a:rPr b="1" lang="it-IT" sz="500" spc="-1" strike="noStrike">
                          <a:solidFill>
                            <a:srgbClr val="000000"/>
                          </a:solidFill>
                          <a:latin typeface="Amaze"/>
                        </a:rPr>
                        <a:t>Vittoria,</a:t>
                      </a:r>
                      <a:br>
                        <a:rPr sz="500"/>
                      </a:br>
                      <a:r>
                        <a:rPr b="1" lang="it-IT" sz="500" spc="-1" strike="noStrike">
                          <a:solidFill>
                            <a:srgbClr val="000000"/>
                          </a:solidFill>
                          <a:latin typeface="Amaze"/>
                        </a:rPr>
                        <a:t>Pyrenees,</a:t>
                      </a:r>
                      <a:br>
                        <a:rPr sz="500"/>
                      </a:br>
                      <a:r>
                        <a:rPr b="1" lang="it-IT" sz="500" spc="-1" strike="noStrike">
                          <a:solidFill>
                            <a:srgbClr val="000000"/>
                          </a:solidFill>
                          <a:latin typeface="Amaze"/>
                        </a:rPr>
                        <a:t>Nive, Orthes,</a:t>
                      </a:r>
                      <a:br>
                        <a:rPr sz="500"/>
                      </a:br>
                      <a:r>
                        <a:rPr b="1" lang="it-IT" sz="500" spc="-1" strike="noStrike">
                          <a:solidFill>
                            <a:srgbClr val="000000"/>
                          </a:solidFill>
                          <a:latin typeface="Amaze"/>
                        </a:rPr>
                        <a:t>Peninsula,</a:t>
                      </a:r>
                      <a:br>
                        <a:rPr sz="500"/>
                      </a:br>
                      <a:r>
                        <a:rPr b="1" lang="it-IT" sz="500" spc="-1" strike="noStrike">
                          <a:solidFill>
                            <a:srgbClr val="000000"/>
                          </a:solidFill>
                          <a:latin typeface="Amaze"/>
                        </a:rPr>
                        <a:t>Waterloo,</a:t>
                      </a:r>
                      <a:br>
                        <a:rPr sz="500"/>
                      </a:br>
                      <a:r>
                        <a:rPr b="1" lang="it-IT" sz="500" spc="-1" strike="noStrike">
                          <a:solidFill>
                            <a:srgbClr val="000000"/>
                          </a:solidFill>
                          <a:latin typeface="Amaze"/>
                        </a:rPr>
                        <a:t>South Africa 1835,</a:t>
                      </a:r>
                      <a:br>
                        <a:rPr sz="500"/>
                      </a:br>
                      <a:r>
                        <a:rPr b="1" lang="it-IT" sz="500" spc="-1" strike="noStrike">
                          <a:solidFill>
                            <a:srgbClr val="000000"/>
                          </a:solidFill>
                          <a:latin typeface="Amaze"/>
                        </a:rPr>
                        <a:t>Delhi 1857,</a:t>
                      </a:r>
                      <a:br>
                        <a:rPr sz="500"/>
                      </a:br>
                      <a:r>
                        <a:rPr b="1" lang="it-IT" sz="500" spc="-1" strike="noStrike">
                          <a:solidFill>
                            <a:srgbClr val="000000"/>
                          </a:solidFill>
                          <a:latin typeface="Amaze"/>
                        </a:rPr>
                        <a:t>Lucknow,</a:t>
                      </a:r>
                      <a:br>
                        <a:rPr sz="500"/>
                      </a:br>
                      <a:r>
                        <a:rPr b="1" lang="it-IT" sz="500" spc="-1" strike="noStrike">
                          <a:solidFill>
                            <a:srgbClr val="000000"/>
                          </a:solidFill>
                          <a:latin typeface="Amaze"/>
                        </a:rPr>
                        <a:t>Charasiah,</a:t>
                      </a:r>
                      <a:br>
                        <a:rPr sz="500"/>
                      </a:br>
                      <a:r>
                        <a:rPr b="1" lang="it-IT" sz="500" spc="-1" strike="noStrike">
                          <a:solidFill>
                            <a:srgbClr val="000000"/>
                          </a:solidFill>
                          <a:latin typeface="Amaze"/>
                        </a:rPr>
                        <a:t>Kabul 1879,</a:t>
                      </a:r>
                      <a:br>
                        <a:rPr sz="500"/>
                      </a:br>
                      <a:r>
                        <a:rPr b="1" lang="it-IT" sz="500" spc="-1" strike="noStrike">
                          <a:solidFill>
                            <a:srgbClr val="000000"/>
                          </a:solidFill>
                          <a:latin typeface="Amaze"/>
                        </a:rPr>
                        <a:t>Kandahar 1880,</a:t>
                      </a:r>
                      <a:br>
                        <a:rPr sz="500"/>
                      </a:br>
                      <a:r>
                        <a:rPr b="1" lang="it-IT" sz="500" spc="-1" strike="noStrike">
                          <a:solidFill>
                            <a:srgbClr val="000000"/>
                          </a:solidFill>
                          <a:latin typeface="Amaze"/>
                        </a:rPr>
                        <a:t>Afghanistan 1873-80,</a:t>
                      </a:r>
                      <a:br>
                        <a:rPr sz="500"/>
                      </a:br>
                      <a:r>
                        <a:rPr b="1" lang="it-IT" sz="500" spc="-1" strike="noStrike">
                          <a:solidFill>
                            <a:srgbClr val="000000"/>
                          </a:solidFill>
                          <a:latin typeface="Amaze"/>
                        </a:rPr>
                        <a:t>Tel-el-Kebir,</a:t>
                      </a:r>
                      <a:br>
                        <a:rPr sz="500"/>
                      </a:br>
                      <a:r>
                        <a:rPr b="1" lang="it-IT" sz="500" spc="-1" strike="noStrike">
                          <a:solidFill>
                            <a:srgbClr val="000000"/>
                          </a:solidFill>
                          <a:latin typeface="Amaze"/>
                        </a:rPr>
                        <a:t>Egypt 1882-84,</a:t>
                      </a:r>
                      <a:br>
                        <a:rPr sz="500"/>
                      </a:br>
                      <a:r>
                        <a:rPr b="1" lang="it-IT" sz="500" spc="-1" strike="noStrike">
                          <a:solidFill>
                            <a:srgbClr val="000000"/>
                          </a:solidFill>
                          <a:latin typeface="Amaze"/>
                        </a:rPr>
                        <a:t>Nile 1884-85,</a:t>
                      </a:r>
                      <a:br>
                        <a:rPr sz="500"/>
                      </a:br>
                      <a:r>
                        <a:rPr b="1" lang="it-IT" sz="500" spc="-1" strike="noStrike">
                          <a:solidFill>
                            <a:srgbClr val="000000"/>
                          </a:solidFill>
                          <a:latin typeface="Amaze"/>
                        </a:rPr>
                        <a:t>Chitral,</a:t>
                      </a:r>
                      <a:br>
                        <a:rPr sz="500"/>
                      </a:br>
                      <a:r>
                        <a:rPr b="1" lang="it-IT" sz="500" spc="-1" strike="noStrike">
                          <a:solidFill>
                            <a:srgbClr val="000000"/>
                          </a:solidFill>
                          <a:latin typeface="Amaze"/>
                        </a:rPr>
                        <a:t>Tirah,</a:t>
                      </a:r>
                      <a:br>
                        <a:rPr sz="500"/>
                      </a:br>
                      <a:r>
                        <a:rPr b="1" lang="it-IT" sz="500" spc="-1" strike="noStrike">
                          <a:solidFill>
                            <a:srgbClr val="000000"/>
                          </a:solidFill>
                          <a:latin typeface="Amaze"/>
                        </a:rPr>
                        <a:t>Defence of Ladysmith,</a:t>
                      </a:r>
                      <a:br>
                        <a:rPr sz="500"/>
                      </a:br>
                      <a:r>
                        <a:rPr b="1" lang="it-IT" sz="500" spc="-1" strike="noStrike">
                          <a:solidFill>
                            <a:srgbClr val="000000"/>
                          </a:solidFill>
                          <a:latin typeface="Amaze"/>
                        </a:rPr>
                        <a:t>Paardeberg,</a:t>
                      </a:r>
                      <a:br>
                        <a:rPr sz="500"/>
                      </a:br>
                      <a:r>
                        <a:rPr b="1" lang="it-IT" sz="500" spc="-1" strike="noStrike">
                          <a:solidFill>
                            <a:srgbClr val="000000"/>
                          </a:solidFill>
                          <a:latin typeface="Amaze"/>
                        </a:rPr>
                        <a:t>South Africa 1899-1902.</a:t>
                      </a:r>
                      <a:br>
                        <a:rPr sz="500"/>
                      </a:br>
                      <a:r>
                        <a:rPr b="1" lang="it-IT" sz="500" spc="-1" strike="noStrike">
                          <a:solidFill>
                            <a:srgbClr val="000000"/>
                          </a:solidFill>
                          <a:latin typeface="Amaze"/>
                        </a:rPr>
                        <a:t>Mons,</a:t>
                      </a:r>
                      <a:br>
                        <a:rPr sz="500"/>
                      </a:br>
                      <a:r>
                        <a:rPr b="1" lang="it-IT" sz="500" spc="-1" strike="noStrike">
                          <a:solidFill>
                            <a:srgbClr val="000000"/>
                          </a:solidFill>
                          <a:latin typeface="Amaze"/>
                        </a:rPr>
                        <a:t>Le Cateau,</a:t>
                      </a:r>
                      <a:br>
                        <a:rPr sz="500"/>
                      </a:br>
                      <a:r>
                        <a:rPr b="1" lang="it-IT" sz="500" spc="-1" strike="noStrike">
                          <a:solidFill>
                            <a:srgbClr val="000000"/>
                          </a:solidFill>
                          <a:latin typeface="Amaze"/>
                        </a:rPr>
                        <a:t>Retreat from Mons,</a:t>
                      </a:r>
                      <a:br>
                        <a:rPr sz="500"/>
                      </a:br>
                      <a:r>
                        <a:rPr b="1" lang="it-IT" sz="500" spc="-1" strike="noStrike">
                          <a:solidFill>
                            <a:srgbClr val="000000"/>
                          </a:solidFill>
                          <a:latin typeface="Amaze"/>
                        </a:rPr>
                        <a:t>Marne 1914, 18,</a:t>
                      </a:r>
                      <a:br>
                        <a:rPr sz="500"/>
                      </a:br>
                      <a:r>
                        <a:rPr b="1" lang="it-IT" sz="500" spc="-1" strike="noStrike">
                          <a:solidFill>
                            <a:srgbClr val="000000"/>
                          </a:solidFill>
                          <a:latin typeface="Amaze"/>
                        </a:rPr>
                        <a:t>Aisne 1914,</a:t>
                      </a:r>
                      <a:br>
                        <a:rPr sz="500"/>
                      </a:br>
                      <a:r>
                        <a:rPr b="1" lang="it-IT" sz="500" spc="-1" strike="noStrike">
                          <a:solidFill>
                            <a:srgbClr val="000000"/>
                          </a:solidFill>
                          <a:latin typeface="Amaze"/>
                        </a:rPr>
                        <a:t>La Bassee 1914,</a:t>
                      </a:r>
                      <a:br>
                        <a:rPr sz="500"/>
                      </a:br>
                      <a:r>
                        <a:rPr b="1" lang="it-IT" sz="500" spc="-1" strike="noStrike">
                          <a:solidFill>
                            <a:srgbClr val="000000"/>
                          </a:solidFill>
                          <a:latin typeface="Amaze"/>
                        </a:rPr>
                        <a:t>Messines 1914,</a:t>
                      </a:r>
                      <a:br>
                        <a:rPr sz="500"/>
                      </a:br>
                      <a:r>
                        <a:rPr b="1" lang="it-IT" sz="500" spc="-1" strike="noStrike">
                          <a:solidFill>
                            <a:srgbClr val="000000"/>
                          </a:solidFill>
                          <a:latin typeface="Amaze"/>
                        </a:rPr>
                        <a:t>Armentieres 1914,</a:t>
                      </a:r>
                      <a:br>
                        <a:rPr sz="500"/>
                      </a:br>
                      <a:r>
                        <a:rPr b="1" lang="it-IT" sz="500" spc="-1" strike="noStrike">
                          <a:solidFill>
                            <a:srgbClr val="000000"/>
                          </a:solidFill>
                          <a:latin typeface="Amaze"/>
                        </a:rPr>
                        <a:t>Ypres 1914, 15, 17,</a:t>
                      </a:r>
                      <a:br>
                        <a:rPr sz="500"/>
                      </a:br>
                      <a:r>
                        <a:rPr b="1" lang="it-IT" sz="500" spc="-1" strike="noStrike">
                          <a:solidFill>
                            <a:srgbClr val="000000"/>
                          </a:solidFill>
                          <a:latin typeface="Amaze"/>
                        </a:rPr>
                        <a:t>Langemarck 1914,</a:t>
                      </a:r>
                      <a:br>
                        <a:rPr sz="500"/>
                      </a:br>
                      <a:r>
                        <a:rPr b="1" lang="it-IT" sz="500" spc="-1" strike="noStrike">
                          <a:solidFill>
                            <a:srgbClr val="000000"/>
                          </a:solidFill>
                          <a:latin typeface="Amaze"/>
                        </a:rPr>
                        <a:t>Gheluvelt,</a:t>
                      </a:r>
                      <a:br>
                        <a:rPr sz="500"/>
                      </a:br>
                      <a:r>
                        <a:rPr b="1" lang="it-IT" sz="500" spc="-1" strike="noStrike">
                          <a:solidFill>
                            <a:srgbClr val="000000"/>
                          </a:solidFill>
                          <a:latin typeface="Amaze"/>
                        </a:rPr>
                        <a:t>Nonne Bosschen,</a:t>
                      </a:r>
                      <a:br>
                        <a:rPr sz="500"/>
                      </a:br>
                      <a:r>
                        <a:rPr b="1" lang="it-IT" sz="500" spc="-1" strike="noStrike">
                          <a:solidFill>
                            <a:srgbClr val="000000"/>
                          </a:solidFill>
                          <a:latin typeface="Amaze"/>
                        </a:rPr>
                        <a:t>Neuve Chapelle,</a:t>
                      </a:r>
                      <a:br>
                        <a:rPr sz="500"/>
                      </a:br>
                      <a:r>
                        <a:rPr b="1" lang="it-IT" sz="500" spc="-1" strike="noStrike">
                          <a:solidFill>
                            <a:srgbClr val="000000"/>
                          </a:solidFill>
                          <a:latin typeface="Amaze"/>
                        </a:rPr>
                        <a:t>Frezenberg,</a:t>
                      </a:r>
                      <a:br>
                        <a:rPr sz="500"/>
                      </a:br>
                      <a:r>
                        <a:rPr b="1" lang="it-IT" sz="500" spc="-1" strike="noStrike">
                          <a:solidFill>
                            <a:srgbClr val="000000"/>
                          </a:solidFill>
                          <a:latin typeface="Amaze"/>
                        </a:rPr>
                        <a:t>Bellewaarde,</a:t>
                      </a:r>
                      <a:br>
                        <a:rPr sz="500"/>
                      </a:br>
                      <a:r>
                        <a:rPr b="1" lang="it-IT" sz="500" spc="-1" strike="noStrike">
                          <a:solidFill>
                            <a:srgbClr val="000000"/>
                          </a:solidFill>
                          <a:latin typeface="Amaze"/>
                        </a:rPr>
                        <a:t>Aubers,</a:t>
                      </a:r>
                      <a:br>
                        <a:rPr sz="500"/>
                      </a:br>
                      <a:r>
                        <a:rPr b="1" lang="it-IT" sz="500" spc="-1" strike="noStrike">
                          <a:solidFill>
                            <a:srgbClr val="000000"/>
                          </a:solidFill>
                          <a:latin typeface="Amaze"/>
                        </a:rPr>
                        <a:t>Festubert 1915,</a:t>
                      </a:r>
                      <a:br>
                        <a:rPr sz="500"/>
                      </a:br>
                      <a:r>
                        <a:rPr b="1" lang="it-IT" sz="500" spc="-1" strike="noStrike">
                          <a:solidFill>
                            <a:srgbClr val="000000"/>
                          </a:solidFill>
                          <a:latin typeface="Amaze"/>
                        </a:rPr>
                        <a:t>Hooge 1915,</a:t>
                      </a:r>
                      <a:br>
                        <a:rPr sz="500"/>
                      </a:br>
                      <a:r>
                        <a:rPr b="1" lang="it-IT" sz="500" spc="-1" strike="noStrike">
                          <a:solidFill>
                            <a:srgbClr val="000000"/>
                          </a:solidFill>
                          <a:latin typeface="Amaze"/>
                        </a:rPr>
                        <a:t>Loos,</a:t>
                      </a:r>
                      <a:br>
                        <a:rPr sz="500"/>
                      </a:br>
                      <a:r>
                        <a:rPr b="1" lang="it-IT" sz="500" spc="-1" strike="noStrike">
                          <a:solidFill>
                            <a:srgbClr val="000000"/>
                          </a:solidFill>
                          <a:latin typeface="Amaze"/>
                        </a:rPr>
                        <a:t>Somme 1916, 18,</a:t>
                      </a:r>
                      <a:br>
                        <a:rPr sz="500"/>
                      </a:br>
                      <a:r>
                        <a:rPr b="1" lang="it-IT" sz="500" spc="-1" strike="noStrike">
                          <a:solidFill>
                            <a:srgbClr val="000000"/>
                          </a:solidFill>
                          <a:latin typeface="Amaze"/>
                        </a:rPr>
                        <a:t>Albert 1916, 18,</a:t>
                      </a:r>
                      <a:br>
                        <a:rPr sz="500"/>
                      </a:br>
                      <a:r>
                        <a:rPr b="1" lang="it-IT" sz="500" spc="-1" strike="noStrike">
                          <a:solidFill>
                            <a:srgbClr val="000000"/>
                          </a:solidFill>
                          <a:latin typeface="Amaze"/>
                        </a:rPr>
                        <a:t>Bazentin,</a:t>
                      </a:r>
                      <a:br>
                        <a:rPr sz="500"/>
                      </a:br>
                      <a:r>
                        <a:rPr b="1" lang="it-IT" sz="500" spc="-1" strike="noStrike">
                          <a:solidFill>
                            <a:srgbClr val="000000"/>
                          </a:solidFill>
                          <a:latin typeface="Amaze"/>
                        </a:rPr>
                        <a:t>Delville Wood,</a:t>
                      </a:r>
                      <a:br>
                        <a:rPr sz="500"/>
                      </a:br>
                      <a:r>
                        <a:rPr b="1" lang="it-IT" sz="500" spc="-1" strike="noStrike">
                          <a:solidFill>
                            <a:srgbClr val="000000"/>
                          </a:solidFill>
                          <a:latin typeface="Amaze"/>
                        </a:rPr>
                        <a:t>Pozieres,</a:t>
                      </a:r>
                      <a:br>
                        <a:rPr sz="500"/>
                      </a:br>
                      <a:r>
                        <a:rPr b="1" lang="it-IT" sz="500" spc="-1" strike="noStrike">
                          <a:solidFill>
                            <a:srgbClr val="000000"/>
                          </a:solidFill>
                          <a:latin typeface="Amaze"/>
                        </a:rPr>
                        <a:t>Guillemont,</a:t>
                      </a:r>
                      <a:br>
                        <a:rPr sz="500"/>
                      </a:br>
                      <a:r>
                        <a:rPr b="1" lang="it-IT" sz="500" spc="-1" strike="noStrike">
                          <a:solidFill>
                            <a:srgbClr val="000000"/>
                          </a:solidFill>
                          <a:latin typeface="Amaze"/>
                        </a:rPr>
                        <a:t>Flers-Courcelette,</a:t>
                      </a:r>
                      <a:br>
                        <a:rPr sz="500"/>
                      </a:br>
                      <a:r>
                        <a:rPr b="1" lang="it-IT" sz="500" spc="-1" strike="noStrike">
                          <a:solidFill>
                            <a:srgbClr val="000000"/>
                          </a:solidFill>
                          <a:latin typeface="Amaze"/>
                        </a:rPr>
                        <a:t>Le Transloy,</a:t>
                      </a:r>
                      <a:br>
                        <a:rPr sz="500"/>
                      </a:br>
                      <a:r>
                        <a:rPr b="1" lang="it-IT" sz="500" spc="-1" strike="noStrike">
                          <a:solidFill>
                            <a:srgbClr val="000000"/>
                          </a:solidFill>
                          <a:latin typeface="Amaze"/>
                        </a:rPr>
                        <a:t>Ancre 1916,</a:t>
                      </a:r>
                      <a:endParaRPr b="0" lang="en-US" sz="500" spc="-1" strike="noStrike">
                        <a:solidFill>
                          <a:srgbClr val="000000"/>
                        </a:solidFill>
                        <a:latin typeface="Arial"/>
                      </a:endParaRPr>
                    </a:p>
                  </a:txBody>
                  <a:tcPr anchor="t" marL="90000" marR="90000">
                    <a:lnL>
                      <a:noFill/>
                    </a:lnL>
                    <a:lnR>
                      <a:noFill/>
                    </a:lnR>
                    <a:lnT>
                      <a:noFill/>
                    </a:lnT>
                    <a:lnB>
                      <a:noFill/>
                    </a:lnB>
                    <a:blipFill rotWithShape="0">
                      <a:blip r:embed="rId7"/>
                      <a:tile tx="0" ty="0" sx="100000" sy="100000" algn="ctr"/>
                    </a:blip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blipFill rotWithShape="0">
                      <a:blip r:embed="rId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 spc="-1" strike="noStrike">
                          <a:solidFill>
                            <a:srgbClr val="000000"/>
                          </a:solidFill>
                          <a:latin typeface="Amaze"/>
                        </a:rPr>
                        <a:t>Arras 1917, 18,</a:t>
                      </a:r>
                      <a:br>
                        <a:rPr sz="500"/>
                      </a:br>
                      <a:r>
                        <a:rPr b="1" lang="it-IT" sz="500" spc="-1" strike="noStrike">
                          <a:solidFill>
                            <a:srgbClr val="000000"/>
                          </a:solidFill>
                          <a:latin typeface="Amaze"/>
                        </a:rPr>
                        <a:t>Vimy 1917,</a:t>
                      </a:r>
                      <a:br>
                        <a:rPr sz="500"/>
                      </a:br>
                      <a:r>
                        <a:rPr b="1" lang="it-IT" sz="500" spc="-1" strike="noStrike">
                          <a:solidFill>
                            <a:srgbClr val="000000"/>
                          </a:solidFill>
                          <a:latin typeface="Amaze"/>
                        </a:rPr>
                        <a:t>Scarpe 1917, 18,</a:t>
                      </a:r>
                      <a:br>
                        <a:rPr sz="500"/>
                      </a:br>
                      <a:r>
                        <a:rPr b="1" lang="it-IT" sz="500" spc="-1" strike="noStrike">
                          <a:solidFill>
                            <a:srgbClr val="000000"/>
                          </a:solidFill>
                          <a:latin typeface="Amaze"/>
                        </a:rPr>
                        <a:t>Arleax,</a:t>
                      </a:r>
                      <a:br>
                        <a:rPr sz="500"/>
                      </a:br>
                      <a:r>
                        <a:rPr b="1" lang="it-IT" sz="500" spc="-1" strike="noStrike">
                          <a:solidFill>
                            <a:srgbClr val="000000"/>
                          </a:solidFill>
                          <a:latin typeface="Amaze"/>
                        </a:rPr>
                        <a:t>Bullscourt,</a:t>
                      </a:r>
                      <a:br>
                        <a:rPr sz="500"/>
                      </a:br>
                      <a:r>
                        <a:rPr b="1" lang="it-IT" sz="500" spc="-1" strike="noStrike">
                          <a:solidFill>
                            <a:srgbClr val="000000"/>
                          </a:solidFill>
                          <a:latin typeface="Amaze"/>
                        </a:rPr>
                        <a:t>Pilckem,</a:t>
                      </a:r>
                      <a:br>
                        <a:rPr sz="500"/>
                      </a:br>
                      <a:r>
                        <a:rPr b="1" lang="it-IT" sz="500" spc="-1" strike="noStrike">
                          <a:solidFill>
                            <a:srgbClr val="000000"/>
                          </a:solidFill>
                          <a:latin typeface="Amaze"/>
                        </a:rPr>
                        <a:t>Menin Road,</a:t>
                      </a:r>
                      <a:br>
                        <a:rPr sz="500"/>
                      </a:br>
                      <a:r>
                        <a:rPr b="1" lang="it-IT" sz="500" spc="-1" strike="noStrike">
                          <a:solidFill>
                            <a:srgbClr val="000000"/>
                          </a:solidFill>
                          <a:latin typeface="Amaze"/>
                        </a:rPr>
                        <a:t>Polygon Wood,</a:t>
                      </a:r>
                      <a:br>
                        <a:rPr sz="500"/>
                      </a:br>
                      <a:r>
                        <a:rPr b="1" lang="it-IT" sz="500" spc="-1" strike="noStrike">
                          <a:solidFill>
                            <a:srgbClr val="000000"/>
                          </a:solidFill>
                          <a:latin typeface="Amaze"/>
                        </a:rPr>
                        <a:t>Broodseinde,</a:t>
                      </a:r>
                      <a:br>
                        <a:rPr sz="500"/>
                      </a:br>
                      <a:r>
                        <a:rPr b="1" lang="it-IT" sz="500" spc="-1" strike="noStrike">
                          <a:solidFill>
                            <a:srgbClr val="000000"/>
                          </a:solidFill>
                          <a:latin typeface="Amaze"/>
                        </a:rPr>
                        <a:t>Poelcappelle,</a:t>
                      </a:r>
                      <a:br>
                        <a:rPr sz="500"/>
                      </a:br>
                      <a:r>
                        <a:rPr b="1" lang="it-IT" sz="500" spc="-1" strike="noStrike">
                          <a:solidFill>
                            <a:srgbClr val="000000"/>
                          </a:solidFill>
                          <a:latin typeface="Amaze"/>
                        </a:rPr>
                        <a:t>Passchendaele,</a:t>
                      </a:r>
                      <a:br>
                        <a:rPr sz="500"/>
                      </a:br>
                      <a:r>
                        <a:rPr b="1" lang="it-IT" sz="500" spc="-1" strike="noStrike">
                          <a:solidFill>
                            <a:srgbClr val="000000"/>
                          </a:solidFill>
                          <a:latin typeface="Amaze"/>
                        </a:rPr>
                        <a:t>Cambrai 1917, 18,</a:t>
                      </a:r>
                      <a:br>
                        <a:rPr sz="500"/>
                      </a:br>
                      <a:r>
                        <a:rPr b="1" lang="it-IT" sz="500" spc="-1" strike="noStrike">
                          <a:solidFill>
                            <a:srgbClr val="000000"/>
                          </a:solidFill>
                          <a:latin typeface="Amaze"/>
                        </a:rPr>
                        <a:t>St Quentin,</a:t>
                      </a:r>
                      <a:br>
                        <a:rPr sz="500"/>
                      </a:br>
                      <a:r>
                        <a:rPr b="1" lang="it-IT" sz="500" spc="-1" strike="noStrike">
                          <a:solidFill>
                            <a:srgbClr val="000000"/>
                          </a:solidFill>
                          <a:latin typeface="Amaze"/>
                        </a:rPr>
                        <a:t>Bapaume 1918,</a:t>
                      </a:r>
                      <a:br>
                        <a:rPr sz="500"/>
                      </a:br>
                      <a:r>
                        <a:rPr b="1" lang="it-IT" sz="500" spc="-1" strike="noStrike">
                          <a:solidFill>
                            <a:srgbClr val="000000"/>
                          </a:solidFill>
                          <a:latin typeface="Amaze"/>
                        </a:rPr>
                        <a:t>Rosieres,</a:t>
                      </a:r>
                      <a:br>
                        <a:rPr sz="500"/>
                      </a:br>
                      <a:r>
                        <a:rPr b="1" lang="it-IT" sz="500" spc="-1" strike="noStrike">
                          <a:solidFill>
                            <a:srgbClr val="000000"/>
                          </a:solidFill>
                          <a:latin typeface="Amaze"/>
                        </a:rPr>
                        <a:t>Lys,</a:t>
                      </a:r>
                      <a:br>
                        <a:rPr sz="500"/>
                      </a:br>
                      <a:r>
                        <a:rPr b="1" lang="it-IT" sz="500" spc="-1" strike="noStrike">
                          <a:solidFill>
                            <a:srgbClr val="000000"/>
                          </a:solidFill>
                          <a:latin typeface="Amaze"/>
                        </a:rPr>
                        <a:t>Estaires,</a:t>
                      </a:r>
                      <a:br>
                        <a:rPr sz="500"/>
                      </a:br>
                      <a:r>
                        <a:rPr b="1" lang="it-IT" sz="500" spc="-1" strike="noStrike">
                          <a:solidFill>
                            <a:srgbClr val="000000"/>
                          </a:solidFill>
                          <a:latin typeface="Amaze"/>
                        </a:rPr>
                        <a:t>Hazebrouck,</a:t>
                      </a:r>
                      <a:br>
                        <a:rPr sz="500"/>
                      </a:br>
                      <a:r>
                        <a:rPr b="1" lang="it-IT" sz="500" spc="-1" strike="noStrike">
                          <a:solidFill>
                            <a:srgbClr val="000000"/>
                          </a:solidFill>
                          <a:latin typeface="Amaze"/>
                        </a:rPr>
                        <a:t>Bethune,</a:t>
                      </a:r>
                      <a:br>
                        <a:rPr sz="500"/>
                      </a:br>
                      <a:r>
                        <a:rPr b="1" lang="it-IT" sz="500" spc="-1" strike="noStrike">
                          <a:solidFill>
                            <a:srgbClr val="000000"/>
                          </a:solidFill>
                          <a:latin typeface="Amaze"/>
                        </a:rPr>
                        <a:t>Soissonnais-Ourcq,</a:t>
                      </a:r>
                      <a:br>
                        <a:rPr sz="500"/>
                      </a:br>
                      <a:r>
                        <a:rPr b="1" lang="it-IT" sz="500" spc="-1" strike="noStrike">
                          <a:solidFill>
                            <a:srgbClr val="000000"/>
                          </a:solidFill>
                          <a:latin typeface="Amaze"/>
                        </a:rPr>
                        <a:t>Tardenois,</a:t>
                      </a:r>
                      <a:br>
                        <a:rPr sz="500"/>
                      </a:br>
                      <a:r>
                        <a:rPr b="1" lang="it-IT" sz="500" spc="-1" strike="noStrike">
                          <a:solidFill>
                            <a:srgbClr val="000000"/>
                          </a:solidFill>
                          <a:latin typeface="Amaze"/>
                        </a:rPr>
                        <a:t>Hindenberg Line,</a:t>
                      </a:r>
                      <a:br>
                        <a:rPr sz="500"/>
                      </a:br>
                      <a:r>
                        <a:rPr b="1" lang="it-IT" sz="500" spc="-1" strike="noStrike">
                          <a:solidFill>
                            <a:srgbClr val="000000"/>
                          </a:solidFill>
                          <a:latin typeface="Amaze"/>
                        </a:rPr>
                        <a:t>Canal du Nord,</a:t>
                      </a:r>
                      <a:br>
                        <a:rPr sz="500"/>
                      </a:br>
                      <a:r>
                        <a:rPr b="1" lang="it-IT" sz="500" spc="-1" strike="noStrike">
                          <a:solidFill>
                            <a:srgbClr val="000000"/>
                          </a:solidFill>
                          <a:latin typeface="Amaze"/>
                        </a:rPr>
                        <a:t>Selle,</a:t>
                      </a:r>
                      <a:br>
                        <a:rPr sz="500"/>
                      </a:br>
                      <a:r>
                        <a:rPr b="1" lang="it-IT" sz="500" spc="-1" strike="noStrike">
                          <a:solidFill>
                            <a:srgbClr val="000000"/>
                          </a:solidFill>
                          <a:latin typeface="Amaze"/>
                        </a:rPr>
                        <a:t>Sambre,</a:t>
                      </a:r>
                      <a:br>
                        <a:rPr sz="500"/>
                      </a:br>
                      <a:r>
                        <a:rPr b="1" lang="it-IT" sz="500" spc="-1" strike="noStrike">
                          <a:solidFill>
                            <a:srgbClr val="000000"/>
                          </a:solidFill>
                          <a:latin typeface="Amaze"/>
                        </a:rPr>
                        <a:t>France and Flanders 1914-18,</a:t>
                      </a:r>
                      <a:br>
                        <a:rPr sz="500"/>
                      </a:br>
                      <a:r>
                        <a:rPr b="1" lang="it-IT" sz="500" spc="-1" strike="noStrike">
                          <a:solidFill>
                            <a:srgbClr val="000000"/>
                          </a:solidFill>
                          <a:latin typeface="Amaze"/>
                        </a:rPr>
                        <a:t>Piave,</a:t>
                      </a:r>
                      <a:br>
                        <a:rPr sz="500"/>
                      </a:br>
                      <a:r>
                        <a:rPr b="1" lang="it-IT" sz="500" spc="-1" strike="noStrike">
                          <a:solidFill>
                            <a:srgbClr val="000000"/>
                          </a:solidFill>
                          <a:latin typeface="Amaze"/>
                        </a:rPr>
                        <a:t>Vittoria Veneto,</a:t>
                      </a:r>
                      <a:br>
                        <a:rPr sz="500"/>
                      </a:br>
                      <a:r>
                        <a:rPr b="1" lang="it-IT" sz="500" spc="-1" strike="noStrike">
                          <a:solidFill>
                            <a:srgbClr val="000000"/>
                          </a:solidFill>
                          <a:latin typeface="Amaze"/>
                        </a:rPr>
                        <a:t>Italy 1917-18. </a:t>
                      </a:r>
                      <a:br>
                        <a:rPr sz="500"/>
                      </a:br>
                      <a:r>
                        <a:rPr b="1" lang="it-IT" sz="500" spc="-1" strike="noStrike">
                          <a:solidFill>
                            <a:srgbClr val="000000"/>
                          </a:solidFill>
                          <a:latin typeface="Amaze"/>
                        </a:rPr>
                        <a:t>Withdrawal to Escaut,</a:t>
                      </a:r>
                      <a:br>
                        <a:rPr sz="500"/>
                      </a:br>
                      <a:r>
                        <a:rPr b="1" lang="it-IT" sz="500" spc="-1" strike="noStrike">
                          <a:solidFill>
                            <a:srgbClr val="000000"/>
                          </a:solidFill>
                          <a:latin typeface="Amaze"/>
                        </a:rPr>
                        <a:t>Ypres-Comines Canal,</a:t>
                      </a:r>
                      <a:br>
                        <a:rPr sz="500"/>
                      </a:br>
                      <a:r>
                        <a:rPr b="1" lang="it-IT" sz="500" spc="-1" strike="noStrike">
                          <a:solidFill>
                            <a:srgbClr val="000000"/>
                          </a:solidFill>
                          <a:latin typeface="Amaze"/>
                        </a:rPr>
                        <a:t>Dunkirk 1940,</a:t>
                      </a:r>
                      <a:br>
                        <a:rPr sz="500"/>
                      </a:br>
                      <a:r>
                        <a:rPr b="1" lang="it-IT" sz="500" spc="-1" strike="noStrike">
                          <a:solidFill>
                            <a:srgbClr val="000000"/>
                          </a:solidFill>
                          <a:latin typeface="Amaze"/>
                        </a:rPr>
                        <a:t>Somme 1940,</a:t>
                      </a:r>
                      <a:br>
                        <a:rPr sz="500"/>
                      </a:br>
                      <a:r>
                        <a:rPr b="1" lang="it-IT" sz="500" spc="-1" strike="noStrike">
                          <a:solidFill>
                            <a:srgbClr val="000000"/>
                          </a:solidFill>
                          <a:latin typeface="Amaze"/>
                        </a:rPr>
                        <a:t>St Valery-en-Caux,</a:t>
                      </a:r>
                      <a:br>
                        <a:rPr sz="500"/>
                      </a:br>
                      <a:r>
                        <a:rPr b="1" lang="it-IT" sz="500" spc="-1" strike="noStrike">
                          <a:solidFill>
                            <a:srgbClr val="000000"/>
                          </a:solidFill>
                          <a:latin typeface="Amaze"/>
                        </a:rPr>
                        <a:t>Odon,</a:t>
                      </a:r>
                      <a:br>
                        <a:rPr sz="500"/>
                      </a:br>
                      <a:r>
                        <a:rPr b="1" lang="it-IT" sz="500" spc="-1" strike="noStrike">
                          <a:solidFill>
                            <a:srgbClr val="000000"/>
                          </a:solidFill>
                          <a:latin typeface="Amaze"/>
                        </a:rPr>
                        <a:t>La Vie Crossing,</a:t>
                      </a:r>
                      <a:br>
                        <a:rPr sz="500"/>
                      </a:br>
                      <a:r>
                        <a:rPr b="1" lang="it-IT" sz="500" spc="-1" strike="noStrike">
                          <a:solidFill>
                            <a:srgbClr val="000000"/>
                          </a:solidFill>
                          <a:latin typeface="Amaze"/>
                        </a:rPr>
                        <a:t>Lower Maas,</a:t>
                      </a:r>
                      <a:br>
                        <a:rPr sz="500"/>
                      </a:br>
                      <a:r>
                        <a:rPr b="1" lang="it-IT" sz="500" spc="-1" strike="noStrike">
                          <a:solidFill>
                            <a:srgbClr val="000000"/>
                          </a:solidFill>
                          <a:latin typeface="Amaze"/>
                        </a:rPr>
                        <a:t>Venlo Pocket,</a:t>
                      </a:r>
                      <a:br>
                        <a:rPr sz="500"/>
                      </a:br>
                      <a:r>
                        <a:rPr b="1" lang="it-IT" sz="500" spc="-1" strike="noStrike">
                          <a:solidFill>
                            <a:srgbClr val="000000"/>
                          </a:solidFill>
                          <a:latin typeface="Amaze"/>
                        </a:rPr>
                        <a:t>Rhineland,</a:t>
                      </a:r>
                      <a:br>
                        <a:rPr sz="500"/>
                      </a:br>
                      <a:r>
                        <a:rPr b="1" lang="it-IT" sz="500" spc="-1" strike="noStrike">
                          <a:solidFill>
                            <a:srgbClr val="000000"/>
                          </a:solidFill>
                          <a:latin typeface="Amaze"/>
                        </a:rPr>
                        <a:t>Reichswald,</a:t>
                      </a:r>
                      <a:br>
                        <a:rPr sz="500"/>
                      </a:br>
                      <a:r>
                        <a:rPr b="1" lang="it-IT" sz="500" spc="-1" strike="noStrike">
                          <a:solidFill>
                            <a:srgbClr val="000000"/>
                          </a:solidFill>
                          <a:latin typeface="Amaze"/>
                        </a:rPr>
                        <a:t>Cleve,</a:t>
                      </a:r>
                      <a:br>
                        <a:rPr sz="500"/>
                      </a:br>
                      <a:r>
                        <a:rPr b="1" lang="it-IT" sz="500" spc="-1" strike="noStrike">
                          <a:solidFill>
                            <a:srgbClr val="000000"/>
                          </a:solidFill>
                          <a:latin typeface="Amaze"/>
                        </a:rPr>
                        <a:t>Goch,</a:t>
                      </a:r>
                      <a:br>
                        <a:rPr sz="500"/>
                      </a:br>
                      <a:r>
                        <a:rPr b="1" lang="it-IT" sz="500" spc="-1" strike="noStrike">
                          <a:solidFill>
                            <a:srgbClr val="000000"/>
                          </a:solidFill>
                          <a:latin typeface="Amaze"/>
                        </a:rPr>
                        <a:t>Rhine,</a:t>
                      </a:r>
                      <a:br>
                        <a:rPr sz="500"/>
                      </a:br>
                      <a:r>
                        <a:rPr b="1" lang="it-IT" sz="500" spc="-1" strike="noStrike">
                          <a:solidFill>
                            <a:srgbClr val="000000"/>
                          </a:solidFill>
                          <a:latin typeface="Amaze"/>
                        </a:rPr>
                        <a:t>North-West Europe 1940, 44-45,</a:t>
                      </a:r>
                      <a:br>
                        <a:rPr sz="500"/>
                      </a:br>
                      <a:r>
                        <a:rPr b="1" lang="it-IT" sz="500" spc="-1" strike="noStrike">
                          <a:solidFill>
                            <a:srgbClr val="000000"/>
                          </a:solidFill>
                          <a:latin typeface="Amaze"/>
                        </a:rPr>
                        <a:t>El Alamein,</a:t>
                      </a:r>
                      <a:br>
                        <a:rPr sz="500"/>
                      </a:br>
                      <a:r>
                        <a:rPr b="1" lang="it-IT" sz="500" spc="-1" strike="noStrike">
                          <a:solidFill>
                            <a:srgbClr val="000000"/>
                          </a:solidFill>
                          <a:latin typeface="Amaze"/>
                        </a:rPr>
                        <a:t>Advance on Tripoli,</a:t>
                      </a:r>
                      <a:br>
                        <a:rPr sz="500"/>
                      </a:br>
                      <a:r>
                        <a:rPr b="1" lang="it-IT" sz="500" spc="-1" strike="noStrike">
                          <a:solidFill>
                            <a:srgbClr val="000000"/>
                          </a:solidFill>
                          <a:latin typeface="Amaze"/>
                        </a:rPr>
                        <a:t>Mareth,</a:t>
                      </a:r>
                      <a:br>
                        <a:rPr sz="500"/>
                      </a:br>
                      <a:r>
                        <a:rPr b="1" lang="it-IT" sz="500" spc="-1" strike="noStrike">
                          <a:solidFill>
                            <a:srgbClr val="000000"/>
                          </a:solidFill>
                          <a:latin typeface="Amaze"/>
                        </a:rPr>
                        <a:t>Medjez Plain,</a:t>
                      </a:r>
                      <a:br>
                        <a:rPr sz="500"/>
                      </a:br>
                      <a:r>
                        <a:rPr b="1" lang="it-IT" sz="500" spc="-1" strike="noStrike">
                          <a:solidFill>
                            <a:srgbClr val="000000"/>
                          </a:solidFill>
                          <a:latin typeface="Amaze"/>
                        </a:rPr>
                        <a:t>North Africa 1942-43,</a:t>
                      </a:r>
                      <a:br>
                        <a:rPr sz="500"/>
                      </a:br>
                      <a:r>
                        <a:rPr b="1" lang="it-IT" sz="500" spc="-1" strike="noStrike">
                          <a:solidFill>
                            <a:srgbClr val="000000"/>
                          </a:solidFill>
                          <a:latin typeface="Amaze"/>
                        </a:rPr>
                        <a:t>Landing in Sicily,</a:t>
                      </a:r>
                      <a:br>
                        <a:rPr sz="500"/>
                      </a:br>
                      <a:r>
                        <a:rPr b="1" lang="it-IT" sz="500" spc="-1" strike="noStrike">
                          <a:solidFill>
                            <a:srgbClr val="000000"/>
                          </a:solidFill>
                          <a:latin typeface="Amaze"/>
                        </a:rPr>
                        <a:t>Sferro,</a:t>
                      </a:r>
                      <a:br>
                        <a:rPr sz="500"/>
                      </a:br>
                      <a:r>
                        <a:rPr b="1" lang="it-IT" sz="500" spc="-1" strike="noStrike">
                          <a:solidFill>
                            <a:srgbClr val="000000"/>
                          </a:solidFill>
                          <a:latin typeface="Amaze"/>
                        </a:rPr>
                        <a:t>Sicily 1943,</a:t>
                      </a:r>
                      <a:br>
                        <a:rPr sz="500"/>
                      </a:br>
                      <a:r>
                        <a:rPr b="1" lang="it-IT" sz="500" spc="-1" strike="noStrike">
                          <a:solidFill>
                            <a:srgbClr val="000000"/>
                          </a:solidFill>
                          <a:latin typeface="Amaze"/>
                        </a:rPr>
                        <a:t>Anzio,</a:t>
                      </a:r>
                      <a:br>
                        <a:rPr sz="500"/>
                      </a:br>
                      <a:r>
                        <a:rPr b="1" lang="it-IT" sz="500" spc="-1" strike="noStrike">
                          <a:solidFill>
                            <a:srgbClr val="000000"/>
                          </a:solidFill>
                          <a:latin typeface="Amaze"/>
                        </a:rPr>
                        <a:t>Rome,</a:t>
                      </a:r>
                      <a:br>
                        <a:rPr sz="500"/>
                      </a:br>
                      <a:r>
                        <a:rPr b="1" lang="it-IT" sz="500" spc="-1" strike="noStrike">
                          <a:solidFill>
                            <a:srgbClr val="000000"/>
                          </a:solidFill>
                          <a:latin typeface="Amaze"/>
                        </a:rPr>
                        <a:t>Italy 1944-45.</a:t>
                      </a:r>
                      <a:endParaRPr b="0" lang="en-US" sz="500" spc="-1" strike="noStrike">
                        <a:solidFill>
                          <a:srgbClr val="000000"/>
                        </a:solidFill>
                        <a:latin typeface="Arial"/>
                      </a:endParaRPr>
                    </a:p>
                  </a:txBody>
                  <a:tcPr anchor="t" marL="90000" marR="90000">
                    <a:lnL>
                      <a:noFill/>
                    </a:lnL>
                    <a:lnR>
                      <a:noFill/>
                    </a:lnR>
                    <a:lnT>
                      <a:noFill/>
                    </a:lnT>
                    <a:lnB>
                      <a:noFill/>
                    </a:lnB>
                    <a:blipFill rotWithShape="0">
                      <a:blip r:embed="rId9"/>
                      <a:tile tx="0" ty="0" sx="100000" sy="100000" algn="ctr"/>
                    </a:blipFill>
                  </a:tcPr>
                </a:tc>
              </a:tr>
            </a:tbl>
          </a:graphicData>
        </a:graphic>
      </p:graphicFrame>
      <p:sp>
        <p:nvSpPr>
          <p:cNvPr id="47" name=""/>
          <p:cNvSpPr/>
          <p:nvPr/>
        </p:nvSpPr>
        <p:spPr>
          <a:xfrm>
            <a:off x="5489280" y="14302440"/>
            <a:ext cx="25783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9999"/>
                </a:solidFill>
                <a:uFillTx/>
                <a:latin typeface="Arial"/>
                <a:hlinkClick r:id="rId10"/>
              </a:rPr>
              <a:t>Return </a:t>
            </a:r>
            <a:r>
              <a:rPr b="0" lang="it-IT" sz="1800" spc="-1" strike="noStrike" u="sng">
                <a:solidFill>
                  <a:srgbClr val="009999"/>
                </a:solidFill>
                <a:uFillTx/>
                <a:latin typeface="Arial"/>
                <a:hlinkClick r:id="rId11"/>
              </a:rPr>
              <a:t>To</a:t>
            </a:r>
            <a:r>
              <a:rPr b="0" lang="it-IT" sz="1800" spc="-1" strike="noStrike" u="sng">
                <a:solidFill>
                  <a:srgbClr val="009999"/>
                </a:solidFill>
                <a:uFillTx/>
                <a:latin typeface="Arial"/>
                <a:hlinkClick r:id="rId12"/>
              </a:rPr>
              <a:t> Home </a:t>
            </a:r>
            <a:r>
              <a:rPr b="0" lang="it-IT" sz="1800" spc="-1" strike="noStrike" u="sng">
                <a:solidFill>
                  <a:srgbClr val="009999"/>
                </a:solidFill>
                <a:uFillTx/>
                <a:latin typeface="Arial"/>
                <a:hlinkClick r:id="rId13"/>
              </a:rPr>
              <a:t>Pages</a:t>
            </a:r>
            <a:endParaRPr b="0" lang="en-US" sz="1800" spc="-1" strike="noStrike">
              <a:solidFill>
                <a:srgbClr val="000000"/>
              </a:solidFill>
              <a:latin typeface="Arial"/>
            </a:endParaRPr>
          </a:p>
        </p:txBody>
      </p:sp>
      <p:pic>
        <p:nvPicPr>
          <p:cNvPr id="48" name="" descr=""/>
          <p:cNvPicPr/>
          <p:nvPr/>
        </p:nvPicPr>
        <p:blipFill>
          <a:blip r:embed="rId14"/>
          <a:stretch/>
        </p:blipFill>
        <p:spPr>
          <a:xfrm>
            <a:off x="-477720" y="-7900920"/>
            <a:ext cx="1523880" cy="1523880"/>
          </a:xfrm>
          <a:prstGeom prst="rect">
            <a:avLst/>
          </a:prstGeom>
          <a:ln w="0">
            <a:noFill/>
          </a:ln>
        </p:spPr>
      </p:pic>
      <p:graphicFrame>
        <p:nvGraphicFramePr>
          <p:cNvPr id="49" name=""/>
          <p:cNvGraphicFramePr/>
          <p:nvPr/>
        </p:nvGraphicFramePr>
        <p:xfrm>
          <a:off x="3171960" y="152280"/>
          <a:ext cx="2314440" cy="1454400"/>
        </p:xfrm>
        <a:graphic>
          <a:graphicData uri="http://schemas.openxmlformats.org/presentationml/2006/ole">
            <p:oleObj r:id="rId15" spid="">
              <p:embed/>
              <p:pic>
                <p:nvPicPr>
                  <p:cNvPr id="50" name="" descr=""/>
                  <p:cNvPicPr/>
                  <p:nvPr/>
                </p:nvPicPr>
                <p:blipFill>
                  <a:blip r:embed="rId16"/>
                  <a:stretch/>
                </p:blipFill>
                <p:spPr>
                  <a:xfrm>
                    <a:off x="3171960" y="152280"/>
                    <a:ext cx="2314440" cy="1454400"/>
                  </a:xfrm>
                  <a:prstGeom prst="rect">
                    <a:avLst/>
                  </a:prstGeom>
                  <a:ln w="0">
                    <a:noFill/>
                  </a:ln>
                </p:spPr>
              </p:pic>
            </p:oleObj>
          </a:graphicData>
        </a:graphic>
      </p:graphicFrame>
      <p:graphicFrame>
        <p:nvGraphicFramePr>
          <p:cNvPr id="51" name=""/>
          <p:cNvGraphicFramePr/>
          <p:nvPr/>
        </p:nvGraphicFramePr>
        <p:xfrm>
          <a:off x="1371600" y="0"/>
          <a:ext cx="1523880" cy="1533600"/>
        </p:xfrm>
        <a:graphic>
          <a:graphicData uri="http://schemas.openxmlformats.org/presentationml/2006/ole">
            <p:oleObj r:id="rId17" spid="">
              <p:embed/>
              <p:pic>
                <p:nvPicPr>
                  <p:cNvPr id="52" name="" descr=""/>
                  <p:cNvPicPr/>
                  <p:nvPr/>
                </p:nvPicPr>
                <p:blipFill>
                  <a:blip r:embed="rId18"/>
                  <a:stretch/>
                </p:blipFill>
                <p:spPr>
                  <a:xfrm>
                    <a:off x="1371600" y="0"/>
                    <a:ext cx="1523880" cy="1533600"/>
                  </a:xfrm>
                  <a:prstGeom prst="rect">
                    <a:avLst/>
                  </a:prstGeom>
                  <a:ln w="0">
                    <a:noFill/>
                  </a:ln>
                </p:spPr>
              </p:pic>
            </p:oleObj>
          </a:graphicData>
        </a:graphic>
      </p:graphicFrame>
      <p:graphicFrame>
        <p:nvGraphicFramePr>
          <p:cNvPr id="53" name=""/>
          <p:cNvGraphicFramePr/>
          <p:nvPr/>
        </p:nvGraphicFramePr>
        <p:xfrm>
          <a:off x="5791320" y="0"/>
          <a:ext cx="1523880" cy="1533600"/>
        </p:xfrm>
        <a:graphic>
          <a:graphicData uri="http://schemas.openxmlformats.org/presentationml/2006/ole">
            <p:oleObj r:id="rId19" spid="">
              <p:embed/>
              <p:pic>
                <p:nvPicPr>
                  <p:cNvPr id="54" name="" descr=""/>
                  <p:cNvPicPr/>
                  <p:nvPr/>
                </p:nvPicPr>
                <p:blipFill>
                  <a:blip r:embed="rId20"/>
                  <a:stretch/>
                </p:blipFill>
                <p:spPr>
                  <a:xfrm>
                    <a:off x="5791320" y="0"/>
                    <a:ext cx="1523880" cy="15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24"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250920" y="2473200"/>
            <a:ext cx="8586720" cy="2684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27"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24000" y="1773360"/>
            <a:ext cx="8424720" cy="3665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ARTO PRETERMINE</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È noto da tempo che il rischio di parto pretermine è significativamente più elevato nelle donne con basso peso all’inizio della gravidanz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MI &gt; 26       OR 1.6; CI 0.7-3.5</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MI 19.8-26  OR 3.6; CI 1.6-8</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MI &lt; 19.8    OR 6.7; CI 1.1-40.6</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Epidemiology 1999; 10: 141-7</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2000; 96:194-2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30"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24000" y="2060640"/>
            <a:ext cx="8424720" cy="2089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O PRETERMIN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ttavia dato che più del 25% dei parti pretermine sono iatrogeni, molti parti pretermine nelle gravide obese sono legati alla necessità di intervenire per le patologie che compaiono in seguito all’obesit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33"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24000" y="1886040"/>
            <a:ext cx="8424720" cy="3440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RTE INTRAUTERINA</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el 2000 venne pubblicato un lavoro su una popolazione canadese di 196 morti endouterine inspiegate.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fattore che si associava con maggiore potenza alla morte endouterina era il peso preconcezionale.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peso preconcezionale superiore a 68 kg (OR 2.77; CI 1.85-4.68) incrementava notevolmente il rischio anche dopo aver aggiustato per l’età materna ed avere escluso il diabete e l’ipertensione.</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2000; 95:215-2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36"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000" y="1886040"/>
            <a:ext cx="8569080" cy="358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RTE INTRAUTERINA</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el Danish National Birth Cohort Study sono state studiate 54.000 nascite, dal 1998 al 2001, e se paragonate alle donne normopeso, le morti fetali nelle donne obese aumentavano con l’aumentare dell’epoca di gravidanza e lo stesso si verificava anche nelle donne in sovrappes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esi alla nascita dei feti morti nelle donne obese erano più bassi se paragonati ai pesi dei feti vivi facendo supporre una restrizione della crescita uterina.</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2005;106:25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 MOMENTO DEL PARTO: complicanze materne</a:t>
            </a:r>
            <a:endParaRPr b="0" lang="en-US" sz="2400" spc="-1" strike="noStrike">
              <a:solidFill>
                <a:srgbClr val="000000"/>
              </a:solidFill>
              <a:latin typeface="Arial"/>
            </a:endParaRPr>
          </a:p>
        </p:txBody>
      </p:sp>
      <p:sp>
        <p:nvSpPr>
          <p:cNvPr id="139"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0920" y="1844640"/>
            <a:ext cx="8713800" cy="4849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Difficoltà nell’esecuzione dell’anestesia sia spinale che general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Maggiore frequenza delle apnee durante il sonn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nfezioni della sutu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Diastasi della sutur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Maggior perdita ematic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Trombosi venosa profo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Decorsi febbrili ed endometriti</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llungamento del travaglio e del periodo espulsiv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Minor numero di successi nel tentativo di parto vaginale dopo TC</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m J Obstet Gynecol 2004;104:943-51</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42"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4000" y="1886040"/>
            <a:ext cx="8569080" cy="2989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SCITA FETALE</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obesità materna è un ben noto fattore di rischio per la macrosomia fetal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8% nelle non obes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13% nelle obese</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14.6% nelle obese con BMI &gt; 40</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2005;190:1091-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45"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4000" y="2133720"/>
            <a:ext cx="8569080" cy="227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SCITA FETALE</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ue studi recentemente pubblicati in Nord America ed in Europa hanno riportato un aumento del peso medio alla nascita sia per i LGA che per i macrosomi</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2004;104:720-6</a:t>
            </a:r>
            <a:endParaRPr b="0" lang="en-US" sz="16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Seminar Perinat 2002;26.26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II e III TRIMESTRE</a:t>
            </a:r>
            <a:endParaRPr b="0" lang="en-US" sz="2400" spc="-1" strike="noStrike">
              <a:solidFill>
                <a:srgbClr val="000000"/>
              </a:solidFill>
              <a:latin typeface="Arial"/>
            </a:endParaRPr>
          </a:p>
        </p:txBody>
      </p:sp>
      <p:sp>
        <p:nvSpPr>
          <p:cNvPr id="148"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24000" y="2205000"/>
            <a:ext cx="8569080" cy="2208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SCITA FETALE</a:t>
            </a:r>
            <a:endParaRPr b="0" lang="en-US" sz="24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variabili antropometriche materne sono i fattori estremamente importanti e si correlano pesantemente con la crescita fetale. Ad esempio il peso pregravidico è fortemente correlato con il peso alla nascita.</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stet Gynecol Surv 1968;23:1003-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A LUNGO TERMINE</a:t>
            </a:r>
            <a:endParaRPr b="0" lang="en-US" sz="2400" spc="-1" strike="noStrike">
              <a:solidFill>
                <a:srgbClr val="000000"/>
              </a:solidFill>
              <a:latin typeface="Arial"/>
            </a:endParaRPr>
          </a:p>
        </p:txBody>
      </p:sp>
      <p:sp>
        <p:nvSpPr>
          <p:cNvPr id="151"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24000" y="2670120"/>
            <a:ext cx="8569080" cy="1989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questi ultimi anni molto si è scritto a riguardo dell’aumentato rischio di Sindrome Metabolica ( Obesità, Ipertensione, Resistenza all’Insulina, Dislipidemia) nei nati di basso peso (SGA), tuttavia evidenze recenti mostrano un aumento dell’obesità negli adolescenti e negli adulti nati o LGA o Macrosomi.</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Obes Res 2003,11:496-5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0920" y="26028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9280" y="189000"/>
            <a:ext cx="8640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ICANZE MEDICHE ED OSTETRICHE NELLE GRAVIDE OBESE</a:t>
            </a:r>
            <a:endParaRPr b="0" lang="en-US" sz="3200" spc="-1" strike="noStrike">
              <a:solidFill>
                <a:srgbClr val="000000"/>
              </a:solidFill>
              <a:latin typeface="Arial"/>
            </a:endParaRPr>
          </a:p>
        </p:txBody>
      </p:sp>
      <p:sp>
        <p:nvSpPr>
          <p:cNvPr id="57" name=""/>
          <p:cNvSpPr/>
          <p:nvPr/>
        </p:nvSpPr>
        <p:spPr>
          <a:xfrm>
            <a:off x="324000" y="1628640"/>
            <a:ext cx="367344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VIDANZA INIZIALE</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rto Spontane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malie congenite ( DTN)</a:t>
            </a:r>
            <a:endParaRPr b="0" lang="en-US" sz="1800" spc="-1" strike="noStrike">
              <a:solidFill>
                <a:srgbClr val="000000"/>
              </a:solidFill>
              <a:latin typeface="Arial"/>
            </a:endParaRPr>
          </a:p>
        </p:txBody>
      </p:sp>
      <p:sp>
        <p:nvSpPr>
          <p:cNvPr id="58" name=""/>
          <p:cNvSpPr/>
          <p:nvPr/>
        </p:nvSpPr>
        <p:spPr>
          <a:xfrm>
            <a:off x="320760" y="3213000"/>
            <a:ext cx="4106880" cy="240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VIDANZA AVANZATA</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ertensione / Preeclamps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abete Gestaziona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o Pretermine ( correlato alle condizioni di patolog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te endouterina fetale</a:t>
            </a:r>
            <a:endParaRPr b="0" lang="en-US" sz="1800" spc="-1" strike="noStrike">
              <a:solidFill>
                <a:srgbClr val="000000"/>
              </a:solidFill>
              <a:latin typeface="Arial"/>
            </a:endParaRPr>
          </a:p>
        </p:txBody>
      </p:sp>
      <p:sp>
        <p:nvSpPr>
          <p:cNvPr id="59" name=""/>
          <p:cNvSpPr/>
          <p:nvPr/>
        </p:nvSpPr>
        <p:spPr>
          <a:xfrm>
            <a:off x="4786200" y="1628640"/>
            <a:ext cx="3673440" cy="15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PARTO</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lio Cesare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llimento del parto vaginale dopo TC</a:t>
            </a:r>
            <a:endParaRPr b="0" lang="en-US" sz="1800" spc="-1" strike="noStrike">
              <a:solidFill>
                <a:srgbClr val="000000"/>
              </a:solidFill>
              <a:latin typeface="Arial"/>
            </a:endParaRPr>
          </a:p>
        </p:txBody>
      </p:sp>
      <p:sp>
        <p:nvSpPr>
          <p:cNvPr id="60" name=""/>
          <p:cNvSpPr/>
          <p:nvPr/>
        </p:nvSpPr>
        <p:spPr>
          <a:xfrm>
            <a:off x="4713120" y="3213000"/>
            <a:ext cx="4106880" cy="21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BILITA’ OPERATIVE</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licanze dell’anestes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dometrite del Post-Par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licanze della sut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omboflebiti</a:t>
            </a:r>
            <a:endParaRPr b="0" lang="en-US" sz="1800" spc="-1" strike="noStrike">
              <a:solidFill>
                <a:srgbClr val="000000"/>
              </a:solidFill>
              <a:latin typeface="Arial"/>
            </a:endParaRPr>
          </a:p>
        </p:txBody>
      </p:sp>
      <p:sp>
        <p:nvSpPr>
          <p:cNvPr id="61" name=""/>
          <p:cNvSpPr/>
          <p:nvPr/>
        </p:nvSpPr>
        <p:spPr>
          <a:xfrm>
            <a:off x="4716360" y="5315040"/>
            <a:ext cx="367344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TO / NEONATO</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crosom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esità fetale / Infantile</a:t>
            </a:r>
            <a:endParaRPr b="0" lang="en-US" sz="1800" spc="-1" strike="noStrike">
              <a:solidFill>
                <a:srgbClr val="000000"/>
              </a:solidFill>
              <a:latin typeface="Arial"/>
            </a:endParaRPr>
          </a:p>
        </p:txBody>
      </p:sp>
      <p:sp>
        <p:nvSpPr>
          <p:cNvPr id="62" name=""/>
          <p:cNvSpPr/>
          <p:nvPr/>
        </p:nvSpPr>
        <p:spPr>
          <a:xfrm>
            <a:off x="179280" y="1341360"/>
            <a:ext cx="878544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08000" y="1758960"/>
            <a:ext cx="233280" cy="23004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00720" y="5445000"/>
            <a:ext cx="233280" cy="23040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500720" y="3357720"/>
            <a:ext cx="233280" cy="23004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08000" y="3357720"/>
            <a:ext cx="233280" cy="23004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72000" y="1773360"/>
            <a:ext cx="233280" cy="230040"/>
          </a:xfrm>
          <a:prstGeom prst="diamond">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A LUNGO TERMINE</a:t>
            </a:r>
            <a:endParaRPr b="0" lang="en-US" sz="2400" spc="-1" strike="noStrike">
              <a:solidFill>
                <a:srgbClr val="000000"/>
              </a:solidFill>
              <a:latin typeface="Arial"/>
            </a:endParaRPr>
          </a:p>
        </p:txBody>
      </p:sp>
      <p:sp>
        <p:nvSpPr>
          <p:cNvPr id="154"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4000" y="2670120"/>
            <a:ext cx="8569080" cy="1684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umentata prevalenza dell’obesità negli adolescenti è fortemente correlata al rischio di sindrome metabolica. Inoltre l’aumentata incidenza dell’obesità è responsabile del 33% di aumento del diabete di tipo II soprattutto nei giovani.</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Diabetes Care 2000;23:1278-8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A LUNGO TERMINE</a:t>
            </a:r>
            <a:endParaRPr b="0" lang="en-US" sz="2400" spc="-1" strike="noStrike">
              <a:solidFill>
                <a:srgbClr val="000000"/>
              </a:solidFill>
              <a:latin typeface="Arial"/>
            </a:endParaRPr>
          </a:p>
        </p:txBody>
      </p:sp>
      <p:sp>
        <p:nvSpPr>
          <p:cNvPr id="157"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24000" y="2997360"/>
            <a:ext cx="856908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figli nati da madri obese hanno un rischio doppio di essere obesi all’età di 2 anni.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peso alla nascita non modifica significativamente il rischio di obesità legato alla obesità o al sovrapeso mate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843280" y="907920"/>
            <a:ext cx="324144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411280" y="260280"/>
            <a:ext cx="42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ESITÀ </a:t>
            </a:r>
            <a:endParaRPr b="0" lang="en-US" sz="3200" spc="-1" strike="noStrike">
              <a:solidFill>
                <a:srgbClr val="000000"/>
              </a:solidFill>
              <a:latin typeface="Arial"/>
            </a:endParaRPr>
          </a:p>
        </p:txBody>
      </p:sp>
      <p:sp>
        <p:nvSpPr>
          <p:cNvPr id="70" name=""/>
          <p:cNvSpPr/>
          <p:nvPr/>
        </p:nvSpPr>
        <p:spPr>
          <a:xfrm>
            <a:off x="539640" y="2205000"/>
            <a:ext cx="7993080" cy="31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 un’epidemia non solo nei paesi occidentali e nelle nazioni sviluppate, ma anche nei paesi in via di svilup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r>
              <a:rPr b="1" lang="it-IT" sz="2000" spc="-1" strike="noStrike">
                <a:solidFill>
                  <a:srgbClr val="000000"/>
                </a:solidFill>
                <a:latin typeface="Arial"/>
              </a:rPr>
              <a:t>L’obesità è attualmente così diffusa che sta rimpiazzando i più tradizionali problemi di salute pubblica come ad esempio la sottonutrizione e le malattie infettive e rappresenta uno dei più significativi fattori di rischio per la salut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HO. Obesity: preventing and  managing a global epidemic. World Health Organ. Tech. Rep. Ser. 2000; 894: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411280" y="260280"/>
            <a:ext cx="42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ESITÀ </a:t>
            </a:r>
            <a:endParaRPr b="0" lang="en-US" sz="3200" spc="-1" strike="noStrike">
              <a:solidFill>
                <a:srgbClr val="000000"/>
              </a:solidFill>
              <a:latin typeface="Arial"/>
            </a:endParaRPr>
          </a:p>
        </p:txBody>
      </p:sp>
      <p:sp>
        <p:nvSpPr>
          <p:cNvPr id="72" name=""/>
          <p:cNvSpPr/>
          <p:nvPr/>
        </p:nvSpPr>
        <p:spPr>
          <a:xfrm>
            <a:off x="2843280" y="907920"/>
            <a:ext cx="324144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84360" y="1341360"/>
            <a:ext cx="770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MI :  peso in Kilogrammi / altezza in metri </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sp>
        <p:nvSpPr>
          <p:cNvPr id="74" name=""/>
          <p:cNvSpPr/>
          <p:nvPr/>
        </p:nvSpPr>
        <p:spPr>
          <a:xfrm>
            <a:off x="468360" y="2708280"/>
            <a:ext cx="23032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OPESO</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I 18.5 – 24.9</a:t>
            </a:r>
            <a:endParaRPr b="0" lang="en-US" sz="1800" spc="-1" strike="noStrike">
              <a:solidFill>
                <a:srgbClr val="000000"/>
              </a:solidFill>
              <a:latin typeface="Arial"/>
            </a:endParaRPr>
          </a:p>
        </p:txBody>
      </p:sp>
      <p:sp>
        <p:nvSpPr>
          <p:cNvPr id="75" name=""/>
          <p:cNvSpPr/>
          <p:nvPr/>
        </p:nvSpPr>
        <p:spPr>
          <a:xfrm>
            <a:off x="3130560" y="2708280"/>
            <a:ext cx="2521080" cy="968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VRAPESO</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BMI 25 – 29.9</a:t>
            </a:r>
            <a:endParaRPr b="0" lang="en-US" sz="1800" spc="-1" strike="noStrike">
              <a:solidFill>
                <a:srgbClr val="000000"/>
              </a:solidFill>
              <a:latin typeface="Arial"/>
            </a:endParaRPr>
          </a:p>
        </p:txBody>
      </p:sp>
      <p:sp>
        <p:nvSpPr>
          <p:cNvPr id="76" name=""/>
          <p:cNvSpPr/>
          <p:nvPr/>
        </p:nvSpPr>
        <p:spPr>
          <a:xfrm>
            <a:off x="6012000" y="2349360"/>
            <a:ext cx="23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012000" y="2708280"/>
            <a:ext cx="2808000" cy="252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ESITÀ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I &gt;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 I   BMI 30 – 3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 II  BMI 35 – 39.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 III BMI &gt; 4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9640" y="3141720"/>
            <a:ext cx="2160720" cy="1440"/>
          </a:xfrm>
          <a:prstGeom prst="line">
            <a:avLst/>
          </a:prstGeom>
          <a:ln w="7632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
          <p:cNvSpPr/>
          <p:nvPr/>
        </p:nvSpPr>
        <p:spPr>
          <a:xfrm>
            <a:off x="3274920" y="3141720"/>
            <a:ext cx="2160720" cy="1440"/>
          </a:xfrm>
          <a:prstGeom prst="line">
            <a:avLst/>
          </a:prstGeom>
          <a:ln w="7632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a:off x="6300720" y="3141720"/>
            <a:ext cx="2160720" cy="1440"/>
          </a:xfrm>
          <a:prstGeom prst="line">
            <a:avLst/>
          </a:prstGeom>
          <a:ln w="7632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411280" y="260280"/>
            <a:ext cx="42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ESITÀ </a:t>
            </a:r>
            <a:endParaRPr b="0" lang="en-US" sz="3200" spc="-1" strike="noStrike">
              <a:solidFill>
                <a:srgbClr val="000000"/>
              </a:solidFill>
              <a:latin typeface="Arial"/>
            </a:endParaRPr>
          </a:p>
        </p:txBody>
      </p:sp>
      <p:sp>
        <p:nvSpPr>
          <p:cNvPr id="82" name=""/>
          <p:cNvSpPr/>
          <p:nvPr/>
        </p:nvSpPr>
        <p:spPr>
          <a:xfrm>
            <a:off x="2843280" y="907920"/>
            <a:ext cx="324144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39640" y="2782800"/>
            <a:ext cx="7993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condo l’ultimo report della CDC negli Stati Uniti la prevalenza dell’obesità nelle donne in età riproduttiva era del 30.2 %, mentre la prevalenza del sovrapeso era del 5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411280" y="260280"/>
            <a:ext cx="42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ESITÀ </a:t>
            </a:r>
            <a:endParaRPr b="0" lang="en-US" sz="3200" spc="-1" strike="noStrike">
              <a:solidFill>
                <a:srgbClr val="000000"/>
              </a:solidFill>
              <a:latin typeface="Arial"/>
            </a:endParaRPr>
          </a:p>
        </p:txBody>
      </p:sp>
      <p:sp>
        <p:nvSpPr>
          <p:cNvPr id="85" name=""/>
          <p:cNvSpPr/>
          <p:nvPr/>
        </p:nvSpPr>
        <p:spPr>
          <a:xfrm>
            <a:off x="2843280" y="907920"/>
            <a:ext cx="324144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9640" y="2693880"/>
            <a:ext cx="7993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complicanze ostetriche legate all’obesità sono in genere maggiormente correlate all’obesità pregravidica che all’eccessivo aumento ponderale durante la gestazione che può trasformare una donna non obesa in una donna ob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0920" y="260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MENTI PONDERALI SUGGERITI</a:t>
            </a:r>
            <a:endParaRPr b="0" lang="en-US" sz="3200" spc="-1" strike="noStrike">
              <a:solidFill>
                <a:srgbClr val="000000"/>
              </a:solidFill>
              <a:latin typeface="Arial"/>
            </a:endParaRPr>
          </a:p>
        </p:txBody>
      </p:sp>
      <p:sp>
        <p:nvSpPr>
          <p:cNvPr id="88" name=""/>
          <p:cNvSpPr/>
          <p:nvPr/>
        </p:nvSpPr>
        <p:spPr>
          <a:xfrm>
            <a:off x="611280" y="907920"/>
            <a:ext cx="784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5640" y="1811160"/>
            <a:ext cx="7561440" cy="3233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MI normale =     11.2 – 15.9 K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MI sovrapeso =           6.8 – 11.2 K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MI obese =              6.8 K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urtroppo sia le donne in sovrapeso che quelle obese tendono ad aumentare di peso in modo maggiore rispetto a quanto suggerito.</a:t>
            </a:r>
            <a:endParaRPr b="0" lang="en-US" sz="2000" spc="-1" strike="noStrike">
              <a:solidFill>
                <a:srgbClr val="000000"/>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Epidemiology 1999; 10: 141-1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79280" y="260280"/>
            <a:ext cx="8785440" cy="1137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CHI OSTETRICI LEGATI OBESITÀ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a GRAVIDANZA INIZIALE</a:t>
            </a:r>
            <a:endParaRPr b="0" lang="en-US" sz="2400" spc="-1" strike="noStrike">
              <a:solidFill>
                <a:srgbClr val="000000"/>
              </a:solidFill>
              <a:latin typeface="Arial"/>
            </a:endParaRPr>
          </a:p>
        </p:txBody>
      </p:sp>
      <p:sp>
        <p:nvSpPr>
          <p:cNvPr id="91" name=""/>
          <p:cNvSpPr/>
          <p:nvPr/>
        </p:nvSpPr>
        <p:spPr>
          <a:xfrm>
            <a:off x="755640" y="1484280"/>
            <a:ext cx="7488360" cy="0"/>
          </a:xfrm>
          <a:prstGeom prst="line">
            <a:avLst/>
          </a:prstGeom>
          <a:ln w="1015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50920" y="1989000"/>
            <a:ext cx="8642160" cy="4245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besità è responsabile dell’aumentato rischio di una miriade di problemi ostetrici: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mentato rischio di aborto precoce ( OR 1.2; IC 1.01-1.46; p= 0.04)</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mentato rischio di aborto abituale ( OR 3.3; IC 1.03-12.01; p= 0.04)</a:t>
            </a:r>
            <a:endParaRPr b="0" lang="en-US" sz="18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Human Reprod. 2004; 19: 1644-6</a:t>
            </a:r>
            <a:endParaRPr b="0" lang="en-US" sz="16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lle pazienti sottoposte a FIVET e a ICSI, 22% di aborti nelle prime 6 settimane rispetto al 12% delle normopeso.</a:t>
            </a:r>
            <a:endParaRPr b="0" lang="en-US" sz="18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Acta Obstet Gynecol Scand 2000; 79:43-8</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indi particolarmente nelle donne obese che devono ricorrere a tecniche di PMA la perdita di peso preconcezionale deve essere fortemente caldeggi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1:38:30Z</dcterms:created>
  <dc:creator>Matteo Pesenti Barili</dc:creator>
  <dc:description/>
  <dc:language>en-US</dc:language>
  <cp:lastModifiedBy> </cp:lastModifiedBy>
  <dcterms:modified xsi:type="dcterms:W3CDTF">2009-06-05T11:32:31Z</dcterms:modified>
  <cp:revision>68</cp:revision>
  <dc:subject/>
  <dc:title>Diapositiva 1</dc:title>
</cp:coreProperties>
</file>