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AC1-795E-4D59-99A9-FC0F31F1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36E-F6CA-4AE4-AE50-0D99961C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83E-FB36-4154-9501-C040C436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411-8C81-4592-80A2-BFE8B85F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380A-06DE-4E88-8520-9AAA6EE5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F09F-9EDF-4C04-B0C4-3560719A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8DC3-8B58-4B42-AD83-00908013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9E2C-3EA0-4509-92EA-CA9A296B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8ABB-2B9E-4122-B016-9B54E718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1A3C-8E9B-4A1F-9CBC-41E5CE33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119B-4492-4435-B268-B433F29A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A8D-885C-49F0-99AD-F8F04978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BA43-6DF2-404F-9EA2-61B149C9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6544-E2D3-424A-B7B2-FD1AFC7D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B60D-4F4C-48E3-97DF-CF8FC3DF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340B-AE59-4426-8265-5398A963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C1F4-D004-4E3D-B459-F12CEC32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E93-67BF-41EF-8579-CE43426E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4E6-486F-47A5-8388-44B9D44A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A63-778D-4CE7-9F70-6983FE07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849-1B3D-4606-B9B0-92ECD76D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94E-A7A8-4D03-983D-B94CB0A7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20E-21DB-4720-A000-AEF2DE03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44D-BC2E-4EC3-852A-A9A3006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7542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7542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1764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1764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1034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462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4367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DE06-B5AF-4CE2-AB0E-16F6FD73ED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6743880" y="0"/>
          <a:ext cx="240012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3880" y="0"/>
                    <a:ext cx="24001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875D-39D6-479C-84D7-4606F44F05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743880" y="0"/>
          <a:ext cx="240012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3880" y="0"/>
                    <a:ext cx="24001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lattie materne in gravidanza -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a gestione integrata ambulatorio ospedal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spetti istituzionali e organizzativi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320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ott. Eugenio Di Rus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ott.ssa Silvana Borsari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ologna 8 giugno 2009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589720"/>
            <a:ext cx="770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5516640"/>
            <a:ext cx="583272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estione integrata ambulatorio ospedale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uppos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zione istituzi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zione organizzativ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zione profession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egrazione gestion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estione integrata ambulatorio ospeda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men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rdi istituzionali che definiscano obiettivi, modalità e impegni rispetto all’integrazio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corsi assistenziali e organizzativi condivis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zione profession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estione integrata ambulatorio ospeda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iettiv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glioramento della qualità assistenzi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à di accesso ai serviz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83480" y="3068640"/>
            <a:ext cx="817560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ERCORSI DI ASSISTEN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894560" y="223920"/>
            <a:ext cx="4014720" cy="2777040"/>
            <a:chOff x="4894560" y="223920"/>
            <a:chExt cx="4014720" cy="2777040"/>
          </a:xfrm>
        </p:grpSpPr>
        <p:sp>
          <p:nvSpPr>
            <p:cNvPr id="158" name=""/>
            <p:cNvSpPr/>
            <p:nvPr/>
          </p:nvSpPr>
          <p:spPr>
            <a:xfrm>
              <a:off x="4894560" y="1627200"/>
              <a:ext cx="2939040" cy="13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SPETTI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ORGANIZZATIV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cess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 rot="1696200">
              <a:off x="6607080" y="1486080"/>
              <a:ext cx="232416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ORGANIZZAZIONE</a:t>
              </a:r>
              <a:endPara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7391520" y="223920"/>
              <a:ext cx="1447560" cy="10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174240" y="609480"/>
            <a:ext cx="4274640" cy="2155320"/>
            <a:chOff x="174240" y="609480"/>
            <a:chExt cx="4274640" cy="2155320"/>
          </a:xfrm>
        </p:grpSpPr>
        <p:sp>
          <p:nvSpPr>
            <p:cNvPr id="162" name=""/>
            <p:cNvSpPr/>
            <p:nvPr/>
          </p:nvSpPr>
          <p:spPr>
            <a:xfrm>
              <a:off x="1223280" y="1817640"/>
              <a:ext cx="322560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SPETTI CLINIC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BM, pratica, ecc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 rot="19210200">
              <a:off x="61920" y="1555560"/>
              <a:ext cx="232416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PROFESSIONISTA</a:t>
              </a:r>
              <a:endPara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228600" y="609480"/>
              <a:ext cx="1074600" cy="84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2059920" y="4013280"/>
            <a:ext cx="4996440" cy="2615760"/>
            <a:chOff x="2059920" y="4013280"/>
            <a:chExt cx="4996440" cy="2615760"/>
          </a:xfrm>
        </p:grpSpPr>
        <p:sp>
          <p:nvSpPr>
            <p:cNvPr id="166" name=""/>
            <p:cNvSpPr/>
            <p:nvPr/>
          </p:nvSpPr>
          <p:spPr>
            <a:xfrm>
              <a:off x="2059920" y="4013280"/>
              <a:ext cx="3320280" cy="13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ASPETTI SOCIAL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isogni compless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el pazie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 rot="20054400">
              <a:off x="4700520" y="5155560"/>
              <a:ext cx="2323800" cy="49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CITTADINO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5913360" y="5537160"/>
              <a:ext cx="1143000" cy="10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395280" y="6308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 Prof.  Pan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-220680" y="228600"/>
            <a:ext cx="9324720" cy="398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a50021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Linee guida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Percorsi assistenza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    Protocolli</a:t>
            </a: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081080"/>
            <a:ext cx="8610840" cy="368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99ccff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 cosa servono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Appropriatezza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MCQ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990033"/>
                </a:solidFill>
                <a:latin typeface="Comic Sans MS"/>
              </a:rPr>
              <a:t>Comp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3505320"/>
            <a:ext cx="8534520" cy="3682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ccff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e agiscono       </a:t>
            </a: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Orientativ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Azioni pratiche</a:t>
            </a:r>
            <a:r>
              <a:rPr b="0" i="1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US" sz="1800" spc="-1" strike="noStrike">
                <a:solidFill>
                  <a:srgbClr val="990033"/>
                </a:solidFill>
                <a:latin typeface="Comic Sans MS"/>
              </a:rPr>
              <a:t>Prescri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2666880"/>
            <a:ext cx="8610840" cy="3682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99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a cosa nascono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EBM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EBM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1800" spc="-1" strike="noStrike">
                <a:solidFill>
                  <a:srgbClr val="990033"/>
                </a:solidFill>
                <a:latin typeface="Comic Sans MS"/>
              </a:rPr>
              <a:t> E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828800"/>
            <a:ext cx="861084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cc99ff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hi li produ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Esperti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Work team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990033"/>
                </a:solidFill>
                <a:latin typeface="Comic Sans MS"/>
              </a:rPr>
              <a:t>Entr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4343400"/>
            <a:ext cx="8610840" cy="3682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ove si usano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Uso general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Uso local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990033"/>
                </a:solidFill>
                <a:latin typeface="Comic Sans MS"/>
              </a:rPr>
              <a:t>Entr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181480"/>
            <a:ext cx="8610840" cy="368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uali effetti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Aggiornamento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Qualità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i="1" lang="en-US" sz="18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i="1" lang="en-US" sz="1800" spc="-1" strike="noStrike">
                <a:solidFill>
                  <a:srgbClr val="990033"/>
                </a:solidFill>
                <a:latin typeface="Comic Sans MS"/>
              </a:rPr>
              <a:t>Standard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9160" y="5943600"/>
            <a:ext cx="864396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Quali rischi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it-IT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000066"/>
                </a:solidFill>
                <a:latin typeface="Comic Sans MS"/>
              </a:rPr>
              <a:t>Genericità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it-IT" sz="1800" spc="-1" strike="noStrike">
                <a:solidFill>
                  <a:srgbClr val="006600"/>
                </a:solidFill>
                <a:latin typeface="Comic Sans MS"/>
              </a:rPr>
              <a:t>Iperefficienza</a:t>
            </a:r>
            <a:r>
              <a:rPr b="1" i="1" lang="it-IT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it-IT" sz="1800" spc="-1" strike="noStrike">
                <a:solidFill>
                  <a:srgbClr val="990033"/>
                </a:solidFill>
                <a:latin typeface="Comic Sans MS"/>
              </a:rPr>
              <a:t>Scarsa flessi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46040" y="0"/>
            <a:ext cx="1001880" cy="1101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5280" y="6597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 prof. M. Pan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ercorsi assistenziali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ole chiav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iglioramento continuo della qualit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ocalizzazione  sul “clien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mozione delle pratiche cliniche migliori (E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voro in gruppi multidisciplinari e multiprofession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fficacia efficienza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estione integrata ambulatorio ospeda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tituire gruppo di lavoro (distrettuale/aziendale) con tutti professionisti interessati “delegati” dalle relative istitu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dividuare le principali malattie materne su cui è opportuno definire percorsi assistenzi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re i punti della rete assistenziale ( anche Hub regionali o di area vasta se necessario) : prestazioni erogate modalità d’ac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re le relazioni tra i vari punti e chi ha in carico la pazien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re la documentazione e il sistema informativo utilizza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re standard assistenziali da garanti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erificare i risultati e discutere le azioni di miglioramen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estione integrata ambulatorio ospeda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i necessar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e guida di riferimento condivi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zione dei centri di riferimento e delle modalità d’access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zione del sistema informativo e della documentazione da rilasciare alla don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zione della responsabilità della  presa in carico della don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ilità di valutazione periodica dei risultati e confronto su casi tra i vari professionisti della re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unicazione all’utenza e alle istituzioni di riferiment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Tasso di fecondità totale in Emilia-Romagna e Italia </a:t>
            </a:r>
            <a:br>
              <a:rPr sz="3000"/>
            </a:b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Anni 1986-2007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42920" y="1628640"/>
          <a:ext cx="73137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3137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50920" y="6032520"/>
            <a:ext cx="876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Tasso di fecondità totale o numero medio di figli per donna:</a:t>
            </a:r>
            <a:r>
              <a:rPr b="0" i="1" lang="en-US" sz="16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 Unicode MS"/>
              </a:rPr>
              <a:t>somma dei quozienti specifici di fecondità calcolati rapportando, per ogni età feconda (tra i 15 ed i 49 anni), il numero dei nati vivi all’ammontare medio annuo della popolazione femmin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638680"/>
            <a:ext cx="86868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3333cc"/>
                </a:solidFill>
                <a:latin typeface="Verdana"/>
              </a:rPr>
              <a:t>Fonte: Banca dati Health for all (ver. DIC 2007) e, per 2006 e 2007, sito Demografia in cifre I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asso di natalità in Emilia-Romagna e Italia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Anni 1986-2007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55640" y="1484280"/>
          <a:ext cx="824400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824400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" y="6111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Unicode MS"/>
              </a:rPr>
              <a:t>Tasso di natalità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:</a:t>
            </a:r>
            <a:r>
              <a:rPr b="0" lang="en-US" sz="1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 Unicode MS"/>
              </a:rPr>
              <a:t>rapporto tra numero dei nati vivi dell’anno</a:t>
            </a:r>
            <a:r>
              <a:rPr b="0" i="1" lang="en-US" sz="1800" spc="-1" strike="noStrike">
                <a:solidFill>
                  <a:srgbClr val="669900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 Unicode MS"/>
              </a:rPr>
              <a:t>e l’ammontare medio della popolazione residente, moltiplicato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67280"/>
            <a:ext cx="91440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3333cc"/>
                </a:solidFill>
                <a:latin typeface="Verdana"/>
              </a:rPr>
              <a:t>Fonte: Banca dati Health for all (ver. DIC 2007) e, per 2007, sito Demografia in cifre ISTAT (indicatori demografici 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836640"/>
            <a:ext cx="84963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gradFill rotWithShape="0">
            <a:gsLst>
              <a:gs pos="0">
                <a:srgbClr val="bdd1c6"/>
              </a:gs>
              <a:gs pos="100000">
                <a:srgbClr val="457f5f"/>
              </a:gs>
            </a:gsLst>
            <a:lin ang="10800000"/>
          </a:gradFill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6093000"/>
            <a:ext cx="849636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3880" y="33336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tà della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3527280" cy="2249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16360" y="836640"/>
            <a:ext cx="5627520" cy="3238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16360" y="4292640"/>
            <a:ext cx="3384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1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30% delle donne che hanno partorito nel 2007 ha un’età uguale o superiore a 35 an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700280"/>
            <a:ext cx="2305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1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’età media delle madri al parto è 31.5 anni (30.2 per le primipare; 28.3 per le stranie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6040440"/>
            <a:ext cx="820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Donne ≥ 35: Veneto (2005): 28.1%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Toscana (2004): 27.6%, Lazio (2007): 32.9%, Campania (2006) 20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6800" y="378936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7256"/>
                </a:solidFill>
                <a:latin typeface="Tahoma"/>
              </a:rPr>
              <a:t>Madri con età ≥ 35 a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836640"/>
            <a:ext cx="84963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gradFill rotWithShape="0">
            <a:gsLst>
              <a:gs pos="0">
                <a:srgbClr val="bdd1c6"/>
              </a:gs>
              <a:gs pos="100000">
                <a:srgbClr val="457f5f"/>
              </a:gs>
            </a:gsLst>
            <a:lin ang="10800000"/>
          </a:gradFill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6237360"/>
            <a:ext cx="849636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520" y="333360"/>
            <a:ext cx="63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ttadinanza e luogo di nascita della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40360" y="836640"/>
            <a:ext cx="4392360" cy="3097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1628640"/>
            <a:ext cx="338472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1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nato su 4 ha la madre con cittadinanza straniera (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quota di straniere è ancora maggiore se si considera il luogo di nascita (2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6156360"/>
            <a:ext cx="8713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Cittadine straniere: Piemonte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(2005)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: 15.3%, Veneto (2005): 20.7%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Toscana </a:t>
            </a: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(2004):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6.2%, Italia (2005): 13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908000" y="4149720"/>
            <a:ext cx="6840720" cy="2300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8360" y="3860640"/>
            <a:ext cx="3311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to l’incremento nel quinquen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836640"/>
            <a:ext cx="84963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gradFill rotWithShape="0">
            <a:gsLst>
              <a:gs pos="0">
                <a:srgbClr val="bdd1c6"/>
              </a:gs>
              <a:gs pos="100000">
                <a:srgbClr val="457f5f"/>
              </a:gs>
            </a:gsLst>
            <a:lin ang="10800000"/>
          </a:gradFill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6308640"/>
            <a:ext cx="849636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33336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olarità della madre e del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6048360" cy="314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484280"/>
            <a:ext cx="2735280" cy="32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1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31.1% delle madri ha una scolarità che non supera la licenza media inferiore (italiane 23.4%, straniere 54.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scolarità paterna è mediamente inferiore (scolarità medio-bassa 40.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4797360"/>
            <a:ext cx="4608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1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rca il 22% dei nati hanno entrambi i genitori con una scolarità medio-b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219640" y="3933720"/>
            <a:ext cx="3513240" cy="2351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5589720"/>
            <a:ext cx="4608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1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trend delle madri a scolarità medio-bassa appare in lieve c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31200" y="3789360"/>
            <a:ext cx="26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7256"/>
                </a:solidFill>
                <a:latin typeface="Tahoma"/>
              </a:rPr>
              <a:t>Madri con scolarità medio-ba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lattie materne in gravidanza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mento età mater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mento patologie croniche:  ipertensione, diabe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mento patologie autoimmun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ersificazione delle patologie correlate all’immigrazio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glioramento qualità di vita delle pazienti che attualmente si consentono una gravidanza anche dopo malattie importan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testo di riferimento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sped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tà operativ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cove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ay hospi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ay servi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mbulatori  di secondo livell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2360" y="2017800"/>
            <a:ext cx="402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ritori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P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ltori famigliar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bulatori specialistic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bulatori specialistici priva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zi soci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ociazioni di cittadini / pazien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stituzioni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ziende USL territori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ziende ospedaliere universitar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i local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ambulatori priva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03:41:15Z</dcterms:created>
  <dc:creator>Silvana</dc:creator>
  <dc:description/>
  <dc:language>en-US</dc:language>
  <cp:lastModifiedBy>Silvana</cp:lastModifiedBy>
  <dcterms:modified xsi:type="dcterms:W3CDTF">2009-06-06T05:09:45Z</dcterms:modified>
  <cp:revision>6</cp:revision>
  <dc:subject/>
  <dc:title>Malattie materne in gravidanza - la gestione integrata ambulatorio ospedale  aspetti giuridico organizzativi </dc:title>
</cp:coreProperties>
</file>