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5C28-A7D0-4F32-943D-D3C4161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DBEE-4341-4657-A73D-BA3228E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C318-D04C-496D-9B56-A49A286D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3913-EA86-45B9-8B53-CCC64097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D6F1-C557-40EE-83C7-A43FFFCE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0578-9931-4CB8-AD3F-E2C9BA89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BB4D-91FF-4CD5-96B5-01CE342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587-C6BC-4A20-AB35-DE35D50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83F7-6545-4DBF-B65C-A6324622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EC55-FF16-4AF5-AB6B-CDEC802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1C4-B097-4903-AFE6-F2A96A80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7B9A-02B4-435C-9ACD-67E0DB6D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95F8-0F1F-4864-8228-E211241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BEA5-323E-473E-8D28-1FC60A6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2EEB-F632-4B3F-993D-4A2C4E30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E796-9835-40A9-956B-FD222D8D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36A-C205-4E21-9CEC-4BEEF9BF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0B42-A208-4537-8A38-15282034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673A-2555-4827-B6BF-817AC1DE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54EC-9AC4-44C7-8E95-E0527459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9066-0230-474C-9CF6-0D9BF473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F8F6-AF59-48CC-8F39-9C2046A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E91A-84CE-4D7B-B4B3-E3662DF4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8004-206B-4B68-BB08-58F2B09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878-8DC6-4914-B13C-CD350CE8A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spcAft>
                <a:spcPts val="601"/>
              </a:spcAft>
              <a:buClr>
                <a:srgbClr val="eaf397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1199"/>
              </a:spcBef>
              <a:spcAft>
                <a:spcPts val="601"/>
              </a:spcAft>
              <a:buClr>
                <a:srgbClr val="ade42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1199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e93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e93b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CBE-A39F-4899-9558-FAC871E8D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de424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907640" y="4723920"/>
            <a:ext cx="5069160" cy="576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Corrado Mel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6000" y="333360"/>
            <a:ext cx="8677080" cy="1221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MALATTIE MATERNE IN GRAVIDAN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gestione integrata ambulatorio/osped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88000" y="1700280"/>
            <a:ext cx="38894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logna   06 Giugn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865680" y="5878440"/>
          <a:ext cx="5027400" cy="863640"/>
        </p:xfrm>
        <a:graphic>
          <a:graphicData uri="http://schemas.openxmlformats.org/drawingml/2006/table">
            <a:tbl>
              <a:tblPr/>
              <a:tblGrid>
                <a:gridCol w="5027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00280">
                        <a:spcAft>
                          <a:spcPts val="187"/>
                        </a:spcAft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idio Ospedaliero Bellaria-Maggi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00280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Dipartimento Materno/Infanti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00280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U.O. di Ostetricia/Ginecolog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600280" algn="ctr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l Direttore: Dott. Corrado Meleg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8" name="logocolor" descr=""/>
          <p:cNvPicPr/>
          <p:nvPr/>
        </p:nvPicPr>
        <p:blipFill>
          <a:blip r:embed="rId1"/>
          <a:stretch/>
        </p:blipFill>
        <p:spPr>
          <a:xfrm>
            <a:off x="3957480" y="5950080"/>
            <a:ext cx="2573640" cy="7207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95280" y="3284640"/>
            <a:ext cx="78501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f397"/>
                </a:solidFill>
                <a:latin typeface="Arial"/>
              </a:rPr>
              <a:t>L'integrazione ambulatorio-ospedale nei lavori della Commissione nasc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ano formativo e strutturato di natura tecnico-professionale per la corretta esecuzione della cosiddetta ecografia “morfologi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8e93b"/>
                </a:solidFill>
                <a:latin typeface="Arial"/>
              </a:rPr>
              <a:t>Organizzare una rete di punti ecografici di I° livello per:</a:t>
            </a:r>
            <a:endParaRPr b="0" lang="en-US" sz="32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me alla 11° 14° settimana (eventualmente in contemporanea con il test combinat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ame alla 19° 20° settimana secondo SIEOG 2008-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8e93b"/>
                </a:solidFill>
                <a:latin typeface="Arial"/>
              </a:rPr>
              <a:t>Organizzare una rete di punti ecografici di  II° livello sui quali indirizzare le pazienti:</a:t>
            </a:r>
            <a:endParaRPr b="0" lang="en-US" sz="32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4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spcAft>
                <a:spcPts val="601"/>
              </a:spcAft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 test combinato positivo e cariotipo nor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spcAft>
                <a:spcPts val="601"/>
              </a:spcAft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 esame ecografico sospetto  o posi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spcAft>
                <a:spcPts val="601"/>
              </a:spcAft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 altissimo risch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79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e93b"/>
                </a:solidFill>
                <a:latin typeface="Arial"/>
              </a:rPr>
              <a:t>In questi centri dovrà essere possibile:</a:t>
            </a:r>
            <a:endParaRPr b="0" lang="en-US" sz="32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06280" y="2060280"/>
            <a:ext cx="800244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definizione diagnostica e gli eventuali approfondim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n adeguato e tempestivo couns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efinizione del ruolo dell’ostetrica per una sua integrazione con le altre figure professionali nell’assistenza al percorso nasc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e93b"/>
                </a:solidFill>
                <a:latin typeface="Arial"/>
              </a:rPr>
              <a:t>Legge 42/99 – Legge 251/2000</a:t>
            </a: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ciscono la competenza – l’autonomia  - la responsabilità dell’ostetrica nel fornire cure di qualit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e93b"/>
                </a:solidFill>
                <a:latin typeface="Arial"/>
              </a:rPr>
              <a:t>DM 740/9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nosce all’ostetrica la responsabilità di condurre in autonomia travagli e parti a basso rischio (fisiologici) e di individuare situazioni potenzialmente patologiche che richiedono l’intervento med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f397"/>
                </a:solidFill>
                <a:latin typeface="Arial"/>
              </a:rPr>
              <a:t>Su questi presupposti la commissione ha dato indicazioni per un lavoro di equipe in modo 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f397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ire modelli assistenziali che individuano nell’ostetrica un professionista in grado di garantire assistenza appropriata  sia a livello consultoriale che ospedal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f397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izzare i servizi a privilegiare la continuità assistenziale individuando nell’ostetrica la figura di riferimento in grado di discriminare la fisiologia dalla patolo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6048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397"/>
                </a:solidFill>
                <a:latin typeface="Arial"/>
              </a:rPr>
              <a:t>Ambulatorio per il controllo della gravidanza a termine p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are la gestione della gravidanza a termine e altre il term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urre i ricoveri impropr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ionalizzare l’attività di repar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e il percorso assistenziale anche per le gestanti seguite in sedi d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liorare l’assistenza ai disturbi emozionali dalla donna in gravidanza e nel primo anno di vita del bambino sia dal punto di vista preventivo che terapeu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l 4-5% delle donne si tratta di depressione vera e propri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arriva al 12-14% se si prendono in considerazione tutte le forme di disturbi emozion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ommissione si è strutturata in 11 gruppi di lavoro, ciascuno dei quali formato da un coordinatore e da operatori di diverse professionalità competenti nella materia trattata, sia nominati dal principio sia cooptati in itin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65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199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f397"/>
                </a:solidFill>
                <a:latin typeface="Arial"/>
              </a:rPr>
              <a:t>La manifestazione del disagio e di difficile riconosc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teplicità dei sinto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enza a sottostimare il distur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enza a non chiedere ai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876"/>
              </a:spcBef>
              <a:spcAft>
                <a:spcPts val="1049"/>
              </a:spcAft>
              <a:buClr>
                <a:srgbClr val="ade42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mentazione  e ritardi negli interventi di aiu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ci sono teorie in grado di chiarire le cause: è probabile una eziologia multifattori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’approccio diagnostico per ora basato su strumenti di screening ha molti limi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stituire a livello aziendale un gruppo multidisciplin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nalizzare la prassi attuale in modo da individuarne le criticit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arantire una preparazione che  consenta il riconoscimento dei disturb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ttuare corsi di form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efinire la modalità di presa in carico della donna/cop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cquisire adeguate forma di comunic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uare interventi di supporto alla relazione madre-bambino e di promozione e sostegno  all’allattamento al se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indagine triennale sulla prevalenza dell’allattamento al seno rilevata alla 1° e 2° vaccinazione mostra che il tasso è migliorato sia a tre che a cinque mesi dal 1999 al 200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RER risulta avere un dato medio inferiore ad altre regio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antire a tutte le gravide i corsi prenatali “di base” educativi  a tutelare la maternit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olare attenzione alla popolazione svantaggiata e multiproblema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e93b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9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’applicazione delle direttive potrà contribuire ad uniformare le procedure nelle Aziende Reg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percorso di implementazione sarà lungo e diffic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i ostacoli saranno di natura attitudinale, clinica, organizzativa e gest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tanto il risultato non dipenderà solo dalla volontà dei professionisti ma anche dal supporto logistico e finanzi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859880" cy="42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l mio ringraziamento a colleghe e colleghi che mi hanno aiutato in questi tre anni di lavoro, nella speranza che sia utile a tutti noi ma soprattutto alle cittadine della reg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1187280" y="3925800"/>
            <a:ext cx="352908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razie. . .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1" name=""/>
          <p:cNvSpPr/>
          <p:nvPr/>
        </p:nvSpPr>
        <p:spPr>
          <a:xfrm>
            <a:off x="324000" y="333360"/>
            <a:ext cx="76327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MALATTIE MATERNE IN GRAVIDAN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gestione integrata ambulatorio/osped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2720" y="1989000"/>
            <a:ext cx="35272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ologna   06 Giugn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zionalizzare metodiche invasive utilizzate per la diagnosi prenatale di anomalie cromosomiche, mediante l’uso di metodologie finalizzate alla ridefinizione del rischio ed all’aumento dell’effici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 può calcolare attorno all’1% (Cochrane database 2003 issue 3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 Emilia Romagna si sottopongono ad un test invasivo il 30% delle gravide (60% oltre i 35 an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aumento dell’efficienza e dell’efficacia può essere legato all’introduzione di test non invasi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l 2002  al 2005 si è passati dal 31,5% al 28% delle procedure invasive – d’altra parte si è registrato un aumento delle trisomie  riconosciute in utero dal 77% al 84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ati confermati a livello internazionale (Nicolaides Am J Obstet. Gynecol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e93b"/>
                </a:solidFill>
                <a:latin typeface="Arial"/>
              </a:rPr>
              <a:t>Offerta di percorso combinato</a:t>
            </a: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a fase  : ecografia + esami biochim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Ia fase : villocentesi/amniocente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arebbe auspicabile la contemporaneità di:  ecografia del 1°Trimestre + preli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dfdef6"/>
                </a:solidFill>
                <a:uFillTx/>
                <a:latin typeface="Arial"/>
              </a:rPr>
              <a:t>Ia FA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- sperimentazione del percorso offerto presso un numero ristretto di aziende già in parte attrezz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dfdef6"/>
                </a:solidFill>
                <a:uFillTx/>
                <a:latin typeface="Arial"/>
              </a:rPr>
              <a:t>IIa FA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- estensione della proposte alle altre aziende con i correttivi suggeriti dalla Ia F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dfdef6"/>
                </a:solidFill>
                <a:uFillTx/>
                <a:latin typeface="Arial"/>
              </a:rPr>
              <a:t>IIIa FA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- estendere in poche aziende l’offerta del test combinato  a tutte le Sedi ecografiche Aziend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524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dfdef6"/>
                </a:solidFill>
                <a:uFillTx/>
                <a:latin typeface="Arial"/>
              </a:rPr>
              <a:t>IVa FAS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- estendere il percorso a tutte le Aziende su molteplici se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e93b"/>
                </a:solidFill>
                <a:latin typeface="Arial"/>
              </a:rPr>
              <a:t>Criticità:</a:t>
            </a: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petenze professionali e comunic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ratteristiche delle sedi individ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rezzatura adegu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mporizzazione delle fasi del proces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rasporto dei prelievi al laboratorio di rifer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iano di comunic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e93b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edisporre un percorso diagnostico ecografico della anomalie morfologiche tale da poter offrire alla donna la possibilità di approfondimenti e counsel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10:01:03Z</dcterms:created>
  <dc:creator>stefano</dc:creator>
  <dc:description/>
  <dc:language>en-US</dc:language>
  <cp:lastModifiedBy>carla</cp:lastModifiedBy>
  <dcterms:modified xsi:type="dcterms:W3CDTF">2009-06-03T19:10:58Z</dcterms:modified>
  <cp:revision>49</cp:revision>
  <dc:subject/>
  <dc:title>Diapositiva 1</dc:title>
</cp:coreProperties>
</file>