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98B3-8510-484F-A471-E161ADC16F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34A3-892D-4BD0-A720-BF819B9317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L’antigene HLA-G, una molecola di classe I del sistema MHC, ha un’espressione tessuto-specifica nelle cellule trofoblastiche dei villi placentari e sembra essere importante per il mantenimento della tolleranza materno-fetale. (16). Questa peculiare espressione degli antigeni MHC diminuisce l’immunogenicità della placenta e ne impedisce il rig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B64-405B-451F-A6FA-B2A7361D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048-913E-4C81-8762-9D4C6981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F7B-CAF1-4997-844E-ACB8018A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2B6-1ABE-44EB-84FF-F757AF9E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534-A9EF-4799-8C88-63E1B95A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05F-EC31-49C1-948B-F5452A8F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07A-72BE-48F2-96C8-E6FBB6AE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67D-873F-407D-84D0-F24BFEEF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E54-EA3F-4433-BF84-3D038BDF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528-7B00-4F84-9198-4B2F6C2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F41-D98D-40A4-92CE-FF48C19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817-D66A-4543-95E9-E242105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5247-A467-4BAB-8689-7DEA6DB33C3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981080"/>
          </a:xfrm>
          <a:prstGeom prst="rect">
            <a:avLst/>
          </a:prstGeom>
          <a:solidFill>
            <a:srgbClr val="ffffff"/>
          </a:solidFill>
          <a:ln w="76320">
            <a:solidFill>
              <a:srgbClr val="82162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Le alterazioni funzionali della tiroide: gli aspetti mater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200400"/>
            <a:ext cx="7772400" cy="2743200"/>
          </a:xfrm>
          <a:prstGeom prst="rect">
            <a:avLst/>
          </a:prstGeom>
          <a:solidFill>
            <a:srgbClr val="e3ddda"/>
          </a:solidFill>
          <a:ln w="38160">
            <a:solidFill>
              <a:srgbClr val="82162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41b99"/>
                </a:solidFill>
                <a:latin typeface="Arial"/>
              </a:rPr>
              <a:t>Renato Pasqu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41b99"/>
                </a:solidFill>
                <a:latin typeface="Arial"/>
              </a:rPr>
              <a:t>Professore di Endocri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41b99"/>
                </a:solidFill>
                <a:latin typeface="Arial"/>
              </a:rPr>
              <a:t>Div. di Endocri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41b99"/>
                </a:solidFill>
                <a:latin typeface="Arial"/>
              </a:rPr>
              <a:t>Dipt. Medicina Cli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41b99"/>
                </a:solidFill>
                <a:latin typeface="Arial"/>
              </a:rPr>
              <a:t>Università Alma Mater Studi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41b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41b99"/>
                </a:solidFill>
                <a:latin typeface="Arial"/>
              </a:rPr>
              <a:t>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040" y="3306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3581280"/>
          <a:ext cx="1801800" cy="9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81280"/>
                    <a:ext cx="1801800" cy="9558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6659ba"/>
                </a:solidFill>
                <a:latin typeface="Arial"/>
              </a:rPr>
              <a:t>hCG ed attività tiroid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12351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Helvetica Neue"/>
                <a:ea typeface="ヒラギノ角ゴ Pro W3"/>
              </a:rPr>
              <a:t>hCG: modesta attività tirostimol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Helvetica Neue"/>
                <a:ea typeface="ヒラギノ角ゴ Pro W3"/>
              </a:rPr>
              <a:t>(TSH - agon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4720" y="6324480"/>
            <a:ext cx="29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Glinoer et al. JCEM 71:276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5" descr="fig14-1a"/>
          <p:cNvPicPr/>
          <p:nvPr/>
        </p:nvPicPr>
        <p:blipFill>
          <a:blip r:embed="rId1"/>
          <a:srcRect l="4846" t="0" r="4057" b="9614"/>
          <a:stretch/>
        </p:blipFill>
        <p:spPr>
          <a:xfrm>
            <a:off x="304920" y="2209680"/>
            <a:ext cx="5333760" cy="22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5562720" y="2514600"/>
            <a:ext cx="335268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•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TSH, hCG ed età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gestazionale in 606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donne grav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•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Tra l’8°-14° settimana le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variazioni di hCG e TSH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sono specul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Char char="•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Esiste una significativa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relazione inversa fra livelli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di TSH (nadir) e picco di 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hCG (p&lt;0.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03480" y="523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8" descr="fig14-1b"/>
          <p:cNvPicPr/>
          <p:nvPr/>
        </p:nvPicPr>
        <p:blipFill>
          <a:blip r:embed="rId2"/>
          <a:srcRect l="0" t="8325" r="5597" b="5332"/>
          <a:stretch/>
        </p:blipFill>
        <p:spPr>
          <a:xfrm>
            <a:off x="533520" y="4813200"/>
            <a:ext cx="4647960" cy="18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e20"/>
                </a:solidFill>
                <a:latin typeface="Times New Roman"/>
              </a:rPr>
              <a:t>Cambiamenti della funzione tiroidea materna e fetale durante la gravid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733920" cy="594360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4038480" y="1600200"/>
            <a:ext cx="4876920" cy="12427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marcato e precoce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produzion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epatica della TBG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produzione placentare di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H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343400"/>
            <a:ext cx="3352680" cy="106668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Sierico di F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3276720"/>
            <a:ext cx="213336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6324480"/>
            <a:ext cx="2590920" cy="381240"/>
          </a:xfrm>
          <a:prstGeom prst="rect">
            <a:avLst/>
          </a:prstGeom>
          <a:noFill/>
          <a:ln w="9360">
            <a:solidFill>
              <a:srgbClr val="faf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afe20"/>
                </a:solidFill>
                <a:latin typeface="Times New Roman"/>
                <a:ea typeface="ヒラギノ角ゴ Pro W3"/>
              </a:rPr>
              <a:t>Epstain F.H. NEJM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1600" y="152280"/>
            <a:ext cx="8884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59ba"/>
                </a:solidFill>
                <a:latin typeface="Arial"/>
              </a:rPr>
              <a:t>AUTOIMMUNITA’ TIROIDEA IN GRAVID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67840" y="914400"/>
            <a:ext cx="5555880" cy="1355760"/>
            <a:chOff x="2067840" y="914400"/>
            <a:chExt cx="5555880" cy="1355760"/>
          </a:xfrm>
        </p:grpSpPr>
        <p:grpSp>
          <p:nvGrpSpPr>
            <p:cNvPr id="218" name=""/>
            <p:cNvGrpSpPr/>
            <p:nvPr/>
          </p:nvGrpSpPr>
          <p:grpSpPr>
            <a:xfrm>
              <a:off x="3656880" y="914400"/>
              <a:ext cx="2210040" cy="990720"/>
              <a:chOff x="3656880" y="914400"/>
              <a:chExt cx="2210040" cy="990720"/>
            </a:xfrm>
          </p:grpSpPr>
          <p:sp>
            <p:nvSpPr>
              <p:cNvPr id="219" name="AutoShape 67"/>
              <p:cNvSpPr/>
              <p:nvPr/>
            </p:nvSpPr>
            <p:spPr>
              <a:xfrm rot="10800000">
                <a:off x="4800240" y="914400"/>
                <a:ext cx="1066680" cy="990720"/>
              </a:xfrm>
              <a:prstGeom prst="pie">
                <a:avLst/>
              </a:prstGeom>
              <a:solidFill>
                <a:srgbClr val="f6083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68"/>
              <p:cNvSpPr/>
              <p:nvPr/>
            </p:nvSpPr>
            <p:spPr>
              <a:xfrm flipH="1" rot="10800000">
                <a:off x="3656520" y="914400"/>
                <a:ext cx="1011240" cy="990720"/>
              </a:xfrm>
              <a:prstGeom prst="pie">
                <a:avLst/>
              </a:prstGeom>
              <a:solidFill>
                <a:srgbClr val="f6083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067840" y="1901880"/>
              <a:ext cx="555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Helvetica Neue"/>
                </a:rPr>
                <a:t>MODIFICA DECORSO TIREOPATIE AUTOIMMU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8440" y="911160"/>
            <a:ext cx="8954640" cy="785520"/>
            <a:chOff x="28440" y="911160"/>
            <a:chExt cx="8954640" cy="785520"/>
          </a:xfrm>
        </p:grpSpPr>
        <p:sp>
          <p:nvSpPr>
            <p:cNvPr id="223" name=""/>
            <p:cNvSpPr/>
            <p:nvPr/>
          </p:nvSpPr>
          <p:spPr>
            <a:xfrm>
              <a:off x="28440" y="911160"/>
              <a:ext cx="4103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Helvetica Neue"/>
                </a:rPr>
                <a:t>GRAVIDA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Helvetica Neue"/>
                </a:rPr>
                <a:t>RELATIVA IMMUNOSOPPRESS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74800" y="911160"/>
              <a:ext cx="3608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Helvetica Neue"/>
                </a:rPr>
                <a:t>POST-PAR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Helvetica Neue"/>
                </a:rPr>
                <a:t>RIACCENSIONE IMMUNIT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4720" y="2263680"/>
            <a:ext cx="9048960" cy="858960"/>
            <a:chOff x="54720" y="2263680"/>
            <a:chExt cx="9048960" cy="858960"/>
          </a:xfrm>
        </p:grpSpPr>
        <p:sp>
          <p:nvSpPr>
            <p:cNvPr id="226" name="AutoShape 69"/>
            <p:cNvSpPr/>
            <p:nvPr/>
          </p:nvSpPr>
          <p:spPr>
            <a:xfrm>
              <a:off x="4538520" y="2263680"/>
              <a:ext cx="490680" cy="490680"/>
            </a:xfrm>
            <a:prstGeom prst="downArrow">
              <a:avLst>
                <a:gd name="adj1" fmla="val 35278"/>
                <a:gd name="adj2" fmla="val 52426"/>
              </a:avLst>
            </a:prstGeom>
            <a:solidFill>
              <a:srgbClr val="f608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20" y="2754360"/>
              <a:ext cx="90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Helvetica Neue"/>
                </a:rPr>
                <a:t>INFLUENZA DECORSO GRAVIDANZA, FUNZIONE TIROIDEA DEL FETO/NE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90440" y="3200400"/>
            <a:ext cx="8596440" cy="2928600"/>
            <a:chOff x="190440" y="3200400"/>
            <a:chExt cx="8596440" cy="2928600"/>
          </a:xfrm>
        </p:grpSpPr>
        <p:grpSp>
          <p:nvGrpSpPr>
            <p:cNvPr id="229" name="Group 61"/>
            <p:cNvGrpSpPr/>
            <p:nvPr/>
          </p:nvGrpSpPr>
          <p:grpSpPr>
            <a:xfrm>
              <a:off x="433440" y="3200400"/>
              <a:ext cx="8353440" cy="2354040"/>
              <a:chOff x="433440" y="3200400"/>
              <a:chExt cx="8353440" cy="2354040"/>
            </a:xfrm>
          </p:grpSpPr>
          <p:sp>
            <p:nvSpPr>
              <p:cNvPr id="230" name="Rectangle 42"/>
              <p:cNvSpPr/>
              <p:nvPr/>
            </p:nvSpPr>
            <p:spPr>
              <a:xfrm>
                <a:off x="433440" y="3200400"/>
                <a:ext cx="8353440" cy="2247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35"/>
              <p:cNvSpPr/>
              <p:nvPr/>
            </p:nvSpPr>
            <p:spPr>
              <a:xfrm>
                <a:off x="7134480" y="3435480"/>
                <a:ext cx="1363680" cy="609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AbT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AbTP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5"/>
              <p:cNvSpPr/>
              <p:nvPr/>
            </p:nvSpPr>
            <p:spPr>
              <a:xfrm>
                <a:off x="1397160" y="3504600"/>
                <a:ext cx="0" cy="12549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6"/>
              <p:cNvSpPr/>
              <p:nvPr/>
            </p:nvSpPr>
            <p:spPr>
              <a:xfrm>
                <a:off x="1616400" y="4921920"/>
                <a:ext cx="26175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"/>
              <p:cNvSpPr/>
              <p:nvPr/>
            </p:nvSpPr>
            <p:spPr>
              <a:xfrm flipV="1">
                <a:off x="1616400" y="4867560"/>
                <a:ext cx="0" cy="536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8"/>
              <p:cNvSpPr/>
              <p:nvPr/>
            </p:nvSpPr>
            <p:spPr>
              <a:xfrm flipV="1">
                <a:off x="2853000" y="4867560"/>
                <a:ext cx="0" cy="536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9"/>
              <p:cNvSpPr/>
              <p:nvPr/>
            </p:nvSpPr>
            <p:spPr>
              <a:xfrm flipV="1">
                <a:off x="4233960" y="4867560"/>
                <a:ext cx="0" cy="536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0"/>
              <p:cNvSpPr/>
              <p:nvPr/>
            </p:nvSpPr>
            <p:spPr>
              <a:xfrm>
                <a:off x="1397160" y="4540680"/>
                <a:ext cx="74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1"/>
              <p:cNvSpPr/>
              <p:nvPr/>
            </p:nvSpPr>
            <p:spPr>
              <a:xfrm>
                <a:off x="1397160" y="4268880"/>
                <a:ext cx="74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2"/>
              <p:cNvSpPr/>
              <p:nvPr/>
            </p:nvSpPr>
            <p:spPr>
              <a:xfrm>
                <a:off x="1397160" y="4051080"/>
                <a:ext cx="74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3"/>
              <p:cNvSpPr/>
              <p:nvPr/>
            </p:nvSpPr>
            <p:spPr>
              <a:xfrm>
                <a:off x="1397160" y="3777840"/>
                <a:ext cx="74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4"/>
              <p:cNvSpPr/>
              <p:nvPr/>
            </p:nvSpPr>
            <p:spPr>
              <a:xfrm>
                <a:off x="1397160" y="3504600"/>
                <a:ext cx="74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5"/>
              <p:cNvSpPr/>
              <p:nvPr/>
            </p:nvSpPr>
            <p:spPr>
              <a:xfrm>
                <a:off x="1397160" y="4759560"/>
                <a:ext cx="74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16"/>
              <p:cNvSpPr/>
              <p:nvPr/>
            </p:nvSpPr>
            <p:spPr>
              <a:xfrm>
                <a:off x="962280" y="3395160"/>
                <a:ext cx="434880" cy="20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1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1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1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1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1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17"/>
              <p:cNvSpPr/>
              <p:nvPr/>
            </p:nvSpPr>
            <p:spPr>
              <a:xfrm>
                <a:off x="1297080" y="5008680"/>
                <a:ext cx="654552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2                            3            3                            6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IMESTRI GRAVIDICI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SI POST-PARTUM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8"/>
              <p:cNvSpPr/>
              <p:nvPr/>
            </p:nvSpPr>
            <p:spPr>
              <a:xfrm>
                <a:off x="4815000" y="4921920"/>
                <a:ext cx="130968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9"/>
              <p:cNvSpPr/>
              <p:nvPr/>
            </p:nvSpPr>
            <p:spPr>
              <a:xfrm flipV="1">
                <a:off x="4815000" y="4867560"/>
                <a:ext cx="0" cy="536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0"/>
              <p:cNvSpPr/>
              <p:nvPr/>
            </p:nvSpPr>
            <p:spPr>
              <a:xfrm flipV="1">
                <a:off x="6124680" y="4867560"/>
                <a:ext cx="0" cy="536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1"/>
              <p:cNvSpPr/>
              <p:nvPr/>
            </p:nvSpPr>
            <p:spPr>
              <a:xfrm>
                <a:off x="1543320" y="4051080"/>
                <a:ext cx="2617560" cy="379800"/>
              </a:xfrm>
              <a:prstGeom prst="line">
                <a:avLst/>
              </a:prstGeom>
              <a:ln w="28440">
                <a:solidFill>
                  <a:srgbClr val="f608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22"/>
              <p:cNvSpPr/>
              <p:nvPr/>
            </p:nvSpPr>
            <p:spPr>
              <a:xfrm flipV="1">
                <a:off x="4160880" y="3995280"/>
                <a:ext cx="582840" cy="435240"/>
              </a:xfrm>
              <a:prstGeom prst="line">
                <a:avLst/>
              </a:prstGeom>
              <a:ln w="28440">
                <a:solidFill>
                  <a:srgbClr val="f608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3"/>
              <p:cNvSpPr/>
              <p:nvPr/>
            </p:nvSpPr>
            <p:spPr>
              <a:xfrm flipV="1">
                <a:off x="4743720" y="3613680"/>
                <a:ext cx="1307880" cy="381240"/>
              </a:xfrm>
              <a:prstGeom prst="line">
                <a:avLst/>
              </a:prstGeom>
              <a:ln w="28440">
                <a:solidFill>
                  <a:srgbClr val="f608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4"/>
              <p:cNvSpPr/>
              <p:nvPr/>
            </p:nvSpPr>
            <p:spPr>
              <a:xfrm flipH="1">
                <a:off x="4709520" y="3941280"/>
                <a:ext cx="104760" cy="79920"/>
              </a:xfrm>
              <a:prstGeom prst="rect">
                <a:avLst/>
              </a:prstGeom>
              <a:solidFill>
                <a:srgbClr val="f6083b"/>
              </a:solidFill>
              <a:ln w="28440">
                <a:solidFill>
                  <a:srgbClr val="f608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25"/>
              <p:cNvSpPr/>
              <p:nvPr/>
            </p:nvSpPr>
            <p:spPr>
              <a:xfrm>
                <a:off x="1573560" y="4179240"/>
                <a:ext cx="2660400" cy="3067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6"/>
              <p:cNvSpPr/>
              <p:nvPr/>
            </p:nvSpPr>
            <p:spPr>
              <a:xfrm flipV="1">
                <a:off x="4233960" y="3831840"/>
                <a:ext cx="509760" cy="654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27"/>
              <p:cNvSpPr/>
              <p:nvPr/>
            </p:nvSpPr>
            <p:spPr>
              <a:xfrm flipV="1">
                <a:off x="4743720" y="3504240"/>
                <a:ext cx="1307880" cy="3272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28"/>
              <p:cNvSpPr/>
              <p:nvPr/>
            </p:nvSpPr>
            <p:spPr>
              <a:xfrm>
                <a:off x="5978880" y="3450600"/>
                <a:ext cx="145800" cy="107640"/>
              </a:xfrm>
              <a:prstGeom prst="ellipse">
                <a:avLst/>
              </a:prstGeom>
              <a:solidFill>
                <a:srgbClr val="333399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29"/>
              <p:cNvSpPr/>
              <p:nvPr/>
            </p:nvSpPr>
            <p:spPr>
              <a:xfrm>
                <a:off x="4670640" y="3777840"/>
                <a:ext cx="144360" cy="108000"/>
              </a:xfrm>
              <a:prstGeom prst="ellipse">
                <a:avLst/>
              </a:prstGeom>
              <a:solidFill>
                <a:srgbClr val="333399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30"/>
              <p:cNvSpPr/>
              <p:nvPr/>
            </p:nvSpPr>
            <p:spPr>
              <a:xfrm>
                <a:off x="4160880" y="4431240"/>
                <a:ext cx="146160" cy="109440"/>
              </a:xfrm>
              <a:prstGeom prst="ellipse">
                <a:avLst/>
              </a:prstGeom>
              <a:solidFill>
                <a:srgbClr val="333399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31"/>
              <p:cNvSpPr/>
              <p:nvPr/>
            </p:nvSpPr>
            <p:spPr>
              <a:xfrm>
                <a:off x="2853000" y="4322880"/>
                <a:ext cx="146160" cy="108000"/>
              </a:xfrm>
              <a:prstGeom prst="ellipse">
                <a:avLst/>
              </a:prstGeom>
              <a:solidFill>
                <a:srgbClr val="333399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32"/>
              <p:cNvSpPr/>
              <p:nvPr/>
            </p:nvSpPr>
            <p:spPr>
              <a:xfrm>
                <a:off x="1543320" y="4104000"/>
                <a:ext cx="146160" cy="109440"/>
              </a:xfrm>
              <a:prstGeom prst="ellipse">
                <a:avLst/>
              </a:prstGeom>
              <a:solidFill>
                <a:srgbClr val="333399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33"/>
              <p:cNvSpPr/>
              <p:nvPr/>
            </p:nvSpPr>
            <p:spPr>
              <a:xfrm>
                <a:off x="7432920" y="3558600"/>
                <a:ext cx="73080" cy="55440"/>
              </a:xfrm>
              <a:prstGeom prst="ellipse">
                <a:avLst/>
              </a:prstGeom>
              <a:solidFill>
                <a:srgbClr val="333399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4"/>
              <p:cNvSpPr/>
              <p:nvPr/>
            </p:nvSpPr>
            <p:spPr>
              <a:xfrm flipH="1">
                <a:off x="7414560" y="3767040"/>
                <a:ext cx="73080" cy="55080"/>
              </a:xfrm>
              <a:prstGeom prst="rect">
                <a:avLst/>
              </a:prstGeom>
              <a:solidFill>
                <a:srgbClr val="f6083b"/>
              </a:solidFill>
              <a:ln w="28440">
                <a:solidFill>
                  <a:srgbClr val="f608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36"/>
              <p:cNvSpPr/>
              <p:nvPr/>
            </p:nvSpPr>
            <p:spPr>
              <a:xfrm rot="16200000">
                <a:off x="248040" y="3700440"/>
                <a:ext cx="1037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LISA INDE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7"/>
              <p:cNvSpPr/>
              <p:nvPr/>
            </p:nvSpPr>
            <p:spPr>
              <a:xfrm flipH="1">
                <a:off x="5978160" y="3558600"/>
                <a:ext cx="106200" cy="79920"/>
              </a:xfrm>
              <a:prstGeom prst="rect">
                <a:avLst/>
              </a:prstGeom>
              <a:solidFill>
                <a:srgbClr val="f6083b"/>
              </a:solidFill>
              <a:ln w="28440">
                <a:solidFill>
                  <a:srgbClr val="f608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8"/>
              <p:cNvSpPr/>
              <p:nvPr/>
            </p:nvSpPr>
            <p:spPr>
              <a:xfrm flipH="1">
                <a:off x="4088880" y="4376880"/>
                <a:ext cx="104760" cy="79560"/>
              </a:xfrm>
              <a:prstGeom prst="rect">
                <a:avLst/>
              </a:prstGeom>
              <a:solidFill>
                <a:srgbClr val="f6083b"/>
              </a:solidFill>
              <a:ln w="28440">
                <a:solidFill>
                  <a:srgbClr val="f608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9"/>
              <p:cNvSpPr/>
              <p:nvPr/>
            </p:nvSpPr>
            <p:spPr>
              <a:xfrm flipH="1">
                <a:off x="2892600" y="4188960"/>
                <a:ext cx="106560" cy="79920"/>
              </a:xfrm>
              <a:prstGeom prst="rect">
                <a:avLst/>
              </a:prstGeom>
              <a:solidFill>
                <a:srgbClr val="f6083b"/>
              </a:solidFill>
              <a:ln w="28440">
                <a:solidFill>
                  <a:srgbClr val="f608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40"/>
              <p:cNvSpPr/>
              <p:nvPr/>
            </p:nvSpPr>
            <p:spPr>
              <a:xfrm flipH="1">
                <a:off x="1542600" y="3995640"/>
                <a:ext cx="106200" cy="79560"/>
              </a:xfrm>
              <a:prstGeom prst="rect">
                <a:avLst/>
              </a:prstGeom>
              <a:solidFill>
                <a:srgbClr val="f6083b"/>
              </a:solidFill>
              <a:ln w="28440">
                <a:solidFill>
                  <a:srgbClr val="f608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41"/>
              <p:cNvSpPr/>
              <p:nvPr/>
            </p:nvSpPr>
            <p:spPr>
              <a:xfrm>
                <a:off x="6778080" y="4059000"/>
                <a:ext cx="1748880" cy="580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Gravidanza: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iduzione Th1 cel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90440" y="5547240"/>
              <a:ext cx="184320" cy="2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8080" y="57625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28600" y="5638680"/>
            <a:ext cx="861048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No evidenza che AbTg e AbTPO passino la barriera placentare </a:t>
            </a: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danneggiando il f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InveceAbTSHr possono passare la barriera placentare provocando </a:t>
            </a: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Helvetica Neue"/>
              </a:rPr>
              <a:t>ipertiroidismo nel f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VIDANZA: COMPROMESSO IMMUNOLOG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Immaturità antigenica f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Effetto di barriera immunologica plac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Linfociti T fetali con attività soppress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T helper / T soppress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Shift Th1 cells (IFN-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, IL-2; pro-infiammatorie) a favore di Th2 cells (IL-4, IL-10; attività infiammatoria moder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Riduzione della capacità litica delle cellule Natural Killer (NK) materne causata da una diminuita produzione di IL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funzione linfociti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produzione auto-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Helvetica Neue"/>
              </a:rPr>
              <a:t>Modificazioni glicosilazione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371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Autoimmunità tiroidea ed abortiv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3352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alenza deg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rti spontane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udi effettua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e sottopo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343400" cy="4496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82680" y="62485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EM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142920" y="5294160"/>
            <a:ext cx="8858160" cy="1063800"/>
          </a:xfrm>
          <a:prstGeom prst="rect">
            <a:avLst/>
          </a:prstGeom>
          <a:solidFill>
            <a:srgbClr val="79a400"/>
          </a:solidFill>
          <a:ln w="28440">
            <a:solidFill>
              <a:srgbClr val="79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IROIDITI POST-PARTO (P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285920" y="2438280"/>
            <a:ext cx="2714760" cy="2425320"/>
            <a:chOff x="1285920" y="2438280"/>
            <a:chExt cx="2714760" cy="2425320"/>
          </a:xfrm>
        </p:grpSpPr>
        <p:sp>
          <p:nvSpPr>
            <p:cNvPr id="279" name="Decisione 12"/>
            <p:cNvSpPr/>
            <p:nvPr/>
          </p:nvSpPr>
          <p:spPr>
            <a:xfrm>
              <a:off x="1643040" y="2438280"/>
              <a:ext cx="1928880" cy="121464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bT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bT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3"/>
            <p:cNvSpPr/>
            <p:nvPr/>
          </p:nvSpPr>
          <p:spPr>
            <a:xfrm>
              <a:off x="1285920" y="3720960"/>
              <a:ext cx="2714760" cy="114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Fase funzional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EUTIROID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IPOTIROID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14200" y="785880"/>
            <a:ext cx="4643640" cy="1652400"/>
            <a:chOff x="214200" y="785880"/>
            <a:chExt cx="4643640" cy="1652400"/>
          </a:xfrm>
        </p:grpSpPr>
        <p:sp>
          <p:nvSpPr>
            <p:cNvPr id="282" name="Oval 7"/>
            <p:cNvSpPr/>
            <p:nvPr/>
          </p:nvSpPr>
          <p:spPr>
            <a:xfrm>
              <a:off x="214200" y="1357200"/>
              <a:ext cx="4643640" cy="10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TIROIDITE CRONICA AUTOIMMU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ccia in giù 9"/>
            <p:cNvSpPr/>
            <p:nvPr/>
          </p:nvSpPr>
          <p:spPr>
            <a:xfrm>
              <a:off x="1857240" y="785880"/>
              <a:ext cx="1428840" cy="5713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000760" y="785880"/>
            <a:ext cx="3857400" cy="1652400"/>
            <a:chOff x="5000760" y="785880"/>
            <a:chExt cx="3857400" cy="1652400"/>
          </a:xfrm>
        </p:grpSpPr>
        <p:sp>
          <p:nvSpPr>
            <p:cNvPr id="285" name="Oval 8"/>
            <p:cNvSpPr/>
            <p:nvPr/>
          </p:nvSpPr>
          <p:spPr>
            <a:xfrm>
              <a:off x="5000760" y="1371600"/>
              <a:ext cx="385740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MORBO DI BASE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ccia in giù 10"/>
            <p:cNvSpPr/>
            <p:nvPr/>
          </p:nvSpPr>
          <p:spPr>
            <a:xfrm>
              <a:off x="6215040" y="785880"/>
              <a:ext cx="1428840" cy="5713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28440">
              <a:solidFill>
                <a:srgbClr val="506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72080" y="2438280"/>
            <a:ext cx="2786040" cy="1968120"/>
            <a:chOff x="5572080" y="2438280"/>
            <a:chExt cx="2786040" cy="1968120"/>
          </a:xfrm>
        </p:grpSpPr>
        <p:sp>
          <p:nvSpPr>
            <p:cNvPr id="288" name="Decisione 13"/>
            <p:cNvSpPr/>
            <p:nvPr/>
          </p:nvSpPr>
          <p:spPr>
            <a:xfrm>
              <a:off x="5572080" y="2438280"/>
              <a:ext cx="2786040" cy="12193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135e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bTSHr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3"/>
            <p:cNvSpPr/>
            <p:nvPr/>
          </p:nvSpPr>
          <p:spPr>
            <a:xfrm>
              <a:off x="5643720" y="3702600"/>
              <a:ext cx="2714400" cy="70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2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6c00"/>
                  </a:solidFill>
                  <a:latin typeface="Arial"/>
                </a:rPr>
                <a:t>IPERTIROIDIS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36760" y="152280"/>
            <a:ext cx="822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59ba"/>
                </a:solidFill>
                <a:latin typeface="Arial"/>
              </a:rPr>
              <a:t>PATOLOGIA AUTOIMMUNE TIROIDEA IN GRAVI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59ba"/>
                </a:solidFill>
                <a:latin typeface="Arial"/>
              </a:rPr>
              <a:t>IPOTIROIDISMO E GRAVID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alenza ipotiroidismo subclinico: 2-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alenza ipotiroidismo conclamato: 0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otiroidismo post-chirur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otiroidismo post-radioi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iroidite cronica autoim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renza iodica se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ccesso farmaci antitiroidei e di i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otiroidismo secondario (centr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sistenza ormoni tiroi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6840" y="5638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Dati anamnestici suggestivi: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familiarità per tireopatie autoimmuni o ipotiroidismo,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storia di tireopatia,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 anticorpi antitiroide e/o gozzo,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diabete tipo I,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altre patologie autoimmuni,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it-IT" sz="2000" spc="-1" strike="noStrike">
                <a:solidFill>
                  <a:srgbClr val="000000"/>
                </a:solidFill>
                <a:latin typeface="Helvetica Neue"/>
              </a:rPr>
              <a:t>assunzione di farmaci ad azione antitiro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Quadro laboratoristico dell’ipotiroid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752480"/>
          <a:ext cx="7924680" cy="442764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7600"/>
                <a:gridCol w="1582560"/>
                <a:gridCol w="15843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i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i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i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i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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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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T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stero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B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228600"/>
            <a:ext cx="8381880" cy="12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RUOLO DELLA FT4 NELLA VALUTAZIONE DELL’IPOTIROID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2057400"/>
            <a:ext cx="7925040" cy="3836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Times New Roman"/>
                <a:ea typeface="ヒラギノ角ゴ Pro W3"/>
              </a:rPr>
              <a:t>FT4 ridotto +/- TSH eleva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Times New Roman"/>
                <a:ea typeface="ヒラギノ角ゴ Pro W3"/>
              </a:rPr>
              <a:t>Ipotiroidismo fran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3276720"/>
            <a:ext cx="1905120" cy="1676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’asse ipotalamo-ipofisi-tiroide e le vie extra tiroidee del metabolismo delle iodotiro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091" r="2524" b="1091"/>
          <a:stretch/>
        </p:blipFill>
        <p:spPr>
          <a:xfrm>
            <a:off x="1828800" y="1676520"/>
            <a:ext cx="5334120" cy="48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066680"/>
          </a:xfrm>
          <a:prstGeom prst="rect">
            <a:avLst/>
          </a:prstGeom>
          <a:solidFill>
            <a:srgbClr val="f0dbd8"/>
          </a:solidFill>
          <a:ln w="9360">
            <a:solidFill>
              <a:srgbClr val="ed282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1d21"/>
                </a:solidFill>
                <a:latin typeface="Arial"/>
              </a:rPr>
              <a:t>Farmacologia cli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rapia di scelta: </a:t>
            </a:r>
            <a:r>
              <a:rPr b="1" lang="it-IT" sz="2800" spc="-1" strike="noStrike" u="sng">
                <a:solidFill>
                  <a:srgbClr val="b71d21"/>
                </a:solidFill>
                <a:uFillTx/>
                <a:latin typeface="Arial"/>
              </a:rPr>
              <a:t>L-tirox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rca 80% della L-T4 viene assorbita, dop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mministrazione per via 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mivita: circa 7 gio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lo l’assunzione giornaliera garantisce livell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anti di T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desiodazione periferica di T4 (pro-ormone) è l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nt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lla produzione di T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T3 ha un’affinità recettoriale 10 volte &lt; alla T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447560"/>
          </a:xfrm>
          <a:prstGeom prst="rect">
            <a:avLst/>
          </a:prstGeom>
          <a:solidFill>
            <a:srgbClr val="f0dbd8"/>
          </a:solidFill>
          <a:ln w="9360">
            <a:solidFill>
              <a:srgbClr val="ed282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1d21"/>
                </a:solidFill>
                <a:latin typeface="Arial"/>
              </a:rPr>
              <a:t>Farmacologia clinica</a:t>
            </a:r>
            <a:br>
              <a:rPr sz="4000"/>
            </a:br>
            <a:r>
              <a:rPr b="1" lang="en-US" sz="4000" spc="-1" strike="noStrike">
                <a:solidFill>
                  <a:srgbClr val="b71d21"/>
                </a:solidFill>
                <a:latin typeface="Arial"/>
              </a:rPr>
              <a:t>Pos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ose terapeutic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negli adulti: </a:t>
            </a:r>
            <a:r>
              <a:rPr b="1" lang="it-IT" sz="3200" spc="-1" strike="noStrike" u="sng">
                <a:solidFill>
                  <a:srgbClr val="b71d21"/>
                </a:solidFill>
                <a:uFillTx/>
                <a:latin typeface="Arial"/>
              </a:rPr>
              <a:t>1.0-1.6 </a:t>
            </a:r>
            <a:r>
              <a:rPr b="1" lang="it-IT" sz="3200" spc="-1" strike="noStrike" u="sng">
                <a:solidFill>
                  <a:srgbClr val="b71d21"/>
                </a:solidFill>
                <a:uFillTx/>
                <a:latin typeface="Symbol"/>
                <a:ea typeface="Symbol"/>
              </a:rPr>
              <a:t></a:t>
            </a:r>
            <a:r>
              <a:rPr b="1" lang="it-IT" sz="3200" spc="-1" strike="noStrike" u="sng">
                <a:solidFill>
                  <a:srgbClr val="b71d21"/>
                </a:solidFill>
                <a:uFillTx/>
                <a:latin typeface="Arial"/>
              </a:rPr>
              <a:t>g/kg (intervallo 50-200 </a:t>
            </a:r>
            <a:r>
              <a:rPr b="1" lang="it-IT" sz="3200" spc="-1" strike="noStrike" u="sng">
                <a:solidFill>
                  <a:srgbClr val="b71d21"/>
                </a:solidFill>
                <a:uFillTx/>
                <a:latin typeface="Symbol"/>
                <a:ea typeface="Symbol"/>
              </a:rPr>
              <a:t></a:t>
            </a:r>
            <a:r>
              <a:rPr b="1" lang="it-IT" sz="3200" spc="-1" strike="noStrike" u="sng">
                <a:solidFill>
                  <a:srgbClr val="b71d21"/>
                </a:solidFill>
                <a:uFillTx/>
                <a:latin typeface="Arial"/>
              </a:rPr>
              <a:t>g/d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nei bambini, possono essere opportune dosi più ele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31c87"/>
                </a:solidFill>
                <a:latin typeface="Arial"/>
              </a:rPr>
              <a:t>NB: La dose iniziale può essere inferiore alla dose teorica, aggiustando poi ad intervalli regolari la stessa, fino a raggiungere la dose effic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2438280"/>
          </a:xfrm>
          <a:prstGeom prst="rect">
            <a:avLst/>
          </a:prstGeom>
          <a:noFill/>
          <a:ln w="9360">
            <a:solidFill>
              <a:srgbClr val="b71d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1d21"/>
                </a:solidFill>
                <a:latin typeface="Arial"/>
              </a:rPr>
              <a:t>La concentrazione del TSH definisce, nella maggioranza dei casi, l’adeguatezza della terapia sostitutiva con L-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971800"/>
          </a:xfrm>
          <a:prstGeom prst="rect">
            <a:avLst/>
          </a:prstGeom>
          <a:noFill/>
          <a:ln w="9360">
            <a:solidFill>
              <a:srgbClr val="131c87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iettivo ragionevole della terapia sostitutiv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5-3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/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nee Guid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otiroidismo in Gravid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trollare TSH alla conferma di gravi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° riscontro: Iniziare terapia sositu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 Ipotiroidismo noto: dosaggi di TSH ogni 3-4 settimane i primi 5 mesi, qundi ogni 6 setti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riare la LT4 per mantenere TSH ≈ 2,5 mU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nitorare TSH e FT4 ogni 3-4 settimane fino a stabi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parare l’assunzione di LT4 dall’assunzione di ferro, supplementi di calcio e soia (almeno 4 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opo il parto, riportare l’LT4 al dosaggio in corso prima della gravidanza ricontrollando TSH a sei settim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1447920"/>
          </a:xfrm>
          <a:prstGeom prst="rect">
            <a:avLst/>
          </a:prstGeom>
          <a:solidFill>
            <a:srgbClr val="009999"/>
          </a:solidFill>
          <a:ln w="57240">
            <a:solidFill>
              <a:srgbClr val="82057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togenesi della funzione ipotalamo-ipofisi-tiro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rcRect l="2686" t="3081" r="7386" b="7189"/>
          <a:stretch/>
        </p:blipFill>
        <p:spPr>
          <a:xfrm>
            <a:off x="2057400" y="2971800"/>
            <a:ext cx="4822920" cy="3144960"/>
          </a:xfrm>
          <a:prstGeom prst="rect">
            <a:avLst/>
          </a:prstGeom>
          <a:ln w="9360">
            <a:solidFill>
              <a:srgbClr val="8205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lazione temporale tra alcuni tipi di patologia umana spontanea e la sequenza normale di sviluppo del SNC del feto e del neonato</a:t>
            </a:r>
            <a:r>
              <a:rPr b="1" lang="en-US" sz="3200" spc="-1" strike="noStrike">
                <a:solidFill>
                  <a:srgbClr val="fafe2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17510" t="4477" r="16499" b="22456"/>
          <a:stretch/>
        </p:blipFill>
        <p:spPr>
          <a:xfrm>
            <a:off x="1295280" y="1828800"/>
            <a:ext cx="6629400" cy="44956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7315200" y="6481800"/>
            <a:ext cx="1752480" cy="368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afe20"/>
                </a:solidFill>
                <a:latin typeface="Times New Roman"/>
                <a:ea typeface="ヒラギノ角ゴ Pro W3"/>
              </a:rPr>
              <a:t>Stein et al 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066680"/>
          </a:xfrm>
          <a:prstGeom prst="rect">
            <a:avLst/>
          </a:prstGeom>
          <a:noFill/>
          <a:ln w="9360">
            <a:solidFill>
              <a:srgbClr val="f0182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Maternal thyroid deficiency during pregnancy and subsequent neuropsychological development of the child.</a:t>
            </a:r>
            <a:br>
              <a:rPr sz="2400"/>
            </a:br>
            <a:r>
              <a:rPr b="0" i="1" lang="it-IT" sz="2000" spc="-1" strike="noStrike">
                <a:solidFill>
                  <a:srgbClr val="8f0d14"/>
                </a:solidFill>
                <a:latin typeface="Times New Roman"/>
              </a:rPr>
              <a:t>Hollowell JG Jr, Garbe PL, Miller DT. N Engl J Med. 1999;34:2016-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447920"/>
            <a:ext cx="8763120" cy="5277600"/>
          </a:xfrm>
          <a:prstGeom prst="rect">
            <a:avLst/>
          </a:prstGeom>
          <a:noFill/>
          <a:ln w="9360">
            <a:solidFill>
              <a:srgbClr val="131c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b71d21"/>
                </a:solidFill>
                <a:latin typeface="Arial"/>
              </a:rPr>
              <a:t>Method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TSH mesured in 25,216 pregnant wom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47 wome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with TSH ≥ 99.7th p.le of the values for all the pregnant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 15 wome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ith TSH  98th - 99.6th p.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24 matched wome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with normal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7-9y children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no congenital hypo) underwent IQ test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b71d21"/>
                </a:solidFill>
                <a:latin typeface="Arial"/>
              </a:rPr>
              <a:t>Results</a:t>
            </a:r>
            <a:r>
              <a:rPr b="1" lang="it-IT" sz="2000" spc="-1" strike="noStrike">
                <a:solidFill>
                  <a:srgbClr val="b71d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Wingdings 2"/>
                <a:ea typeface="Wingdings 2"/>
              </a:rPr>
              <a:t>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The children of the 62 women with &gt;TSH presented with IQ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scores of 4 points lower than those of children born from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controls (P=0.06), and 15 % had scores of ≤85, as compared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with 5 percent of the control childr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Wingdings 2"/>
                <a:ea typeface="Wingdings 2"/>
              </a:rPr>
              <a:t>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Of the 62 hypothyroid women, 48 were not treated during the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pregnancy. The full-scale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IQ scores of their children averaged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7 points lower than those of the 124 controls (P=0.005); 19 %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Arial"/>
              </a:rPr>
              <a:t>had scores of 85 or l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b71d21"/>
                </a:solidFill>
                <a:latin typeface="Arial"/>
              </a:rPr>
              <a:t>Conclusions:</a:t>
            </a:r>
            <a:r>
              <a:rPr b="0" lang="it-IT" sz="2000" spc="-1" strike="noStrike">
                <a:solidFill>
                  <a:srgbClr val="b71d21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71d21"/>
                </a:solidFill>
                <a:latin typeface="Arial"/>
              </a:rPr>
              <a:t>Undiagnosed hypothyroidism in pregnant women may adversely affect their fetuses; screening for thyroid deficiency during pregnancy may be warranted.</a:t>
            </a:r>
            <a:r>
              <a:rPr b="0" lang="it-IT" sz="2000" spc="-1" strike="noStrike">
                <a:solidFill>
                  <a:srgbClr val="b71d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ttention deficit and hyperactivity disorders in the offspring of mothers exposed to mild-moderate iodine deficiency: a possible novel iodine deficiency disorder in developed countries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000"/>
            </a:b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Vermiglio F, JCEM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8600" y="1676520"/>
          <a:ext cx="8686800" cy="3890880"/>
        </p:xfrm>
        <a:graphic>
          <a:graphicData uri="http://schemas.openxmlformats.org/drawingml/2006/table">
            <a:tbl>
              <a:tblPr/>
              <a:tblGrid>
                <a:gridCol w="3962520"/>
                <a:gridCol w="2438280"/>
                <a:gridCol w="228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n moderato deficit di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con moderato deficit di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ad2716"/>
                          </a:solidFill>
                          <a:latin typeface="Arial"/>
                        </a:rPr>
                        <a:t>Madri, n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odio urine 1990-2002 (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odio urine 2000 (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ad2716"/>
                          </a:solidFill>
                          <a:latin typeface="Arial"/>
                        </a:rPr>
                        <a:t>Bambini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tiroidei (1.5-3 an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tiroidi (8-11 ann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verb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performance 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80880" y="5775480"/>
            <a:ext cx="86108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DHD: attention deficit hyperacti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Fisiopatologia: (i) ridotta sens. recettoriale agli OT; (ii) ridotta biodisponibilità di T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intracellulare in conseguenza ipotiroidismo ma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nsequenza: riduzione di T3 intracellulare         ridotto sviluppo funzioni cerv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6629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77320" y="2819520"/>
            <a:ext cx="48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e20"/>
                </a:solidFill>
                <a:latin typeface="Times New Roman"/>
              </a:rPr>
              <a:t>Ipertiroidismo in Gravidan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2360" cy="48769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Prevalenza 0,1-0,4% (di cui l’85% è da Basedow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- Morbo di Base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Adenoma di Pl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- Gozzo multinodulare tos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- Esogeno (ra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- Mola Idatiforme (ra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- Tirotossicosi Gestazionale (aumento HC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nifestazioni cliniche del/della paziente ipertiroideo/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257800" y="3124080"/>
            <a:ext cx="3586320" cy="2936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     T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buClr>
                <a:srgbClr val="ffff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N /</a:t>
            </a: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4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 FreeT4/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3733920"/>
            <a:ext cx="486000" cy="533160"/>
          </a:xfrm>
          <a:prstGeom prst="downArrow">
            <a:avLst>
              <a:gd name="adj1" fmla="val 50000"/>
              <a:gd name="adj2" fmla="val 274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0" t="0" r="0" b="1874"/>
          <a:stretch/>
        </p:blipFill>
        <p:spPr>
          <a:xfrm>
            <a:off x="304920" y="2895480"/>
            <a:ext cx="3809880" cy="3468960"/>
          </a:xfrm>
          <a:prstGeom prst="rect">
            <a:avLst/>
          </a:prstGeom>
          <a:ln w="57240">
            <a:solidFill>
              <a:srgbClr val="ffcc99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4343400" y="4572000"/>
            <a:ext cx="747720" cy="485640"/>
          </a:xfrm>
          <a:prstGeom prst="rightArrow">
            <a:avLst>
              <a:gd name="adj1" fmla="val 50000"/>
              <a:gd name="adj2" fmla="val 384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533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970c6"/>
                </a:solidFill>
                <a:latin typeface="Arial"/>
              </a:rPr>
              <a:t>FISIOLOGIA TIROIDEA IN GRAVIDAN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2971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BG determinato dagli estrog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olume plasma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ttività desiodativa iodotironina-monodesiodasi di tipo III place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dificazioni del pool dello i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ffetto hCG (primo trimest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78400" y="7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254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mento carico funzionale tiroideo p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e20"/>
                </a:solidFill>
                <a:latin typeface="Times New Roman"/>
              </a:rPr>
              <a:t>Ipertiroidismo in Gravid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1371600"/>
            <a:ext cx="8610480" cy="4889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afe20"/>
                </a:solidFill>
                <a:latin typeface="Times New Roman"/>
                <a:ea typeface="ヒラギノ角ゴ Pro W3"/>
              </a:rPr>
              <a:t>Morbo di  Base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Decorso : livello di attività fluttuante durante la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  gravidanza (esacerbazione nel 1° trimestre e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 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  miglioramento negli altri due; peggioramento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  dopo il par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Diagnosi: clinica (segni di tirotossicosi, 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 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laboratorio (TRAb 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Terapia: Metimazolo (non &gt; 40 mg/d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 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Propiltiouracile (maggior affinità di legame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  all’albumina) (non &gt; 600 mg/d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343080" y="792000"/>
          <a:ext cx="8458200" cy="5685120"/>
        </p:xfrm>
        <a:graphic>
          <a:graphicData uri="http://schemas.openxmlformats.org/drawingml/2006/table">
            <a:tbl>
              <a:tblPr/>
              <a:tblGrid>
                <a:gridCol w="4108320"/>
                <a:gridCol w="1787400"/>
                <a:gridCol w="256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>
                      <a:noFill/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>
                      <a:noFill/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M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game a proteine plasmati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~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iv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 minu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6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co di concentrazione sie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2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lume di Distribu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umulo nella tiro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cre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% intat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% r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%feg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% r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% feg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tabolismo nell’insuff. epa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do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tabolismo nell’insuff. re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quenza di somministr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 1 a 4 v/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2 volte/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Passaggio transplacent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ba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8000"/>
                          </a:solidFill>
                          <a:latin typeface="Times New Roman"/>
                        </a:rPr>
                        <a:t>ba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att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fer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 w="5760">
                      <a:solidFill>
                        <a:srgbClr val="fafe20"/>
                      </a:solidFill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fe20"/>
                      </a:solidFill>
                    </a:lnL>
                    <a:lnR>
                      <a:noFill/>
                    </a:lnR>
                    <a:lnT w="5760">
                      <a:solidFill>
                        <a:srgbClr val="fafe20"/>
                      </a:solidFill>
                    </a:lnT>
                    <a:lnB w="5760">
                      <a:solidFill>
                        <a:srgbClr val="fafe2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  <a:ea typeface="ヒラギノ角ゴ Pro W3"/>
              </a:rPr>
              <a:t>Farmacocinetica dei Tireost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914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MZ e PTU in gravid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1676520"/>
            <a:ext cx="4267080" cy="4593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assaggio transplac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dose dipendente per entram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TU è preferibile (?) perch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eno po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•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iù legato a prot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•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iù ionizz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1676520"/>
            <a:ext cx="4190760" cy="46364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llat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dose dipendente per entram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TU è preferibile (?) perch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eno po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iù legato a prot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iù ionizz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H fisiologico del latt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 ne limita l’accum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e20"/>
                </a:solidFill>
                <a:latin typeface="Times New Roman"/>
              </a:rPr>
              <a:t>Linee Guida</a:t>
            </a:r>
            <a:br>
              <a:rPr sz="3600"/>
            </a:br>
            <a:r>
              <a:rPr b="1" lang="en-US" sz="3600" spc="-1" strike="noStrike">
                <a:solidFill>
                  <a:srgbClr val="fafe20"/>
                </a:solidFill>
                <a:latin typeface="Times New Roman"/>
              </a:rPr>
              <a:t>Ipertiroidismo in Gravid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371600"/>
            <a:ext cx="8610480" cy="48096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1. Usare la dose minima di tionamidi (PTU&gt;MMZ?)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sufficiente a mantenere TT4 al limite superiore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di n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2. Monitorizzare la TT4 materna ogni 4 settimane ed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anche il TSH è utile nelle fasi suc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3. Dosaggio dei TRAb alla 26-28 sett. per valutare il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rischio di ipertiroidismo fetale/neona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4. Ecografia fetale a 26-28 settimane per indagare la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funzione tiroidea fe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5. Considerare la tiroidectomia in caso di ridot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risposta o intolleranza alle tionam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6. TSH ed FT4 su sangue del cordone nel p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5638680" cy="1219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d282e"/>
                </a:solidFill>
                <a:latin typeface="Arial"/>
              </a:rPr>
              <a:t>Tiroide in gravid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tradiolo stimola T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676520"/>
            <a:ext cx="19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d1bf8"/>
                </a:solidFill>
                <a:latin typeface="Times New Roman"/>
              </a:rPr>
              <a:t>h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895480"/>
            <a:ext cx="30481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31c87"/>
                </a:solidFill>
                <a:latin typeface="Times New Roman"/>
              </a:rPr>
              <a:t>Aumento desiodazione T4 nella plac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800600"/>
            <a:ext cx="46479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d1bf8"/>
                </a:solidFill>
                <a:latin typeface="Times New Roman"/>
              </a:rPr>
              <a:t>Perdite fisiologiche di Iodio 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d1bf8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d1bf8"/>
                </a:solidFill>
                <a:latin typeface="Symbol"/>
                <a:ea typeface="Symbol"/>
              </a:rPr>
              <a:t></a:t>
            </a:r>
            <a:r>
              <a:rPr b="0" lang="it-IT" sz="2000" spc="-1" strike="noStrike">
                <a:solidFill>
                  <a:srgbClr val="2d1bf8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2d1bf8"/>
                </a:solidFill>
                <a:latin typeface="Times New Roman"/>
              </a:rPr>
              <a:t>clearance re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d1bf8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d1bf8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2d1bf8"/>
                </a:solidFill>
                <a:latin typeface="Times New Roman"/>
              </a:rPr>
              <a:t>trasferimento all’unità feto-plac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91120"/>
            <a:ext cx="281916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duzione  transitoria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T3, F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umento fisiologic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 T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971800"/>
            <a:ext cx="18288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c87"/>
                </a:solidFill>
                <a:latin typeface="Times New Roman"/>
              </a:rPr>
              <a:t>Aumento  T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743200"/>
            <a:ext cx="2361960" cy="12193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o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zio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iro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3623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58128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371600" cy="3808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419112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400" y="3657600"/>
            <a:ext cx="457200" cy="685800"/>
          </a:xfrm>
          <a:custGeom>
            <a:avLst/>
            <a:gdLst>
              <a:gd name="textAreaLeft" fmla="*/ 61200 w 457200"/>
              <a:gd name="textAreaRight" fmla="*/ 396000 w 4572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200400"/>
            <a:ext cx="457200" cy="685800"/>
          </a:xfrm>
          <a:custGeom>
            <a:avLst/>
            <a:gdLst>
              <a:gd name="textAreaLeft" fmla="*/ 61200 w 457200"/>
              <a:gd name="textAreaRight" fmla="*/ 396000 w 4572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209680" cy="250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0dbd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71d21"/>
                </a:solidFill>
                <a:latin typeface="Arial"/>
              </a:rPr>
              <a:t>Caratteristiche degli isoenzimi delle deiodin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2803680"/>
          <a:ext cx="8686800" cy="3641400"/>
        </p:xfrm>
        <a:graphic>
          <a:graphicData uri="http://schemas.openxmlformats.org/drawingml/2006/table">
            <a:tbl>
              <a:tblPr/>
              <a:tblGrid>
                <a:gridCol w="2606760"/>
                <a:gridCol w="2050920"/>
                <a:gridCol w="2048040"/>
                <a:gridCol w="19810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131c87"/>
                          </a:solidFill>
                          <a:latin typeface="Arial"/>
                        </a:rPr>
                        <a:t>Peso molecolare (k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(dimeri di 2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(multimeri di 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131c87"/>
                          </a:solidFill>
                          <a:latin typeface="Arial"/>
                        </a:rPr>
                        <a:t>Distribuzione tissu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gato, reni, tiro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ello, ipofisi, B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ello, ipofisi,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c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131c87"/>
                          </a:solidFill>
                          <a:latin typeface="Arial"/>
                        </a:rPr>
                        <a:t>Localizzazione subcellul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icolo endoplasmico (fegato); membrana plasmatica basolaterale (ren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ana microsom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ana microsom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131c87"/>
                          </a:solidFill>
                          <a:latin typeface="Arial"/>
                        </a:rPr>
                        <a:t>Effetti dei tioural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bi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si nessu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su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131c87"/>
                          </a:solidFill>
                          <a:latin typeface="Arial"/>
                        </a:rPr>
                        <a:t>Effetto tireotossico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u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31c87"/>
                          </a:solidFill>
                          <a:latin typeface="Arial"/>
                        </a:rPr>
                        <a:t>Effetto ipotiroid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u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u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92280" y="1447920"/>
            <a:ext cx="985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6880" y="1523880"/>
            <a:ext cx="985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73760" y="1523880"/>
            <a:ext cx="985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8480" y="1447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1320" y="1922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15320" y="1905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560" y="2362320"/>
            <a:ext cx="4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5720" y="1523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852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6240" y="1905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9400" y="2362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92600" y="2362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01720" y="1828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35400" y="1828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2600" y="1447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28440" y="1752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752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286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437920" y="2286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71640" y="1752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0288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48720" y="1676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133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e20"/>
                </a:solidFill>
                <a:latin typeface="Times New Roman"/>
              </a:rPr>
              <a:t>Metabolismo tiroideo materno, placentare, fe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685800"/>
            <a:ext cx="8534520" cy="6172200"/>
            <a:chOff x="228600" y="685800"/>
            <a:chExt cx="8534520" cy="6172200"/>
          </a:xfrm>
        </p:grpSpPr>
        <p:grpSp>
          <p:nvGrpSpPr>
            <p:cNvPr id="101" name=""/>
            <p:cNvGrpSpPr/>
            <p:nvPr/>
          </p:nvGrpSpPr>
          <p:grpSpPr>
            <a:xfrm>
              <a:off x="914400" y="685800"/>
              <a:ext cx="7391520" cy="2896560"/>
              <a:chOff x="914400" y="685800"/>
              <a:chExt cx="7391520" cy="289656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914400" y="685800"/>
                <a:ext cx="7391520" cy="2896560"/>
                <a:chOff x="914400" y="685800"/>
                <a:chExt cx="7391520" cy="28965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914400" y="685800"/>
                  <a:ext cx="7391520" cy="2896560"/>
                </a:xfrm>
                <a:prstGeom prst="rect">
                  <a:avLst/>
                </a:prstGeom>
                <a:noFill/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        </a:t>
                  </a:r>
                  <a:r>
                    <a:rPr b="1" lang="it-IT" sz="2800" spc="-1" strike="noStrike">
                      <a:solidFill>
                        <a:srgbClr val="bbe0e3"/>
                      </a:solidFill>
                      <a:latin typeface="Times New Roman"/>
                      <a:ea typeface="ヒラギノ角ゴ Pro W3"/>
                    </a:rPr>
                    <a:t>Madr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                                 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Tiroid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T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4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 baseline="30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SO</a:t>
                  </a:r>
                  <a:r>
                    <a:rPr b="1" lang="it-IT" sz="2400" spc="-1" strike="noStrike" baseline="20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4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T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4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S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 baseline="30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I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r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rT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3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T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3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 baseline="30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SO</a:t>
                  </a:r>
                  <a:r>
                    <a:rPr b="1" lang="it-IT" sz="2400" spc="-1" strike="noStrike" baseline="20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4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T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3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S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 baseline="30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T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2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T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2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	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 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T</a:t>
                  </a:r>
                  <a:r>
                    <a:rPr b="1" lang="it-IT" sz="2400" spc="-1" strike="noStrike" baseline="-25000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2</a:t>
                  </a:r>
                  <a:r>
                    <a:rPr b="1" lang="it-IT" sz="2400" spc="-1" strike="noStrike">
                      <a:solidFill>
                        <a:srgbClr val="fafe20"/>
                      </a:solidFill>
                      <a:latin typeface="Times New Roman"/>
                      <a:ea typeface="ヒラギノ角ゴ Pro W3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308480" y="2094480"/>
                  <a:ext cx="1131120" cy="0"/>
                </a:xfrm>
                <a:prstGeom prst="line">
                  <a:avLst/>
                </a:prstGeom>
                <a:ln w="9360">
                  <a:solidFill>
                    <a:srgbClr val="fafe2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194160" y="2094480"/>
                  <a:ext cx="1131120" cy="0"/>
                </a:xfrm>
                <a:prstGeom prst="line">
                  <a:avLst/>
                </a:prstGeom>
                <a:ln w="9360">
                  <a:solidFill>
                    <a:srgbClr val="fafe2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 flipH="1">
                <a:off x="3252240" y="2094480"/>
                <a:ext cx="452520" cy="29628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271600" y="2687400"/>
                <a:ext cx="452520" cy="29664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82040" y="2168280"/>
                <a:ext cx="452520" cy="22212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7080" y="2687400"/>
                <a:ext cx="527760" cy="22212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55960" y="2168280"/>
                <a:ext cx="0" cy="1260360"/>
              </a:xfrm>
              <a:prstGeom prst="line">
                <a:avLst/>
              </a:prstGeom>
              <a:ln w="2844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93480" y="804600"/>
                <a:ext cx="1659240" cy="1068480"/>
              </a:xfrm>
              <a:custGeom>
                <a:avLst/>
                <a:gdLst/>
                <a:ahLst/>
                <a:rect l="l" t="t" r="r" b="b"/>
                <a:pathLst>
                  <a:path w="1056" h="692">
                    <a:moveTo>
                      <a:pt x="330" y="24"/>
                    </a:moveTo>
                    <a:cubicBezTo>
                      <a:pt x="227" y="32"/>
                      <a:pt x="207" y="16"/>
                      <a:pt x="149" y="78"/>
                    </a:cubicBezTo>
                    <a:cubicBezTo>
                      <a:pt x="118" y="165"/>
                      <a:pt x="164" y="61"/>
                      <a:pt x="106" y="120"/>
                    </a:cubicBezTo>
                    <a:cubicBezTo>
                      <a:pt x="98" y="127"/>
                      <a:pt x="101" y="142"/>
                      <a:pt x="96" y="152"/>
                    </a:cubicBezTo>
                    <a:cubicBezTo>
                      <a:pt x="90" y="160"/>
                      <a:pt x="81" y="166"/>
                      <a:pt x="74" y="174"/>
                    </a:cubicBezTo>
                    <a:cubicBezTo>
                      <a:pt x="57" y="227"/>
                      <a:pt x="37" y="225"/>
                      <a:pt x="21" y="291"/>
                    </a:cubicBezTo>
                    <a:cubicBezTo>
                      <a:pt x="14" y="319"/>
                      <a:pt x="0" y="376"/>
                      <a:pt x="0" y="376"/>
                    </a:cubicBezTo>
                    <a:cubicBezTo>
                      <a:pt x="16" y="486"/>
                      <a:pt x="18" y="594"/>
                      <a:pt x="138" y="632"/>
                    </a:cubicBezTo>
                    <a:cubicBezTo>
                      <a:pt x="198" y="692"/>
                      <a:pt x="259" y="659"/>
                      <a:pt x="352" y="654"/>
                    </a:cubicBezTo>
                    <a:cubicBezTo>
                      <a:pt x="366" y="650"/>
                      <a:pt x="382" y="652"/>
                      <a:pt x="394" y="643"/>
                    </a:cubicBezTo>
                    <a:cubicBezTo>
                      <a:pt x="463" y="586"/>
                      <a:pt x="337" y="634"/>
                      <a:pt x="426" y="579"/>
                    </a:cubicBezTo>
                    <a:cubicBezTo>
                      <a:pt x="445" y="567"/>
                      <a:pt x="490" y="558"/>
                      <a:pt x="490" y="558"/>
                    </a:cubicBezTo>
                    <a:cubicBezTo>
                      <a:pt x="500" y="561"/>
                      <a:pt x="514" y="560"/>
                      <a:pt x="522" y="568"/>
                    </a:cubicBezTo>
                    <a:cubicBezTo>
                      <a:pt x="563" y="608"/>
                      <a:pt x="481" y="610"/>
                      <a:pt x="576" y="643"/>
                    </a:cubicBezTo>
                    <a:cubicBezTo>
                      <a:pt x="634" y="663"/>
                      <a:pt x="596" y="652"/>
                      <a:pt x="693" y="664"/>
                    </a:cubicBezTo>
                    <a:cubicBezTo>
                      <a:pt x="771" y="683"/>
                      <a:pt x="850" y="678"/>
                      <a:pt x="928" y="654"/>
                    </a:cubicBezTo>
                    <a:cubicBezTo>
                      <a:pt x="954" y="626"/>
                      <a:pt x="965" y="594"/>
                      <a:pt x="992" y="568"/>
                    </a:cubicBezTo>
                    <a:cubicBezTo>
                      <a:pt x="1014" y="497"/>
                      <a:pt x="1031" y="424"/>
                      <a:pt x="1056" y="355"/>
                    </a:cubicBezTo>
                    <a:cubicBezTo>
                      <a:pt x="1048" y="288"/>
                      <a:pt x="1052" y="202"/>
                      <a:pt x="1002" y="152"/>
                    </a:cubicBezTo>
                    <a:cubicBezTo>
                      <a:pt x="981" y="88"/>
                      <a:pt x="995" y="63"/>
                      <a:pt x="938" y="46"/>
                    </a:cubicBezTo>
                    <a:cubicBezTo>
                      <a:pt x="894" y="0"/>
                      <a:pt x="847" y="16"/>
                      <a:pt x="789" y="24"/>
                    </a:cubicBezTo>
                    <a:cubicBezTo>
                      <a:pt x="744" y="68"/>
                      <a:pt x="715" y="119"/>
                      <a:pt x="672" y="163"/>
                    </a:cubicBezTo>
                    <a:cubicBezTo>
                      <a:pt x="656" y="208"/>
                      <a:pt x="632" y="219"/>
                      <a:pt x="597" y="248"/>
                    </a:cubicBezTo>
                    <a:cubicBezTo>
                      <a:pt x="589" y="254"/>
                      <a:pt x="585" y="265"/>
                      <a:pt x="576" y="270"/>
                    </a:cubicBezTo>
                    <a:cubicBezTo>
                      <a:pt x="555" y="280"/>
                      <a:pt x="512" y="291"/>
                      <a:pt x="512" y="291"/>
                    </a:cubicBezTo>
                    <a:cubicBezTo>
                      <a:pt x="482" y="262"/>
                      <a:pt x="481" y="232"/>
                      <a:pt x="469" y="195"/>
                    </a:cubicBezTo>
                    <a:cubicBezTo>
                      <a:pt x="457" y="27"/>
                      <a:pt x="510" y="34"/>
                      <a:pt x="384" y="24"/>
                    </a:cubicBezTo>
                    <a:cubicBezTo>
                      <a:pt x="366" y="22"/>
                      <a:pt x="348" y="24"/>
                      <a:pt x="330" y="24"/>
                    </a:cubicBezTo>
                    <a:close/>
                  </a:path>
                </a:pathLst>
              </a:custGeom>
              <a:noFill/>
              <a:ln w="28440">
                <a:solidFill>
                  <a:srgbClr val="fafe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37920" y="2613240"/>
                <a:ext cx="1282320" cy="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48000" y="2687400"/>
                <a:ext cx="527760" cy="22212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11480" y="2811240"/>
                <a:ext cx="37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II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74440" y="2687400"/>
                <a:ext cx="3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082040" y="2292120"/>
                <a:ext cx="6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I,I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77000" y="2020320"/>
                <a:ext cx="67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I,II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47560" y="2588760"/>
                <a:ext cx="6786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02560" y="2168280"/>
                <a:ext cx="0" cy="74124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02560" y="2480400"/>
                <a:ext cx="3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57200" y="3429000"/>
              <a:ext cx="8229600" cy="990720"/>
              <a:chOff x="457200" y="3429000"/>
              <a:chExt cx="8229600" cy="990720"/>
            </a:xfrm>
          </p:grpSpPr>
          <p:sp>
            <p:nvSpPr>
              <p:cNvPr id="122" name=""/>
              <p:cNvSpPr/>
              <p:nvPr/>
            </p:nvSpPr>
            <p:spPr>
              <a:xfrm>
                <a:off x="457200" y="3429000"/>
                <a:ext cx="8229600" cy="990720"/>
              </a:xfrm>
              <a:prstGeom prst="ellipse">
                <a:avLst/>
              </a:prstGeom>
              <a:noFill/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	</a:t>
                </a:r>
                <a:r>
                  <a:rPr b="1" lang="en-US" sz="2400" spc="-1" strike="noStrike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	</a:t>
                </a:r>
                <a:r>
                  <a:rPr b="1" lang="en-US" sz="2400" spc="-1" strike="noStrike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  </a:t>
                </a:r>
                <a:r>
                  <a:rPr b="1" lang="en-US" sz="2400" spc="-1" strike="noStrike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T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	</a:t>
                </a:r>
                <a:r>
                  <a:rPr b="1" lang="en-US" sz="2400" spc="-1" strike="noStrike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rT</a:t>
                </a:r>
                <a:r>
                  <a:rPr b="1" lang="en-US" sz="2400" spc="-1" strike="noStrike" baseline="-25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	</a:t>
                </a:r>
                <a:r>
                  <a:rPr b="1" lang="en-US" sz="2400" spc="-1" strike="noStrike" baseline="-25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	</a:t>
                </a:r>
                <a:r>
                  <a:rPr b="1" lang="en-US" sz="2400" spc="-1" strike="noStrike" baseline="-25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      </a:t>
                </a:r>
                <a:r>
                  <a:rPr b="1" lang="en-US" sz="2400" spc="-1" strike="noStrike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	</a:t>
                </a:r>
                <a:r>
                  <a:rPr b="1" lang="en-US" sz="2400" spc="-1" strike="noStrike" baseline="-25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	</a:t>
                </a:r>
                <a:r>
                  <a:rPr b="1" lang="en-US" sz="2400" spc="-1" strike="noStrike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047760" y="3810240"/>
                <a:ext cx="609480" cy="22860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14800" y="3810240"/>
                <a:ext cx="533520" cy="30456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05520" y="4114800"/>
                <a:ext cx="1143000" cy="0"/>
              </a:xfrm>
              <a:prstGeom prst="line">
                <a:avLst/>
              </a:prstGeom>
              <a:ln w="9360">
                <a:solidFill>
                  <a:srgbClr val="fafe2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00400" y="370836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III   </a:t>
                </a: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	</a:t>
                </a: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   I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53240" y="3976920"/>
                <a:ext cx="144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fafe20"/>
                    </a:solidFill>
                    <a:latin typeface="Times New Roman"/>
                    <a:ea typeface="ヒラギノ角ゴ Pro W3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V="1">
              <a:off x="2895480" y="2819160"/>
              <a:ext cx="0" cy="114300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2819520"/>
              <a:ext cx="0" cy="114300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35120" y="4687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840" y="4419720"/>
              <a:ext cx="21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be0e3"/>
                  </a:solidFill>
                  <a:latin typeface="Times New Roman"/>
                  <a:ea typeface="ヒラギノ角ゴ Pro W3"/>
                </a:rPr>
                <a:t>Liquido amnio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6680" y="4784760"/>
              <a:ext cx="678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T</a:t>
              </a:r>
              <a:r>
                <a:rPr b="1" lang="en-US" sz="20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4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     rT</a:t>
              </a:r>
              <a:r>
                <a:rPr b="1" lang="en-US" sz="20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3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    rT</a:t>
              </a:r>
              <a:r>
                <a:rPr b="1" lang="en-US" sz="20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3                   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T</a:t>
              </a:r>
              <a:r>
                <a:rPr b="1" lang="en-US" sz="20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4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           T</a:t>
              </a:r>
              <a:r>
                <a:rPr b="1" lang="en-US" sz="20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3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T</a:t>
              </a:r>
              <a:r>
                <a:rPr b="1" lang="en-US" sz="20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3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T</a:t>
              </a:r>
              <a:r>
                <a:rPr b="1" lang="en-US" sz="20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2</a:t>
              </a: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5480" y="4267080"/>
              <a:ext cx="0" cy="533520"/>
            </a:xfrm>
            <a:prstGeom prst="line">
              <a:avLst/>
            </a:prstGeom>
            <a:ln w="2844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3886200"/>
              <a:ext cx="0" cy="838080"/>
            </a:xfrm>
            <a:prstGeom prst="line">
              <a:avLst/>
            </a:prstGeom>
            <a:ln w="1908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920" y="4343400"/>
              <a:ext cx="0" cy="380880"/>
            </a:xfrm>
            <a:prstGeom prst="line">
              <a:avLst/>
            </a:prstGeom>
            <a:ln w="1908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" y="4419720"/>
              <a:ext cx="8534520" cy="2438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257800"/>
              <a:ext cx="8077320" cy="1600200"/>
            </a:xfrm>
            <a:prstGeom prst="ellipse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9360" y="5751360"/>
              <a:ext cx="8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be0e3"/>
                  </a:solidFill>
                  <a:latin typeface="Times New Roman"/>
                  <a:ea typeface="ヒラギノ角ゴ Pro W3"/>
                </a:rPr>
                <a:t>Fe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5470560"/>
              <a:ext cx="6781680" cy="11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rT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3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    </a:t>
              </a:r>
              <a:r>
                <a:rPr b="1" lang="en-US" sz="1800" spc="-1" strike="noStrike" baseline="30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O</a:t>
              </a:r>
              <a:r>
                <a:rPr b="1" lang="en-US" sz="1800" spc="-1" strike="noStrike" baseline="10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4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  rT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3                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                  T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3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</a:t>
              </a:r>
              <a:r>
                <a:rPr b="1" lang="en-US" sz="1800" spc="-1" strike="noStrike" baseline="30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O</a:t>
              </a:r>
              <a:r>
                <a:rPr b="1" lang="en-US" sz="1800" spc="-1" strike="noStrike" baseline="2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4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       T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3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    T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2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T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4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S     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SO</a:t>
              </a:r>
              <a:r>
                <a:rPr b="1" lang="en-US" sz="1800" spc="-1" strike="noStrike" baseline="-40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4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       T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4 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	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T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57400" y="5715000"/>
              <a:ext cx="533520" cy="0"/>
            </a:xfrm>
            <a:prstGeom prst="line">
              <a:avLst/>
            </a:prstGeom>
            <a:ln w="324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828800" y="5105520"/>
              <a:ext cx="228600" cy="45720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219320" y="5181120"/>
              <a:ext cx="0" cy="76212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7180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bbe0e3"/>
                  </a:solidFill>
                  <a:latin typeface="Times New Roman"/>
                  <a:ea typeface="ヒラギノ角ゴ Pro W3"/>
                </a:rPr>
                <a:t>Placenta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5943600"/>
              <a:ext cx="228600" cy="0"/>
            </a:xfrm>
            <a:prstGeom prst="line">
              <a:avLst/>
            </a:prstGeom>
            <a:ln w="9360">
              <a:solidFill>
                <a:srgbClr val="fafe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057040" y="5943600"/>
              <a:ext cx="1523880" cy="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5181480"/>
              <a:ext cx="0" cy="60984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9520" y="5105520"/>
              <a:ext cx="0" cy="38088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971440" y="5638320"/>
              <a:ext cx="762120" cy="228600"/>
            </a:xfrm>
            <a:prstGeom prst="line">
              <a:avLst/>
            </a:prstGeom>
            <a:ln w="2844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52680" y="55627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III                  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038480" y="5638320"/>
              <a:ext cx="609840" cy="30492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5715000"/>
              <a:ext cx="914400" cy="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5715000"/>
              <a:ext cx="914400" cy="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7010280" y="5181120"/>
              <a:ext cx="457200" cy="38124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019560" y="5181120"/>
              <a:ext cx="152280" cy="38124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800600" y="5105520"/>
              <a:ext cx="76320" cy="38088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5867280"/>
              <a:ext cx="0" cy="30492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2200" y="5791320"/>
              <a:ext cx="99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-SO</a:t>
              </a:r>
              <a:r>
                <a:rPr b="1" lang="en-US" sz="1800" spc="-1" strike="noStrike" baseline="-25000">
                  <a:solidFill>
                    <a:srgbClr val="fafe20"/>
                  </a:solidFill>
                  <a:latin typeface="Times New Roman"/>
                  <a:ea typeface="ヒラギノ角ゴ Pro W3"/>
                </a:rPr>
                <a:t>4 </a:t>
              </a:r>
              <a:r>
                <a:rPr b="1" lang="en-US" sz="18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0800" y="6384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e20"/>
                  </a:solidFill>
                  <a:latin typeface="Times New Roman"/>
                  <a:ea typeface="ヒラギノ角ゴ Pro W3"/>
                </a:rPr>
                <a:t>Tiro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86200" y="6095520"/>
              <a:ext cx="0" cy="304920"/>
            </a:xfrm>
            <a:prstGeom prst="line">
              <a:avLst/>
            </a:prstGeom>
            <a:ln w="9360">
              <a:solidFill>
                <a:srgbClr val="fafe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71840" y="6248520"/>
              <a:ext cx="795240" cy="591840"/>
            </a:xfrm>
            <a:custGeom>
              <a:avLst/>
              <a:gdLst/>
              <a:ahLst/>
              <a:rect l="l" t="t" r="r" b="b"/>
              <a:pathLst>
                <a:path w="589" h="373">
                  <a:moveTo>
                    <a:pt x="288" y="149"/>
                  </a:moveTo>
                  <a:cubicBezTo>
                    <a:pt x="266" y="145"/>
                    <a:pt x="241" y="151"/>
                    <a:pt x="224" y="139"/>
                  </a:cubicBezTo>
                  <a:cubicBezTo>
                    <a:pt x="211" y="130"/>
                    <a:pt x="217" y="110"/>
                    <a:pt x="213" y="96"/>
                  </a:cubicBezTo>
                  <a:cubicBezTo>
                    <a:pt x="194" y="31"/>
                    <a:pt x="196" y="17"/>
                    <a:pt x="128" y="0"/>
                  </a:cubicBezTo>
                  <a:cubicBezTo>
                    <a:pt x="66" y="17"/>
                    <a:pt x="30" y="14"/>
                    <a:pt x="10" y="75"/>
                  </a:cubicBezTo>
                  <a:cubicBezTo>
                    <a:pt x="6" y="99"/>
                    <a:pt x="0" y="124"/>
                    <a:pt x="0" y="149"/>
                  </a:cubicBezTo>
                  <a:cubicBezTo>
                    <a:pt x="0" y="160"/>
                    <a:pt x="7" y="170"/>
                    <a:pt x="10" y="181"/>
                  </a:cubicBezTo>
                  <a:cubicBezTo>
                    <a:pt x="20" y="225"/>
                    <a:pt x="40" y="337"/>
                    <a:pt x="96" y="352"/>
                  </a:cubicBezTo>
                  <a:cubicBezTo>
                    <a:pt x="148" y="365"/>
                    <a:pt x="124" y="358"/>
                    <a:pt x="170" y="373"/>
                  </a:cubicBezTo>
                  <a:cubicBezTo>
                    <a:pt x="180" y="369"/>
                    <a:pt x="194" y="370"/>
                    <a:pt x="202" y="363"/>
                  </a:cubicBezTo>
                  <a:cubicBezTo>
                    <a:pt x="210" y="355"/>
                    <a:pt x="204" y="338"/>
                    <a:pt x="213" y="331"/>
                  </a:cubicBezTo>
                  <a:cubicBezTo>
                    <a:pt x="224" y="321"/>
                    <a:pt x="241" y="323"/>
                    <a:pt x="256" y="320"/>
                  </a:cubicBezTo>
                  <a:cubicBezTo>
                    <a:pt x="295" y="323"/>
                    <a:pt x="334" y="323"/>
                    <a:pt x="373" y="331"/>
                  </a:cubicBezTo>
                  <a:cubicBezTo>
                    <a:pt x="406" y="337"/>
                    <a:pt x="469" y="363"/>
                    <a:pt x="469" y="363"/>
                  </a:cubicBezTo>
                  <a:cubicBezTo>
                    <a:pt x="505" y="350"/>
                    <a:pt x="527" y="336"/>
                    <a:pt x="554" y="309"/>
                  </a:cubicBezTo>
                  <a:cubicBezTo>
                    <a:pt x="562" y="276"/>
                    <a:pt x="582" y="246"/>
                    <a:pt x="586" y="213"/>
                  </a:cubicBezTo>
                  <a:cubicBezTo>
                    <a:pt x="589" y="181"/>
                    <a:pt x="562" y="130"/>
                    <a:pt x="544" y="107"/>
                  </a:cubicBezTo>
                  <a:cubicBezTo>
                    <a:pt x="537" y="98"/>
                    <a:pt x="528" y="93"/>
                    <a:pt x="522" y="85"/>
                  </a:cubicBezTo>
                  <a:cubicBezTo>
                    <a:pt x="514" y="75"/>
                    <a:pt x="511" y="59"/>
                    <a:pt x="501" y="53"/>
                  </a:cubicBezTo>
                  <a:cubicBezTo>
                    <a:pt x="481" y="41"/>
                    <a:pt x="437" y="32"/>
                    <a:pt x="437" y="32"/>
                  </a:cubicBezTo>
                  <a:cubicBezTo>
                    <a:pt x="412" y="40"/>
                    <a:pt x="392" y="44"/>
                    <a:pt x="373" y="64"/>
                  </a:cubicBezTo>
                  <a:cubicBezTo>
                    <a:pt x="343" y="93"/>
                    <a:pt x="327" y="129"/>
                    <a:pt x="288" y="149"/>
                  </a:cubicBezTo>
                  <a:close/>
                </a:path>
              </a:pathLst>
            </a:custGeom>
            <a:noFill/>
            <a:ln w="9360">
              <a:solidFill>
                <a:srgbClr val="fafe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9360">
            <a:solidFill>
              <a:srgbClr val="f0182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1822"/>
                </a:solidFill>
                <a:latin typeface="Arial"/>
              </a:rPr>
              <a:t>Funzione tiroidea in gravid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d282e"/>
                </a:solidFill>
                <a:latin typeface="Arial"/>
              </a:rPr>
              <a:t>LA PLAC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deiodinasi rappresentano un meccanismo omeostatico per mantenere adeguata produzione di T3 nella placenta, in presenza di riduzione della produzione di T4 nella madre (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tezione dall’ipotiroidismo fet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-I: T4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-II: T4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-III: T4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T3 e T3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2 (placenta, cervello, epiderm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vità tipo II maggiore nelle membrane corioniche che in quella amnio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attività della D-II + D-III permette adeguata formazione di T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12040" y="304920"/>
            <a:ext cx="5322600" cy="581400"/>
          </a:xfrm>
          <a:prstGeom prst="rect">
            <a:avLst/>
          </a:prstGeom>
          <a:noFill/>
          <a:ln w="76320">
            <a:solidFill>
              <a:srgbClr val="f01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bolismo e pool dello I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1371600"/>
            <a:ext cx="842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5280" y="1376280"/>
            <a:ext cx="335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l ioduro extracellu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1600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1160" y="101448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00 mcg 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78000" y="3851280"/>
            <a:ext cx="1477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88 mcg 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00320" y="4724280"/>
            <a:ext cx="13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2 mcg 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6000" y="563868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904760" y="1828800"/>
            <a:ext cx="23619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91960" y="3352680"/>
            <a:ext cx="106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s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19720" y="1828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54120" y="28195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8 m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8320" y="2666880"/>
            <a:ext cx="139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ro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8000 m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1520" y="2133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20 m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467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68920" y="21337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0 m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3505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33880" y="4940280"/>
            <a:ext cx="1578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l T3/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19360" y="5181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197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5720" y="5257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0 m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66760" y="5846760"/>
            <a:ext cx="603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l pool dello Iodio subisce modific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aqdattative in gravi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6920" y="2895480"/>
            <a:ext cx="125352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f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809880"/>
            <a:ext cx="3505320" cy="1618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lterazioni patolog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o-T4 rel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imolo gozzi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madre e neon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3886200"/>
            <a:ext cx="3429000" cy="1618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dattamento fisiolo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rmale 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 stimolo gozzi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06668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pporto di I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/ 24 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-esistente riserva intratiroidea (pool intratiroideo dello I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2362320"/>
            <a:ext cx="3581280" cy="114300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onibilità I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4520" y="2819520"/>
            <a:ext cx="10008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1905120"/>
            <a:ext cx="1295280" cy="3045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2286000"/>
            <a:ext cx="1600200" cy="4572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913680" y="2286000"/>
            <a:ext cx="1600200" cy="45720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3352680"/>
            <a:ext cx="990720" cy="30492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867280" y="3276720"/>
            <a:ext cx="990720" cy="30456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28600"/>
            <a:ext cx="556272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282e"/>
                </a:solidFill>
                <a:latin typeface="Times New Roman"/>
              </a:rPr>
              <a:t>Tiroide in gravid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108160" cy="1231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048120" y="4038480"/>
            <a:ext cx="1295280" cy="1246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1505160" cy="1231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48480" y="5529240"/>
            <a:ext cx="828792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gravidanza si ha aumento del fabbisogno I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umento (&gt;&gt;) della clearance renale dell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umento (&gt;) trasferimento all’unità feto-plac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3:05:32Z</dcterms:created>
  <dc:creator>Renato Pasquali</dc:creator>
  <dc:description/>
  <dc:language>en-US</dc:language>
  <cp:lastModifiedBy>HT</cp:lastModifiedBy>
  <cp:lastPrinted>2009-06-06T07:53:01Z</cp:lastPrinted>
  <dcterms:modified xsi:type="dcterms:W3CDTF">2009-06-06T09:48:13Z</dcterms:modified>
  <cp:revision>26</cp:revision>
  <dc:subject/>
  <dc:title>Presentazione di PowerPoint</dc:title>
</cp:coreProperties>
</file>