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12.wmf" ContentType="image/x-wmf"/>
  <Override PartName="/ppt/media/image7.jpeg" ContentType="image/jpeg"/>
  <Override PartName="/ppt/media/image8.wmf" ContentType="image/x-wmf"/>
  <Override PartName="/ppt/media/image9.png" ContentType="image/png"/>
  <Override PartName="/ppt/media/image10.jpeg" ContentType="image/jpeg"/>
  <Override PartName="/ppt/media/image1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80AD-3C72-4458-BBE5-CC860C390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304560"/>
            <a:ext cx="690876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4326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840" y="4223880"/>
            <a:ext cx="84326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C2F7-8CD9-46DB-A16D-36ADE04CE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304560"/>
            <a:ext cx="690876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41148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5920" y="1676520"/>
            <a:ext cx="41148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4840" y="4223880"/>
            <a:ext cx="41148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5920" y="4223880"/>
            <a:ext cx="41148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A202-EBD7-4B85-96B8-9EC7B1901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304560"/>
            <a:ext cx="690876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271512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6040" y="1676520"/>
            <a:ext cx="271512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7240" y="1676520"/>
            <a:ext cx="271512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4840" y="4223880"/>
            <a:ext cx="271512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6040" y="4223880"/>
            <a:ext cx="271512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7240" y="4223880"/>
            <a:ext cx="271512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E9A9-B435-442F-A6F0-FF2FC3844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50560" y="304560"/>
            <a:ext cx="690876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4840" y="1676520"/>
            <a:ext cx="84326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649F-0745-4EBC-89F3-2EA85A9AD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304560"/>
            <a:ext cx="690876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43264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68DA-5980-48A9-8382-BA973C89F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304560"/>
            <a:ext cx="690876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41148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5920" y="1676520"/>
            <a:ext cx="41148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EC1E-C0EA-40FF-8B5B-2F2506E55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304560"/>
            <a:ext cx="690876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1B39-B226-4BBA-A242-C625F9403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50560" y="304560"/>
            <a:ext cx="690876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F887-8D58-4A28-A6A0-3ED40676B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304560"/>
            <a:ext cx="690876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41148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5920" y="1676520"/>
            <a:ext cx="41148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4840" y="4223880"/>
            <a:ext cx="41148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27DC-CF29-44CA-BBA4-527461B4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304560"/>
            <a:ext cx="690876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41148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5920" y="1676520"/>
            <a:ext cx="41148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5920" y="4223880"/>
            <a:ext cx="41148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375E-C678-44CC-AF37-68354866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304560"/>
            <a:ext cx="690876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41148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5920" y="1676520"/>
            <a:ext cx="41148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840" y="4223880"/>
            <a:ext cx="84326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B9E3-A2DD-4494-A1B5-4E619142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647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1100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3544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1DA8632-B215-4902-A3B4-A77BCEBBE8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150560" y="304560"/>
            <a:ext cx="690876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74840" y="1676520"/>
            <a:ext cx="8432640" cy="487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647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26366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Le alterazioni funzionali della tiroide:</a:t>
            </a:r>
            <a:br>
              <a:rPr sz="3600"/>
            </a:b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il controllo fetale 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6530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Gianluigi Pil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liniche Ostetriche e Ginecologic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Università degli Studi di Bolog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gianluigi.pilu@unibo.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04000" y="260280"/>
            <a:ext cx="2100240" cy="2100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79280" y="333360"/>
            <a:ext cx="2232000" cy="2060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647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74872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ccuratezza della ecografia nella predizione della funzione tiroidea fetale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24000" y="2565360"/>
          <a:ext cx="8432640" cy="2705040"/>
        </p:xfrm>
        <a:graphic>
          <a:graphicData uri="http://schemas.openxmlformats.org/drawingml/2006/table">
            <a:tbl>
              <a:tblPr/>
              <a:tblGrid>
                <a:gridCol w="2873160"/>
                <a:gridCol w="2748240"/>
                <a:gridCol w="2811240"/>
              </a:tblGrid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funzione tiroide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nzione normal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6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zzo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P: 11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P: 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n gozzo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N: 1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N: 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50920" y="1197000"/>
            <a:ext cx="86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afd00"/>
                </a:solidFill>
                <a:latin typeface="Arial"/>
              </a:rPr>
              <a:t>Basso rischio: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3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afd00"/>
                </a:solidFill>
                <a:latin typeface="Arial"/>
              </a:rPr>
              <a:t>Alto rischio (TRAK+ e/o farmaci antirioidei):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4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9280" y="5589720"/>
            <a:ext cx="878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0/31 casi a basso rischio, 12/41 casi ad alto risch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647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304560"/>
            <a:ext cx="690876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afd00"/>
                </a:solidFill>
                <a:latin typeface="Arial"/>
              </a:rPr>
              <a:t>Il controllo fetale nelle gravidanze complicate da morbo di Basedow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487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Hanno un rischio aumentato di disfunzione fetale le pazienti TRAK+ e quelle che assumono farmaci anti-tiroide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Ecografie seriate nel secondo/terzo trimest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Se compare gozzo, valutare opportunità di funicolocente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Ipotiroidismo: adattamento terapia antitidoidea, somministrazione intra-amniotica di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-T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Ipertiroidismo: adattare terapia materna, anticipazione del par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647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304560"/>
            <a:ext cx="690876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afd00"/>
                </a:solidFill>
                <a:latin typeface="Arial"/>
              </a:rPr>
              <a:t>Cause di ipotiroidismo congenito</a:t>
            </a:r>
            <a:br>
              <a:rPr sz="3600"/>
            </a:br>
            <a:r>
              <a:rPr b="0" lang="it-IT" sz="2000" spc="-1" strike="noStrike">
                <a:solidFill>
                  <a:srgbClr val="fafd00"/>
                </a:solidFill>
                <a:latin typeface="Arial"/>
              </a:rPr>
              <a:t>Fisher: J Pediatr 94:700, 1979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714240" y="1830240"/>
          <a:ext cx="842976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4240" y="1830240"/>
                    <a:ext cx="8429760" cy="48769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684360" y="5516640"/>
            <a:ext cx="28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isgenesia/ agenesia tiro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74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97240" y="1495440"/>
            <a:ext cx="41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isormonogenesi tiroid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13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86320" y="2287440"/>
            <a:ext cx="287280" cy="790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2556000" y="5382720"/>
            <a:ext cx="669960" cy="13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20000" y="2708280"/>
            <a:ext cx="192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ario/ terziario 3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6970680" y="3499920"/>
            <a:ext cx="1057320" cy="298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97600" y="4878360"/>
            <a:ext cx="720720" cy="504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681960" y="5383080"/>
            <a:ext cx="201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rmaci antitiroidei 1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647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690876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Conclusioni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8713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Le pazienti con Basedow TRAK+ e/o ATD hanno rischio elevato di disfunzione tiroidea fetale (ipo/iper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9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afd00"/>
                </a:solidFill>
                <a:latin typeface="Arial"/>
              </a:rPr>
              <a:t>La assenza di gozzo fetale all’ecografia riduce grandemente il risch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Funicolocentesi appropriata soltanto nei feti con gozz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La diagnosi di disfunzione tiroidea fetale permette di modulare la terapia materna e/o trattare il feto con L-T4 amniotic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La maggior parte degli ipotiroidismi congeniti avviene senza gozz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647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340000" y="304560"/>
            <a:ext cx="571968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Premessa: ormoni tiroidei e barriera placentare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-3922" t="-4103" r="-3887" b="11183"/>
          <a:stretch/>
        </p:blipFill>
        <p:spPr>
          <a:xfrm>
            <a:off x="0" y="260280"/>
            <a:ext cx="2401920" cy="6308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71640" y="2133720"/>
            <a:ext cx="1224000" cy="5814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00360" y="1989000"/>
            <a:ext cx="0" cy="4176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1250640" y="2286000"/>
            <a:ext cx="22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D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6200000">
            <a:off x="1658520" y="4902480"/>
            <a:ext cx="15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2781360"/>
            <a:ext cx="0" cy="863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2133720"/>
            <a:ext cx="1439640" cy="5814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3,T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788000" y="2781360"/>
            <a:ext cx="0" cy="93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580000" y="1989000"/>
            <a:ext cx="1584360" cy="8254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o-anticorp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08720" y="1989000"/>
            <a:ext cx="1835280" cy="8254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rmaci antitiroide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443640" y="2852640"/>
            <a:ext cx="0" cy="2664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244000" y="2852640"/>
            <a:ext cx="0" cy="2664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40000" y="3716280"/>
            <a:ext cx="6804000" cy="520560"/>
          </a:xfrm>
          <a:prstGeom prst="rect">
            <a:avLst/>
          </a:prstGeom>
          <a:solidFill>
            <a:srgbClr val="fc0128"/>
          </a:solidFill>
          <a:ln w="28440">
            <a:solidFill>
              <a:srgbClr val="ffffff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CEN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508720" y="5516640"/>
            <a:ext cx="1728720" cy="8254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per/ipo-tiroidis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415280" y="5516640"/>
            <a:ext cx="1728720" cy="8254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o-tiroidis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27640" y="5734080"/>
            <a:ext cx="720720" cy="3070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3,T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88000" y="4292640"/>
            <a:ext cx="0" cy="1368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647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35164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Ipertiroidismo in gravidanza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-360" y="1413000"/>
            <a:ext cx="8893080" cy="395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Frequenza 1:500-1500 gravidanz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95% morbo di Based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fafd00"/>
                </a:solidFill>
                <a:latin typeface="Arial"/>
              </a:rPr>
              <a:t>Iper</a:t>
            </a: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tiroidismo feta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totale 1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Anticorpi anti-recettore TSH (TRAK) + 27%</a:t>
            </a:r>
            <a:r>
              <a:rPr b="0" lang="it-IT" sz="32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fafd00"/>
                </a:solidFill>
                <a:latin typeface="Arial"/>
              </a:rPr>
              <a:t>Ipo</a:t>
            </a: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tiroidismo 1-10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Farmaci antitiroidei 25 %</a:t>
            </a:r>
            <a:r>
              <a:rPr b="0" lang="it-IT" sz="32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0920" y="640080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: Luton et al: J Clin Endocrinol Met 90:6093,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647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304560"/>
            <a:ext cx="690876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afd00"/>
                </a:solidFill>
                <a:latin typeface="Arial"/>
              </a:rPr>
              <a:t>Ipotiroidsmo in gravidanza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74840" y="1676160"/>
            <a:ext cx="8432640" cy="412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Frequenza 2,5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Tiroidite di Hashimoto 50-70%</a:t>
            </a:r>
            <a:r>
              <a:rPr b="0" lang="it-IT" sz="32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Carenza iodio 40%</a:t>
            </a:r>
            <a:r>
              <a:rPr b="0" lang="it-IT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Ipotiroidismo neonatale 1:40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Weetman; Endocrinol Rev 15: 778, 199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Kibirige: Arch Dis Child Fetal Neonatal Ed 89:436, 200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647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304560"/>
            <a:ext cx="690876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afd00"/>
                </a:solidFill>
                <a:latin typeface="Arial"/>
              </a:rPr>
              <a:t>Conseguenza dell’ipo e ipertiroidismo congeniti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487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afd00"/>
                </a:solidFill>
                <a:latin typeface="Arial"/>
              </a:rPr>
              <a:t>Ipertiroidismo</a:t>
            </a: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 transitorio ma associato a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Restrizione di cresci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Idr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Tireotossicosi neonata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  <a:ea typeface="Arial"/>
              </a:rPr>
              <a:t>↑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Morte perinata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afd00"/>
                </a:solidFill>
                <a:latin typeface="Arial"/>
              </a:rPr>
              <a:t>Ipotiroidismo</a:t>
            </a: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 aumenta il rischio di anomalie neurologiche anche se lieve e riconosciuto/trattato alla nasci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647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afd00"/>
                </a:solidFill>
                <a:latin typeface="Arial"/>
              </a:rPr>
              <a:t>Funicolocentesi: prelievo di sangue fetale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rcRect l="33526" t="-283" r="10554" b="874"/>
          <a:stretch/>
        </p:blipFill>
        <p:spPr>
          <a:xfrm>
            <a:off x="0" y="2048040"/>
            <a:ext cx="3057480" cy="48099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>
            <a:lum contrast="12000"/>
          </a:blip>
          <a:srcRect l="10791" t="2391" r="20268" b="0"/>
          <a:stretch/>
        </p:blipFill>
        <p:spPr>
          <a:xfrm>
            <a:off x="3132000" y="2781360"/>
            <a:ext cx="2880000" cy="40766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6227640" y="2795760"/>
            <a:ext cx="2738520" cy="40622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908000" y="836640"/>
            <a:ext cx="723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afd00"/>
                </a:solidFill>
                <a:latin typeface="Arial"/>
              </a:rPr>
              <a:t>Epoca: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  <a:ea typeface="Arial"/>
              </a:rPr>
              <a:t>↑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20 settima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afd00"/>
                </a:solidFill>
                <a:latin typeface="Arial"/>
              </a:rPr>
              <a:t>TSH fetale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0.15-4 mUI/L – </a:t>
            </a:r>
            <a:r>
              <a:rPr b="0" lang="it-IT" sz="2800" spc="-1" strike="noStrike">
                <a:solidFill>
                  <a:srgbClr val="fafd00"/>
                </a:solidFill>
                <a:latin typeface="Arial"/>
              </a:rPr>
              <a:t>FT4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10-20 pmol/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afd00"/>
                </a:solidFill>
                <a:latin typeface="Arial"/>
              </a:rPr>
              <a:t>Rischio di aborto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0.5-1%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647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71280" y="304560"/>
            <a:ext cx="576108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Visualizzazione ecografica tiroide fetale a 20 settimane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rcRect l="0" t="0" r="4908" b="-529"/>
          <a:stretch/>
        </p:blipFill>
        <p:spPr>
          <a:xfrm>
            <a:off x="0" y="3284640"/>
            <a:ext cx="9072720" cy="2665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" name=""/>
          <p:cNvGraphicFramePr/>
          <p:nvPr/>
        </p:nvGraphicFramePr>
        <p:xfrm>
          <a:off x="179280" y="0"/>
          <a:ext cx="2401920" cy="295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0"/>
                    <a:ext cx="240192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179280" y="3213000"/>
            <a:ext cx="755640" cy="72072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1763280" y="3141720"/>
            <a:ext cx="792360" cy="79200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03640" y="3141720"/>
            <a:ext cx="647640" cy="64764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859280" y="3068640"/>
            <a:ext cx="649440" cy="72072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647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304560"/>
            <a:ext cx="690876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Gozzo a 23 settimane in paziente ipertiroidea trattata con PTU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28818" t="27834" r="16314" b="14649"/>
          <a:stretch/>
        </p:blipFill>
        <p:spPr>
          <a:xfrm>
            <a:off x="0" y="1989000"/>
            <a:ext cx="3481560" cy="4869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780000" y="1962000"/>
            <a:ext cx="4895640" cy="4896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4581360"/>
            <a:ext cx="1258920" cy="7164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647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42472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afd00"/>
                </a:solidFill>
                <a:latin typeface="Arial"/>
              </a:rPr>
              <a:t>Controllo dei feti di madri</a:t>
            </a:r>
            <a:br>
              <a:rPr sz="3200"/>
            </a:br>
            <a:r>
              <a:rPr b="0" lang="it-IT" sz="3200" spc="-1" strike="noStrike">
                <a:solidFill>
                  <a:srgbClr val="fafd00"/>
                </a:solidFill>
                <a:latin typeface="Arial"/>
              </a:rPr>
              <a:t>con morbo di Basedow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187280" y="1341360"/>
          <a:ext cx="676944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341360"/>
                    <a:ext cx="676944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539640" y="4292640"/>
            <a:ext cx="3456000" cy="45972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FUNICOLOCENTESI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716280"/>
            <a:ext cx="3456000" cy="45972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COGRAFIA*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5640" y="6021360"/>
            <a:ext cx="741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35760"/>
            <a:ext cx="85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* Nachum: Am J Obstet Gynecol 189:159,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** Luton: J Clin Endocrinol Met 90:6093,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0-02T19:55:58Z</dcterms:created>
  <dc:creator>Dott. PILU</dc:creator>
  <dc:description/>
  <cp:keywords/>
  <dc:language>en-US</dc:language>
  <cp:lastModifiedBy>Isabella</cp:lastModifiedBy>
  <dcterms:modified xsi:type="dcterms:W3CDTF">2009-06-06T05:11:02Z</dcterms:modified>
  <cp:revision>224</cp:revision>
  <dc:subject/>
  <dc:title>neck and chest</dc:title>
</cp:coreProperties>
</file>